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C572-7592-437F-BB6D-A915105BBD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28CC-166E-4C6C-A96D-2BCBEA315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ample flowchart for a web-based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7CDB-CF2D-4B8D-9461-4A02CEAB31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B195-77C4-4E8F-A848-609649226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CAAC-710B-4274-8432-2F048833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BE66-E3A6-4494-92DA-3FD9583D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B25B-2E74-42C5-8FB7-E7CFF05E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3B3D-1778-4851-9444-7C0AA7D0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4A17-61F0-494D-9C38-CDECE0E9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B26F-592C-42ED-A83F-97BD1058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8BFB-F080-4B64-9FB8-267D13C4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811C-54CE-4FF4-8AD0-FAA9C4A1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80EA-6082-455A-A38A-4C1350F6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41E7-5295-41AC-AD28-0AB8C7A8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F65B-1A0A-4BC5-A1CA-DDB76C32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381-07D5-4677-A34C-78443AE1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1AF4-F068-48C3-B5D1-4EC8B168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D631-790D-4F08-A16B-9EFFD3CD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04BE-4872-4EFF-B2BE-E3BA380A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B60C-0537-4BC5-A132-3C7A9B2C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CD00-3648-4B03-8545-B0A79E85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22136-8726-4D40-BA10-9B721F17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6D67F-3214-4279-87FA-FC803115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C3661-5355-4835-B314-B0E7B036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30A1B-CE71-4FF5-863E-BDDAC444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5168E-3A94-47DC-8DF7-D5E51309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BEBF-795D-49DC-B8CD-EC6D6371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ED9C8-96C1-4144-BBDE-7423AF68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0C7B4-0B89-4592-86C4-DC7B1EBD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E803D-7F5C-46B3-891D-AAC57571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710A4-EB68-4404-A68C-3DA55CF7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7A5B9-1348-4393-A68E-EDDAFBC0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4B473-DD2A-4C5D-B0AF-8D97FA4D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9BBD0-1F6F-4456-A6F7-8A917AB9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0384A-DABC-405C-982F-96E15485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7D595-D594-408F-8AAE-AC0330F2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53F6E-40C6-48E7-A74B-37AD7440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BEB9-8CFC-4953-9930-63D6D3FF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5BF5C-E31B-4DE7-8B8C-689DF701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128FE-909E-411F-A81D-CCAFEC0B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EFCF7-419A-4C14-9EE9-CA4F4604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B3F1F-7CEE-4BB3-92E6-3DD49F26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1F23E-6524-4E0A-8B3B-662C541A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41C92-97AE-464B-AEC6-A85B44A3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46A2A-DB96-432D-91FA-6903CF15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247E0-E83E-4F83-8214-02EED7DF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2C61B-0269-4DD0-9E0D-08242486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5D53-6ABF-49C9-98C4-A3A7E7CA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73FF-B843-47EF-8A10-F6B255D7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488-2345-465F-AB85-787D1530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5360-818F-4C92-B765-F847CC88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86C8-E2EE-4462-BE84-64813815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4D4C-A00C-4A01-8FCD-067126452CA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8" name="Picture 19" descr="C:\Users\Jacques\Desktop\untitled folder\Adobe_Green_1920x1430.jpg"/>
          <p:cNvPicPr/>
          <p:nvPr/>
        </p:nvPicPr>
        <p:blipFill>
          <a:blip r:embed="rId2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133B-53CC-4499-8365-AE57FC0EB20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3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D156-B271-44FB-8A0C-D225F72E910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68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69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2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78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DF92-2308-4064-8C84-E50176A0C30D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302040" y="6689160"/>
            <a:ext cx="2743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Myriad Pro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8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229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230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1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2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3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4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5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6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7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8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9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240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4284360"/>
            <a:ext cx="781524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PROJEC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ION PHAS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, STRUCTURE, DESIGN, BUILD AND TEST, DELIVERY</a:t>
            </a:r>
            <a:endParaRPr b="0" lang="en-US" sz="32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fin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goals, target audience, conten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delivery requirement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r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velop a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project pla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utline the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researc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client interactio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content production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2147-3ED0-4092-81A6-CBFF1813428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45" name="Picture 3" descr="project_plan.pdf.png"/>
          <p:cNvPicPr/>
          <p:nvPr/>
        </p:nvPicPr>
        <p:blipFill>
          <a:blip r:embed="rId1"/>
          <a:stretch/>
        </p:blipFill>
        <p:spPr>
          <a:xfrm>
            <a:off x="1722600" y="2684520"/>
            <a:ext cx="5697360" cy="3557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tructur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5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Information architectur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design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5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Flowcharts and wireframe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 outline the overall structure of the site and site p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C000-903D-4C0E-B63F-1AB64DB84034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49" name="Rounded Rectangle 1"/>
          <p:cNvSpPr/>
          <p:nvPr/>
        </p:nvSpPr>
        <p:spPr>
          <a:xfrm>
            <a:off x="3657600" y="3149640"/>
            <a:ext cx="1676520" cy="83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0" name="Rounded Rectangle 9"/>
          <p:cNvSpPr/>
          <p:nvPr/>
        </p:nvSpPr>
        <p:spPr>
          <a:xfrm>
            <a:off x="3908520" y="3172320"/>
            <a:ext cx="1204920" cy="9817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51" name="Rounded Rectangle 10" descr=""/>
          <p:cNvPicPr/>
          <p:nvPr/>
        </p:nvPicPr>
        <p:blipFill>
          <a:blip r:embed="rId1"/>
          <a:stretch/>
        </p:blipFill>
        <p:spPr>
          <a:xfrm>
            <a:off x="665280" y="4322880"/>
            <a:ext cx="1322280" cy="1968480"/>
          </a:xfrm>
          <a:prstGeom prst="rect">
            <a:avLst/>
          </a:prstGeom>
          <a:ln w="0">
            <a:noFill/>
          </a:ln>
        </p:spPr>
      </p:pic>
      <p:pic>
        <p:nvPicPr>
          <p:cNvPr id="252" name="Rounded Rectangle 11" descr=""/>
          <p:cNvPicPr/>
          <p:nvPr/>
        </p:nvPicPr>
        <p:blipFill>
          <a:blip r:embed="rId2"/>
          <a:stretch/>
        </p:blipFill>
        <p:spPr>
          <a:xfrm>
            <a:off x="2286000" y="4322880"/>
            <a:ext cx="1322280" cy="1968480"/>
          </a:xfrm>
          <a:prstGeom prst="rect">
            <a:avLst/>
          </a:prstGeom>
          <a:ln w="0">
            <a:noFill/>
          </a:ln>
        </p:spPr>
      </p:pic>
      <p:pic>
        <p:nvPicPr>
          <p:cNvPr id="253" name="Rounded Rectangle 12" descr=""/>
          <p:cNvPicPr/>
          <p:nvPr/>
        </p:nvPicPr>
        <p:blipFill>
          <a:blip r:embed="rId3"/>
          <a:stretch/>
        </p:blipFill>
        <p:spPr>
          <a:xfrm>
            <a:off x="3876840" y="4322880"/>
            <a:ext cx="1323720" cy="1968480"/>
          </a:xfrm>
          <a:prstGeom prst="rect">
            <a:avLst/>
          </a:prstGeom>
          <a:ln w="0">
            <a:noFill/>
          </a:ln>
        </p:spPr>
      </p:pic>
      <p:pic>
        <p:nvPicPr>
          <p:cNvPr id="254" name="Rounded Rectangle 13" descr=""/>
          <p:cNvPicPr/>
          <p:nvPr/>
        </p:nvPicPr>
        <p:blipFill>
          <a:blip r:embed="rId4"/>
          <a:stretch/>
        </p:blipFill>
        <p:spPr>
          <a:xfrm>
            <a:off x="5522760" y="4322880"/>
            <a:ext cx="1322640" cy="1968480"/>
          </a:xfrm>
          <a:prstGeom prst="rect">
            <a:avLst/>
          </a:prstGeom>
          <a:ln w="0">
            <a:noFill/>
          </a:ln>
        </p:spPr>
      </p:pic>
      <p:pic>
        <p:nvPicPr>
          <p:cNvPr id="255" name="Rounded Rectangle 14" descr=""/>
          <p:cNvPicPr/>
          <p:nvPr/>
        </p:nvPicPr>
        <p:blipFill>
          <a:blip r:embed="rId5"/>
          <a:stretch/>
        </p:blipFill>
        <p:spPr>
          <a:xfrm>
            <a:off x="7139160" y="4322880"/>
            <a:ext cx="1328400" cy="1968480"/>
          </a:xfrm>
          <a:prstGeom prst="rect">
            <a:avLst/>
          </a:prstGeom>
          <a:ln w="0">
            <a:noFill/>
          </a:ln>
        </p:spPr>
      </p:pic>
      <p:sp>
        <p:nvSpPr>
          <p:cNvPr id="256" name="Straight Connector 7"/>
          <p:cNvSpPr/>
          <p:nvPr/>
        </p:nvSpPr>
        <p:spPr>
          <a:xfrm>
            <a:off x="4511520" y="41576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7" name="Straight Connector 16"/>
          <p:cNvSpPr/>
          <p:nvPr/>
        </p:nvSpPr>
        <p:spPr>
          <a:xfrm flipH="1">
            <a:off x="1371600" y="4157640"/>
            <a:ext cx="3139920" cy="24300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6248520" y="3759120"/>
            <a:ext cx="91440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9" name="Straight Connector 18"/>
          <p:cNvSpPr/>
          <p:nvPr/>
        </p:nvSpPr>
        <p:spPr>
          <a:xfrm flipH="1">
            <a:off x="2918880" y="4157640"/>
            <a:ext cx="159228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0" name="Straight Connector 19"/>
          <p:cNvSpPr/>
          <p:nvPr/>
        </p:nvSpPr>
        <p:spPr>
          <a:xfrm flipH="1">
            <a:off x="4510080" y="4157640"/>
            <a:ext cx="144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1" name="Straight Connector 20"/>
          <p:cNvSpPr/>
          <p:nvPr/>
        </p:nvSpPr>
        <p:spPr>
          <a:xfrm>
            <a:off x="4511520" y="4157640"/>
            <a:ext cx="164628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2" name="Straight Connector 21"/>
          <p:cNvSpPr/>
          <p:nvPr/>
        </p:nvSpPr>
        <p:spPr>
          <a:xfrm>
            <a:off x="4511520" y="4157640"/>
            <a:ext cx="326556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28600" y="990360"/>
            <a:ext cx="3581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ketch layouts and provide two or more design com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view comps with team or cli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design based on feed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velop production storyboard and prototypes (if applic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7130-2409-42BD-AA3B-8FC341687FF0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66" name="Picture 5" descr="C:\Users\Jacques\AppData\Local\Temp\SNAGHTML103f53fe.PNG"/>
          <p:cNvPicPr/>
          <p:nvPr/>
        </p:nvPicPr>
        <p:blipFill>
          <a:blip r:embed="rId1"/>
          <a:stretch/>
        </p:blipFill>
        <p:spPr>
          <a:xfrm>
            <a:off x="4143240" y="1225440"/>
            <a:ext cx="4727880" cy="3281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267" name="Picture 6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3610080" cy="2502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uild and test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28240" y="9903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Build site images, graphics, create content, and design layout based on design 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o technical, accessibility, and usability testing, recording bugs, and design-change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ake revisions based on test results and repeat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nduct focus groups (if applic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reate final version and pres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EB3B-BD19-4F1D-A5A8-C7DAF88D7382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71" name="Picture 6" descr="C:\Users\Jacques\AppData\Local\Temp\SNAGHTML10427b9a.PNG"/>
          <p:cNvPicPr/>
          <p:nvPr/>
        </p:nvPicPr>
        <p:blipFill>
          <a:blip r:embed="rId1"/>
          <a:stretch/>
        </p:blipFill>
        <p:spPr>
          <a:xfrm>
            <a:off x="4302000" y="1800360"/>
            <a:ext cx="4529160" cy="3152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272" name="Picture 7" descr=""/>
          <p:cNvPicPr/>
          <p:nvPr/>
        </p:nvPicPr>
        <p:blipFill>
          <a:blip r:embed="rId2"/>
          <a:stretch/>
        </p:blipFill>
        <p:spPr>
          <a:xfrm>
            <a:off x="3805200" y="4959360"/>
            <a:ext cx="4942080" cy="1030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59000"/>
              </a:srgbClr>
            </a:outerShdw>
          </a:effectLst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liver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or </a:t>
            </a: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/or </a:t>
            </a: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vide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li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line a launch plan including promotion, and search engine optimiz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if applicabl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95D0-6202-4913-8387-78FFCD2C63B2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76" name="Picture 7" descr="C:\Users\Jacques\AppData\Local\Temp\SNAGHTML138b33e2.PNG"/>
          <p:cNvPicPr/>
          <p:nvPr/>
        </p:nvPicPr>
        <p:blipFill>
          <a:blip r:embed="rId1"/>
          <a:stretch/>
        </p:blipFill>
        <p:spPr>
          <a:xfrm>
            <a:off x="1447920" y="2332080"/>
            <a:ext cx="6227640" cy="3770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3-10-30T19:41:34Z</dcterms:modified>
  <cp:revision>32</cp:revision>
  <dc:subject/>
  <dc:title>INTRODUCTION TO DESIGN MOVEMENT, BALANCE, UNITY, CONTRAST, EMPHASIS, LINE, AND COLOR</dc:title>
</cp:coreProperties>
</file>