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52C8-8FB3-4361-8594-1722F0676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mportant initial questions inform the way you structure content and information. You must create the information architecture of your site with your audience in m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4B53-3517-4BED-8FBB-CD86AB9D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ite’s structure is composed of the categories and logical groups you just created. A site map serves as a bird’s-eye view of the project that enables you to see how the site is organized and how users will view the site’s content and information. The site map becomes a blueprint that shapes the structure of the site during the development process. The site map should show main areas of content and represent all the pages within each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F02-C1A8-4B81-9531-B5124A7DE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FB1-7D8C-49B5-890B-842A8339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C5A-C917-4F2C-80F0-99B16458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7A0-3A06-4924-9AF3-099FCD78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09C-4A98-49FD-8887-C3498416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5C3C-698E-461F-9841-6A74348B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FAC-FBAE-4C88-8A48-DDD1A7D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FD2-D16F-4409-962F-805E89B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1FD6-E35F-4DA8-9FBA-7A6B41D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8931-6023-442A-B872-6F401A8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191D-BCF7-4D8F-9F89-04FF9728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B8A-AD8F-443D-B837-15B16CDD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681-BE4A-4D1C-8AAF-B960EF3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22EF-D41B-4F95-B059-244D869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9972-8C66-47BC-946F-81054D5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C9CB-E3A0-4205-8E12-634A971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F62-65A4-4AEE-A8F0-75747EFA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5E2-EE1E-41F0-B429-F127D0F8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2B27-D23A-48E7-86FC-2BA2B773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8671-3791-42A1-87C9-C943E803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22E6-ADE2-4BEA-9151-7A357FD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A78B-E484-4735-8E94-23681B77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09EC-D4E8-4276-B132-C0D8DEA2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093-DDDE-490B-8E92-7B15013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9B43-E480-4976-A3BD-C75D4AB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EE2D-AF98-4468-B4F0-BB6820C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7D86-2C07-469C-B1C9-D3FC90F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7C28-99CC-40A7-BC8B-5A96588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BD6A-F7DE-4981-B20B-0D4DC0F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5C96-47E3-4636-A829-CFC60111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DE15-D10C-4152-9706-320ACA91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62600-2777-45C2-AB8E-4E373273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0E1E-23D6-411F-A936-3542412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D46A-914C-485D-95A9-DE8BF74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936-FC69-4775-A6FE-C4E3EAE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F9F0-EDC0-4392-8966-7386AD9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C6FC-DF4F-4578-AFB5-2EC8B20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EE95-3C3F-4897-A5AC-2CFF5D7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2F38-F80B-4F7F-A5CE-901A68E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D0E7-1154-4119-BF2D-77BEFA87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CCEE-8013-4F43-A61A-32A46F5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313A-E873-49D3-A40C-88B6CC20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B4D3-6505-4899-B8CC-5DF9FF0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F895-283D-4C3E-829E-56D6FEE6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F8E-EE90-4FEB-9302-0524AC0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5C6-354A-4088-A2C8-799B786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410-F1D1-49C1-A472-A111736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745-D714-442F-A598-38252A4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4BB-13BA-44B7-A85E-759440D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EDF-B16A-4CE8-ABDE-A5B689FEBE6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54C-411B-49C1-BC75-3B15DBC81D5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2320-5DDD-4976-8786-2529259CA3E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0016-8805-40C5-BDB1-A2AB52438B9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36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is a method to add organization and support usability of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helps improve discoverability, efficiency, satisfaction, consistency, and overall usability of a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te map and a clear navigation are the key components of an inform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85F2-0DD9-4C5D-907A-F479600C91B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What is information architecture?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what users are looking for and allowing easy access to content and information is the overall goal. It’s all about ensuring that users can get what they cam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s of information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label a website structure to support us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ers to the content and organize information intui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print the site from a functional perspective to communicate easily with a client and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architecture step usually falls within the structure phase of web project production, before you create wireframes, design comps, and prot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489-4DB3-4B4A-B00F-3BA4A35CD91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formation architecture best practice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needs of the audienc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clear purpose for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nd assemble sit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site content into logic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it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25BE-5F00-4816-A201-DCA7A58B184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nsider your audienc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an information architecture for your website, 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target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user are you trying to attract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02E8-13A0-4B6A-9C14-A7D469A4F15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dentify website purpos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the goals in mind while you’re creating the information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goals of the websi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attract viewers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purpose of the website influence the information archite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5B1D-D59B-4C22-A474-E6B1D927F8A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ventory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you plan to use on your website influences the information architecture. Consid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alread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need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content help accomplish the goals of the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target screens and dev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287-F48A-428C-A268-05756496169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Assemble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structure are intertw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ng content into logical groups hel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and consistent sit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task of defining the informatio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1BE-2C00-434F-ACA8-2CD77C43D40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reate a site map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2CD-96E9-4788-990F-70CF789AC84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1909800" y="1022400"/>
            <a:ext cx="52689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Design navigation system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helps connect users with the content on your site. Navigation helps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oriented to where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here they need to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back to where they came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use familiar visual cues and navigational aids as users move from page to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also helps your website maintain 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443-4BD4-4157-AFBC-AF29EBD479D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20T17:08:38Z</dcterms:modified>
  <cp:revision>9</cp:revision>
  <dc:subject/>
  <dc:title>INTRODUCTION TO DESIGN MOVEMENT, BALANCE, UNITY, CONTRAST, EMPHASIS, LINE, AND COLOR</dc:title>
</cp:coreProperties>
</file>