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7157-BC8B-404C-B1AD-31CAA2F68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F3C5-B9D7-4D45-864C-2C75B00D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1AC5-F6DC-49C0-9D8C-D8F8D6CEA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0BF1-6018-4EDC-BB4F-8149F52EC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F1CD-5D28-4E12-8CE1-AE2710105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5B51-040C-4810-AA6A-E6C5AB94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8D6F-6952-46A4-BB4A-926FD834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6ACA-D970-4390-A08F-4C6E76E8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AFA2-4A24-4141-87E1-F3475032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42B9-C544-45D0-A79F-81AFAA64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0734-86D1-4CB0-86DE-3A7C3B44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C222-F78D-4442-A2A9-9B0DEE9C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1B15-DAF7-41BD-B5DC-EF7C5F53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F806-31E3-483C-9025-793AF56A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1DD7-8D5D-4AB8-9461-F933E3C5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62E4-B4F6-4EF3-BDA7-86DAE9052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81EB-B274-499F-A585-B0D61801D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D3258-E826-4A73-AACC-F3DC04926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A21BA-D96F-472D-9DBC-A535F342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69ACC-BB3D-4CF0-868C-30A694E3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F176D-FF5E-4393-90B6-39E44313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A7D38-3172-437E-B433-0D86464E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EBF0-E6D1-41D6-B753-694D876C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7899A-8892-47E7-A1AF-DDD0245B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EA135-ABAF-4DC7-8A25-82A99A4F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63DDC-7DFD-4124-98BF-2FE9624B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330C8-E241-420F-B3C1-B5F1EA26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1982A-0C3F-40E4-9007-B5F010A6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04DB2-131A-422C-8814-339C7116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5FCF8-2BA7-4E37-871A-514DC6DB7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C450A-6AB5-4C4B-B538-775316570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0A770-514E-4CAF-9AB3-520BAE11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61141-525A-48F4-9A60-69BA762F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FB19-A9F1-41D9-AC8D-2FB77D77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2C56C-4916-4BB0-B282-0E5E77F5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A8A9F-79A4-4997-A2C6-D097D675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A5E3F-5548-4C77-AD4A-035AC62A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507F7-A23B-4BE4-9E42-93FC637A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3AB6E-3EA3-4863-8717-15555EC2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01C54-D3EC-4E09-AD74-2217D2C2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73094-48D5-4D5B-920F-D1D8A08F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F99C2-922C-488E-8E75-4792876B8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F80AD-A084-46CD-8111-CCB5C4F2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3552-7422-431A-800A-A82F95F8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CC5B-CE59-455A-8807-30F8026E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F0FF-DDB0-4AA9-8613-9048F41E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035A-E38B-404C-8B22-E2A77F40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5342-667A-4171-8491-FE986018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88BC-96BE-4FC9-8111-1098EC7C7B55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5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68" name="Picture 2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DD41-58AC-4B21-B5C1-2385BAAE9974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1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1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23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8E03-578E-4ECA-A9C7-0035C44FF86E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7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68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69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0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1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2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3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4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5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6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7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78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0F36-AA48-42F3-989D-52A846055B2A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tle 2"/>
          <p:cNvSpPr/>
          <p:nvPr/>
        </p:nvSpPr>
        <p:spPr>
          <a:xfrm>
            <a:off x="392040" y="5133240"/>
            <a:ext cx="78152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ARNING THE LANGUAGE OF THE WEB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1" name="Text Placeholder 3"/>
          <p:cNvSpPr/>
          <p:nvPr/>
        </p:nvSpPr>
        <p:spPr>
          <a:xfrm>
            <a:off x="284040" y="4251240"/>
            <a:ext cx="78152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INTRODUCTION TO HTML AND CSS</a:t>
            </a:r>
            <a:endParaRPr b="0" lang="en-US" sz="3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What is HTML?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8600" y="99036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stands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68120"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b034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per</a:t>
            </a:r>
            <a:r>
              <a:rPr b="1" lang="en-US" sz="2000" spc="-1" strike="noStrike">
                <a:solidFill>
                  <a:srgbClr val="fbb034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68120"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b034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k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68120"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b034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rkup language, HTML elements are the building blocks of web p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elements use tags to structure con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6A2F-1838-4A15-A280-B2C85D8D1FEA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25" name="Group 6"/>
          <p:cNvGrpSpPr/>
          <p:nvPr/>
        </p:nvGrpSpPr>
        <p:grpSpPr>
          <a:xfrm>
            <a:off x="4843440" y="1523880"/>
            <a:ext cx="3892680" cy="1897200"/>
            <a:chOff x="4843440" y="1523880"/>
            <a:chExt cx="3892680" cy="1897200"/>
          </a:xfrm>
        </p:grpSpPr>
        <p:pic>
          <p:nvPicPr>
            <p:cNvPr id="226" name="Picture 15" descr="C:\Users\Jacques\AppData\Local\Temp\SNAGHTML14496448.PNG"/>
            <p:cNvPicPr/>
            <p:nvPr/>
          </p:nvPicPr>
          <p:blipFill>
            <a:blip r:embed="rId1"/>
            <a:stretch/>
          </p:blipFill>
          <p:spPr>
            <a:xfrm>
              <a:off x="4843440" y="1523880"/>
              <a:ext cx="3892680" cy="18972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</p:pic>
        <p:sp>
          <p:nvSpPr>
            <p:cNvPr id="227" name="Straight Connector 5"/>
            <p:cNvSpPr/>
            <p:nvPr/>
          </p:nvSpPr>
          <p:spPr>
            <a:xfrm>
              <a:off x="5306400" y="2286360"/>
              <a:ext cx="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pic>
        <p:nvPicPr>
          <p:cNvPr id="228" name="Picture 11" descr="C:\Users\Jacques\AppData\Local\Temp\SNAGHTML138fd9c1.PNG"/>
          <p:cNvPicPr/>
          <p:nvPr/>
        </p:nvPicPr>
        <p:blipFill>
          <a:blip r:embed="rId2"/>
          <a:stretch/>
        </p:blipFill>
        <p:spPr>
          <a:xfrm>
            <a:off x="4506840" y="3355920"/>
            <a:ext cx="3957840" cy="2054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Tag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8240" y="9903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elements consist of ta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are enclosed by angle brackets,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ike this: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usually come in pairs,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ike this: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&lt;title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&lt;/tit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h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ve a start (or opening) and end (or clos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re not displayed in a web brows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nterpret how to display content </a:t>
            </a: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the ta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8988-B79A-4B26-A071-CE33CD699051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876920" y="1143000"/>
            <a:ext cx="3886200" cy="4495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tml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ead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title&gt;&lt;/title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/head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body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1&gt;&lt;/h1&gt;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p&gt;&lt;/p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/body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/html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Tag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tml&gt;&lt;/html&gt;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cribes the web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ead&gt;&lt;/head&gt;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cribes the hea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body&gt;&lt;/body&gt;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cribes visible page con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mmon formatting ta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h1&gt;&lt;/h1&gt;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displays a heading, ranging from size 1 (biggest) to 6 (smalles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p&gt;&lt;/p&gt;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formats text as a paragra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strong&gt;&lt;/strong&gt;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bolds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em&gt;&lt;/em&gt;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emphasizes text, displays as ital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br&gt;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reates a line bre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in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a href="http://www.example.com"&gt;&lt;/a&gt;</a:t>
            </a:r>
            <a:r>
              <a:rPr b="1" lang="en-CA" sz="1700" spc="-1" strike="noStrike">
                <a:solidFill>
                  <a:srgbClr val="000000"/>
                </a:solidFill>
                <a:latin typeface="Myriad Pro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reates a link to a web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6C85-9674-4194-A42D-51D42B843461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S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28240" y="990360"/>
            <a:ext cx="4079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S stands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b034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c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b034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b034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cribes the “look and feel” of HTML elements on a web p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separate document content (HTML) from document presentation (CS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s presentation elements such as layout, colors, and fo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A285-7C20-4837-A74B-D69DE2D04713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39" name="Group 9"/>
          <p:cNvGrpSpPr/>
          <p:nvPr/>
        </p:nvGrpSpPr>
        <p:grpSpPr>
          <a:xfrm>
            <a:off x="4686480" y="1143000"/>
            <a:ext cx="4076640" cy="3124080"/>
            <a:chOff x="4686480" y="1143000"/>
            <a:chExt cx="4076640" cy="3124080"/>
          </a:xfrm>
        </p:grpSpPr>
        <p:pic>
          <p:nvPicPr>
            <p:cNvPr id="240" name="Picture 21" descr="C:\Users\Jacques\AppData\Local\Temp\SNAGHTML144d32dc.PNG"/>
            <p:cNvPicPr/>
            <p:nvPr/>
          </p:nvPicPr>
          <p:blipFill>
            <a:blip r:embed="rId1"/>
            <a:stretch/>
          </p:blipFill>
          <p:spPr>
            <a:xfrm>
              <a:off x="4686480" y="1143000"/>
              <a:ext cx="4076640" cy="31240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</p:pic>
        <p:sp>
          <p:nvSpPr>
            <p:cNvPr id="241" name="Rectangle 8"/>
            <p:cNvSpPr/>
            <p:nvPr/>
          </p:nvSpPr>
          <p:spPr>
            <a:xfrm>
              <a:off x="7148880" y="3581280"/>
              <a:ext cx="1522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pic>
        <p:nvPicPr>
          <p:cNvPr id="242" name="Picture 8" descr="C:\Users\Jacques\AppData\Local\Temp\SNAGHTML13db1156.PNG"/>
          <p:cNvPicPr/>
          <p:nvPr/>
        </p:nvPicPr>
        <p:blipFill>
          <a:blip r:embed="rId2"/>
          <a:stretch/>
        </p:blipFill>
        <p:spPr>
          <a:xfrm>
            <a:off x="4419720" y="4191120"/>
            <a:ext cx="3492360" cy="18129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1000"/>
              </a:srgbClr>
            </a:outerShdw>
          </a:effectLst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S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yle sheet contains a list of rules about how elements appear on a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s of a selector and a declaration bloc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00ff"/>
                </a:solidFill>
                <a:latin typeface="Arial"/>
              </a:rPr>
              <a:t>Selectors</a:t>
            </a:r>
            <a:r>
              <a:rPr b="0" lang="en-CA" sz="1800" spc="-1" strike="noStrike">
                <a:solidFill>
                  <a:srgbClr val="8348b5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ell which markup elements the style applies 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 declaration block is a list of </a:t>
            </a:r>
            <a:r>
              <a:rPr b="0" lang="en-CA" sz="1800" spc="-1" strike="noStrike">
                <a:solidFill>
                  <a:srgbClr val="000099"/>
                </a:solidFill>
                <a:latin typeface="Arial"/>
              </a:rPr>
              <a:t>property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CA" sz="1800" spc="-1" strike="noStrike">
                <a:solidFill>
                  <a:srgbClr val="00b0f0"/>
                </a:solidFill>
                <a:latin typeface="Arial"/>
              </a:rPr>
              <a:t>value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pairs that define the sty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embedded inside the HTML or linked as a separate doc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83A4-6308-432A-ABAB-28F4FBEA7CF5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380880" y="3629160"/>
            <a:ext cx="6400800" cy="259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h1 {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font-family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Verdana, Geneva, sans-serif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font-size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24px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font-weight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bold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text-transform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uppercase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color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#C00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47" name="Picture 1" descr=""/>
          <p:cNvPicPr/>
          <p:nvPr/>
        </p:nvPicPr>
        <p:blipFill>
          <a:blip r:embed="rId1"/>
          <a:stretch/>
        </p:blipFill>
        <p:spPr>
          <a:xfrm>
            <a:off x="4602240" y="4667400"/>
            <a:ext cx="4133880" cy="1552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dadde0">
                <a:alpha val="58000"/>
              </a:srgbClr>
            </a:outerShdw>
          </a:effectLst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volution of HTML and CS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28240" y="990360"/>
            <a:ext cx="56307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HTML and CSS are a collection of web standar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HTML and CSS are a set of best practices for building websi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HTML and CSS are constantly evolv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HTML5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is the fifth iteration of HTML and </a:t>
            </a: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adds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tags to support </a:t>
            </a:r>
            <a:r>
              <a:rPr b="0" lang="en-CA" sz="1800" spc="-1" strike="noStrike">
                <a:solidFill>
                  <a:srgbClr val="fbb034"/>
                </a:solidFill>
                <a:latin typeface="Myriad Pro"/>
              </a:rPr>
              <a:t>multimedia elements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and </a:t>
            </a:r>
            <a:r>
              <a:rPr b="0" lang="en-CA" sz="1800" spc="-1" strike="noStrike">
                <a:solidFill>
                  <a:srgbClr val="fbb034"/>
                </a:solidFill>
                <a:latin typeface="Myriad Pro"/>
              </a:rPr>
              <a:t>dynamic graphics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in modern web brows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CSS3</a:t>
            </a:r>
            <a:r>
              <a:rPr b="0" lang="en-US" sz="1800" spc="-1" strike="noStrike">
                <a:solidFill>
                  <a:srgbClr val="c00000"/>
                </a:solidFill>
                <a:latin typeface="Myriad Pro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defines a new set of modular rules for how HTML content will be presented within the web brow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E54A-153F-42E6-9389-10EC9F684162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51" name="Picture 7" descr="C:\Users\Jacques\Desktop\HTML5_Logo_512.png"/>
          <p:cNvPicPr/>
          <p:nvPr/>
        </p:nvPicPr>
        <p:blipFill>
          <a:blip r:embed="rId1"/>
          <a:stretch/>
        </p:blipFill>
        <p:spPr>
          <a:xfrm>
            <a:off x="6207120" y="1281240"/>
            <a:ext cx="2556000" cy="35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HTML5 best practic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HTML5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!doctype html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ell a browser how to trans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meta charset="utf-8"&gt;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ell a browser the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haracter-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Use semantic markup tags </a:t>
            </a: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article&gt;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section&gt;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eader&gt;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nav&gt;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and others to bring a higher level of structural meaning to docu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ign and test content across a range of browsers and devices that support HTML5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B4F6-F326-4FB8-A0FE-5F100F184E9E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55" name="Picture 1" descr="C:\Users\Jacques\Desktop\fig04.png"/>
          <p:cNvPicPr/>
          <p:nvPr/>
        </p:nvPicPr>
        <p:blipFill>
          <a:blip r:embed="rId1"/>
          <a:stretch/>
        </p:blipFill>
        <p:spPr>
          <a:xfrm>
            <a:off x="1515960" y="3809880"/>
            <a:ext cx="6112080" cy="234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13:48:30Z</dcterms:created>
  <dc:creator>Matt Niemitz</dc:creator>
  <dc:description/>
  <dc:language>en-US</dc:language>
  <cp:lastModifiedBy>Matt Niemitz</cp:lastModifiedBy>
  <dcterms:modified xsi:type="dcterms:W3CDTF">2012-04-23T00:33:55Z</dcterms:modified>
  <cp:revision>5</cp:revision>
  <dc:subject/>
  <dc:title>PowerPoint Presentation</dc:title>
</cp:coreProperties>
</file>