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4F9D-4651-4F45-BC61-4E3649934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3325-60EB-4ED8-A87B-2BC99CFD0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mple flowchart for a web-based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23F5-8761-461C-A6B8-B158566E1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45D4-EC82-456C-894F-1D2175D0A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85F-BE24-4354-B6AA-76E4D096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4053-2B40-49F0-AF35-F9215AAC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715-0413-4F49-A7F4-1F000FDD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1720-6922-4702-9EEF-7C4D4A19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0E6C-3DD4-41CB-8089-9ABACA20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0EF6-29EF-4993-A52E-1A7FE581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61A3-6FCE-4407-B1EF-7EA70C40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2399-7601-4406-9471-018805CE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66C3-F93A-4FEA-8F2A-A9F243DB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D691-0CF2-4CB0-8AE5-2EA06AEF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4F1F-CF81-4826-B3E7-7FB2DC21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5ECB-44FA-4636-A145-007A2AAD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5759-87C3-411E-997B-44A7D4DE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D948-BF3A-4AE9-AE9E-AE2AE206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F25E-8A68-4BE9-8380-F32CEFF4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9FAA-625D-40C7-8E8C-D16EE47B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40CD-440E-4BDE-96B9-D136FDD7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FD587-A6F3-4D76-9951-E71B7C1A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20C8B-0606-4EF4-88AC-13ACA0C0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571A2-5334-4BE3-B5B7-164B46D9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52541-5CC9-412A-809E-899A86DC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B174B-271F-4542-A74D-5707EC27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439E-420F-45E6-BBDA-B98EA3F3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4D942-D6D9-4924-970D-E3C355FB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8DB63-7594-489A-91C0-9B452B21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7207B-0CB4-46B0-85F2-CD191B55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6EF11-6F09-422A-86EA-D511873F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6203B-DE0D-47AE-9192-5DCDFA10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42C42-B3D3-4B35-B155-BD387716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D3F0E-F661-45B9-AF71-241DF1F3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BB479-3ECF-4753-AD1A-B0DE36B7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6B47C-E0C3-42D5-B925-1C81519D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27A85-76CA-4B23-ACB2-B9CE169F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8FBD-5765-4A8F-965C-9B86B247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448D3-BDF9-4139-8C5F-7337C593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B2AED-EF94-415A-8E14-47A0C6CD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08DE1-E14D-4420-A0BC-C296BFF8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2F448-9296-4E13-A631-42BDB371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4523F-C961-4E04-8A78-4AA0AE61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89863-3510-496E-8866-E6D17D88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5C2EF-19E5-4651-A84E-254E7516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ED7A9-83EF-48C8-B895-0A770AE7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89CE0-958A-4DDD-99C2-016E44E0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6D8E-FC73-4820-B35C-9BEB69F4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7096-21D4-409F-88B2-AEBF7D47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862-FEB5-4C8D-90D9-9FA24ED3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B4D-3D18-4A48-A32B-EE24B062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D2B9-E2B3-4861-BBD9-E09EDD92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BA80-B3A7-43EE-B0DC-FD19CB9F58BD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19" descr="C:\Users\Jacques\Desktop\untitled folder\Adobe_Green_1920x1430.jpg"/>
          <p:cNvPicPr/>
          <p:nvPr/>
        </p:nvPicPr>
        <p:blipFill>
          <a:blip r:embed="rId2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167E-FA48-4F72-942C-22B1F91F8EC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954C-2C9E-422D-80D0-B42F477F1234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3D1D-C394-4A52-AD81-D339DA9F286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302040" y="6689160"/>
            <a:ext cx="2743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Myriad Pro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8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229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230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1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2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3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4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5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6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7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8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9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240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4284360"/>
            <a:ext cx="781524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PROJEC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ION PHA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, STRUCTURE, DESIGN, BUILD AND TEST, DELIVERY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fin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goals, target audience, cont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delivery requirement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r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velop a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project pla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utline the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researc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client interactio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content productio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36AB-9E11-47B7-8B34-309C7EC47A3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45" name="Picture 3" descr="project_plan.pdf.png"/>
          <p:cNvPicPr/>
          <p:nvPr/>
        </p:nvPicPr>
        <p:blipFill>
          <a:blip r:embed="rId1"/>
          <a:stretch/>
        </p:blipFill>
        <p:spPr>
          <a:xfrm>
            <a:off x="1722600" y="2684520"/>
            <a:ext cx="5697360" cy="3557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truc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5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Information architectur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desig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5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Flowcharts and wireframe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 outline the overall structure of the site and site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E505-A77E-459E-9B4B-205E3673F73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9" name="Rounded Rectangle 1"/>
          <p:cNvSpPr/>
          <p:nvPr/>
        </p:nvSpPr>
        <p:spPr>
          <a:xfrm>
            <a:off x="3657600" y="3149640"/>
            <a:ext cx="1676520" cy="83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0" name="Rounded Rectangle 9"/>
          <p:cNvSpPr/>
          <p:nvPr/>
        </p:nvSpPr>
        <p:spPr>
          <a:xfrm>
            <a:off x="3908520" y="3172320"/>
            <a:ext cx="1204920" cy="9817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1" name="Rounded Rectangle 10" descr=""/>
          <p:cNvPicPr/>
          <p:nvPr/>
        </p:nvPicPr>
        <p:blipFill>
          <a:blip r:embed="rId1"/>
          <a:stretch/>
        </p:blipFill>
        <p:spPr>
          <a:xfrm>
            <a:off x="665280" y="4322880"/>
            <a:ext cx="1322280" cy="1968480"/>
          </a:xfrm>
          <a:prstGeom prst="rect">
            <a:avLst/>
          </a:prstGeom>
          <a:ln w="0">
            <a:noFill/>
          </a:ln>
        </p:spPr>
      </p:pic>
      <p:pic>
        <p:nvPicPr>
          <p:cNvPr id="252" name="Rounded Rectangle 11" descr=""/>
          <p:cNvPicPr/>
          <p:nvPr/>
        </p:nvPicPr>
        <p:blipFill>
          <a:blip r:embed="rId2"/>
          <a:stretch/>
        </p:blipFill>
        <p:spPr>
          <a:xfrm>
            <a:off x="2286000" y="4322880"/>
            <a:ext cx="1322280" cy="1968480"/>
          </a:xfrm>
          <a:prstGeom prst="rect">
            <a:avLst/>
          </a:prstGeom>
          <a:ln w="0">
            <a:noFill/>
          </a:ln>
        </p:spPr>
      </p:pic>
      <p:pic>
        <p:nvPicPr>
          <p:cNvPr id="253" name="Rounded Rectangle 12" descr=""/>
          <p:cNvPicPr/>
          <p:nvPr/>
        </p:nvPicPr>
        <p:blipFill>
          <a:blip r:embed="rId3"/>
          <a:stretch/>
        </p:blipFill>
        <p:spPr>
          <a:xfrm>
            <a:off x="3876840" y="4322880"/>
            <a:ext cx="1323720" cy="1968480"/>
          </a:xfrm>
          <a:prstGeom prst="rect">
            <a:avLst/>
          </a:prstGeom>
          <a:ln w="0">
            <a:noFill/>
          </a:ln>
        </p:spPr>
      </p:pic>
      <p:pic>
        <p:nvPicPr>
          <p:cNvPr id="254" name="Rounded Rectangle 13" descr=""/>
          <p:cNvPicPr/>
          <p:nvPr/>
        </p:nvPicPr>
        <p:blipFill>
          <a:blip r:embed="rId4"/>
          <a:stretch/>
        </p:blipFill>
        <p:spPr>
          <a:xfrm>
            <a:off x="5522760" y="4322880"/>
            <a:ext cx="1322640" cy="1968480"/>
          </a:xfrm>
          <a:prstGeom prst="rect">
            <a:avLst/>
          </a:prstGeom>
          <a:ln w="0">
            <a:noFill/>
          </a:ln>
        </p:spPr>
      </p:pic>
      <p:pic>
        <p:nvPicPr>
          <p:cNvPr id="255" name="Rounded Rectangle 14" descr=""/>
          <p:cNvPicPr/>
          <p:nvPr/>
        </p:nvPicPr>
        <p:blipFill>
          <a:blip r:embed="rId5"/>
          <a:stretch/>
        </p:blipFill>
        <p:spPr>
          <a:xfrm>
            <a:off x="7139160" y="4322880"/>
            <a:ext cx="1328400" cy="1968480"/>
          </a:xfrm>
          <a:prstGeom prst="rect">
            <a:avLst/>
          </a:prstGeom>
          <a:ln w="0">
            <a:noFill/>
          </a:ln>
        </p:spPr>
      </p:pic>
      <p:sp>
        <p:nvSpPr>
          <p:cNvPr id="256" name="Straight Connector 7"/>
          <p:cNvSpPr/>
          <p:nvPr/>
        </p:nvSpPr>
        <p:spPr>
          <a:xfrm>
            <a:off x="4511520" y="41576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7" name="Straight Connector 16"/>
          <p:cNvSpPr/>
          <p:nvPr/>
        </p:nvSpPr>
        <p:spPr>
          <a:xfrm flipH="1">
            <a:off x="1371600" y="4157640"/>
            <a:ext cx="3139920" cy="24300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6248520" y="3759120"/>
            <a:ext cx="9144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9" name="Straight Connector 18"/>
          <p:cNvSpPr/>
          <p:nvPr/>
        </p:nvSpPr>
        <p:spPr>
          <a:xfrm flipH="1">
            <a:off x="2918880" y="4157640"/>
            <a:ext cx="159228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0" name="Straight Connector 19"/>
          <p:cNvSpPr/>
          <p:nvPr/>
        </p:nvSpPr>
        <p:spPr>
          <a:xfrm flipH="1">
            <a:off x="4510080" y="4157640"/>
            <a:ext cx="144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1" name="Straight Connector 20"/>
          <p:cNvSpPr/>
          <p:nvPr/>
        </p:nvSpPr>
        <p:spPr>
          <a:xfrm>
            <a:off x="4511520" y="4157640"/>
            <a:ext cx="164628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2" name="Straight Connector 21"/>
          <p:cNvSpPr/>
          <p:nvPr/>
        </p:nvSpPr>
        <p:spPr>
          <a:xfrm>
            <a:off x="4511520" y="4157640"/>
            <a:ext cx="326556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28600" y="990360"/>
            <a:ext cx="3581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ketch layouts and provide two or more design com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view comps with team or cl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design based on feed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velop production storyboard and prototypes (if applic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21B4-EF2F-4305-9C6C-0D6690635F40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66" name="Picture 5" descr="C:\Users\Jacques\AppData\Local\Temp\SNAGHTML103f53fe.PNG"/>
          <p:cNvPicPr/>
          <p:nvPr/>
        </p:nvPicPr>
        <p:blipFill>
          <a:blip r:embed="rId1"/>
          <a:stretch/>
        </p:blipFill>
        <p:spPr>
          <a:xfrm>
            <a:off x="4143240" y="1225440"/>
            <a:ext cx="4727880" cy="3281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267" name="Picture 6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3610080" cy="2502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uild and tes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8240" y="9903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Build site images, graphics, create content, and design layout based on design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 technical, accessibility, and usability testing, recording bugs, and design-change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ke revisions based on test results and repeat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nduct focus groups (if applic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reate final version and pres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A307-76F1-45D4-B3A7-C6C8ECCD2DF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71" name="Picture 6" descr="C:\Users\Jacques\AppData\Local\Temp\SNAGHTML10427b9a.PNG"/>
          <p:cNvPicPr/>
          <p:nvPr/>
        </p:nvPicPr>
        <p:blipFill>
          <a:blip r:embed="rId1"/>
          <a:stretch/>
        </p:blipFill>
        <p:spPr>
          <a:xfrm>
            <a:off x="4302000" y="1800360"/>
            <a:ext cx="4529160" cy="3152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3805200" y="4959360"/>
            <a:ext cx="4942080" cy="1030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59000"/>
              </a:srgbClr>
            </a:outerShdw>
          </a:effectLst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live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/or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vide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li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ne a launch plan including promotion, and search engine optimiz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if applicabl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7808-D045-439B-9C08-D14BC0FE490D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76" name="Picture 7" descr="C:\Users\Jacques\AppData\Local\Temp\SNAGHTML138b33e2.PNG"/>
          <p:cNvPicPr/>
          <p:nvPr/>
        </p:nvPicPr>
        <p:blipFill>
          <a:blip r:embed="rId1"/>
          <a:stretch/>
        </p:blipFill>
        <p:spPr>
          <a:xfrm>
            <a:off x="1447920" y="2332080"/>
            <a:ext cx="6227640" cy="3770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9:41:34Z</dcterms:modified>
  <cp:revision>32</cp:revision>
  <dc:subject/>
  <dc:title>INTRODUCTION TO DESIGN MOVEMENT, BALANCE, UNITY, CONTRAST, EMPHASIS, LINE, AND COLOR</dc:title>
</cp:coreProperties>
</file>