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85AA-7838-4748-A4C6-F471D31C9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atomy of the storyboard can change by the specific usage. This is just one simple example for one graph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notes are at the bottom and indicate the audience and purpo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audience are any professional members of the medical community wishing to have websites designed fo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purpose of the logo is to identify my design agency as focused on the medical commu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Note that the scale is indicated. The color scheme is true to how the finished product will l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It is a play on my name and initials: G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B6B-733C-4974-9843-6E7B71514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CDC-211B-4C09-BB14-4FDCB5B9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D8B-1AA5-45C3-AFF5-E416851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BAA-4B5D-4DF4-A152-68527B92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84E-2023-4DA1-ABE0-C022D307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ED9-ACB5-4467-A6A6-CF0E1E7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BDA9-BC4F-4269-A8CF-BE99D95D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124-39AD-40AC-B6BF-DCAF842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443-E23C-4F16-9174-EE6CE85F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70AD-F961-48A4-9F3D-D6AAB9A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B0E-547A-4B93-9EF7-29696357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AEE1-9D13-482F-A066-864747C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474-F50C-4952-843C-64F41810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F98-374F-40E0-86CE-5A66F86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E92-DBE8-418B-A75C-D49DE27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8B88-2F50-4011-BDE0-A5B0B09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02D-6A7A-47B1-B0B3-7F1DEB39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612-DFCF-4973-83EA-79EC68DB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8A89-DC64-4407-9DB1-C37749F5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8679-10D3-4FD1-B2EB-C47E5B6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A87F-D6CC-4536-94B6-AFE85BC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7914-DADB-4B28-B07B-575F047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C1A0-9CD4-4B35-B408-A47CDF0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8E6-3224-44D6-8D51-5D76037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2F22-9290-420D-A1F1-F4E76AA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1F6E-B82D-4F5C-AC79-B75F1D9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52FF-B035-4C8D-AE79-EFF4803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7D6A-004A-4F3E-8C45-7EE08B2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84C8-1B2C-4306-A470-FAC65A3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CA28-AFF5-457E-9A52-BF8E4802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E138-203D-4A48-B42A-B5D25DFF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E5F8-0A9F-4B3B-909A-E72FDC51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23DD-02E5-4B2C-84E2-ECAEDA0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813F-63B7-480F-A2EE-B535374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A5B-2A21-4E53-B963-A1CF3B1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FE69-8937-49E4-B7EE-3A91649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6A89-13E9-42A0-A2C8-987AB35B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FCEF-C883-47A2-9343-29D0A0DC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EA53-40E4-4007-ADBC-B9BB715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72C6-56F0-4FB4-BBE0-7CBD1568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F2D9-5B1D-4657-B2E3-428197F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58092-BAE5-4F85-9EA2-569DC44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216F-03A0-459A-B7E1-FE9B8D03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7590-4CEE-4152-892C-296E9532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DA0-D2B0-4280-B231-C8220B5F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2B6-1767-4882-91E1-1A6315E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3A2-1AF7-4E9F-9A20-9702C0C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D41-418A-438F-9F15-E9B4D94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6EA-000E-4F15-8AD7-0C38B4A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12F-47C9-4B4C-9F68-28A040C19E1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2B5-6A3B-4B83-9CF7-B5CF023FF34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173-24CA-456D-AE8A-5CCC9E99ED03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A0C-E740-482C-8548-90541E41CA9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784400"/>
            <a:ext cx="78152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BOARDS</a:t>
            </a:r>
            <a:endParaRPr b="0" lang="en-US" sz="3200" spc="-1" strike="noStrike">
              <a:solidFill>
                <a:srgbClr val="dadde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at is a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240" y="990360"/>
            <a:ext cx="4341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oryboard is a scene-by-scene drawing of the sequence of a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ryboards tell the story visually with enough detail for developers to know what to build. 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975-903D-47A5-82CC-E10050005467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4" descr="Storyboard1"/>
          <p:cNvPicPr/>
          <p:nvPr/>
        </p:nvPicPr>
        <p:blipFill>
          <a:blip r:embed="rId1"/>
          <a:stretch/>
        </p:blipFill>
        <p:spPr>
          <a:xfrm>
            <a:off x="4816440" y="1219320"/>
            <a:ext cx="3373560" cy="45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Two basic types of storyboards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No action elements indicated. Used for a graphical design such as a logo or page banner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nim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Indicating action, movement, camera angles, or the passage of time. Typically used in making movies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CD2-B473-4A62-BC1A-B7EDB0764DE0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Example of storyboards 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990360"/>
            <a:ext cx="2936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ple storyboard layout when multiple pages or scenes are part of the desig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924D-E0E4-4EFF-AC94-73B72FCAC0AB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3471840" y="1057320"/>
            <a:ext cx="5360400" cy="5114160"/>
            <a:chOff x="3471840" y="1057320"/>
            <a:chExt cx="5360400" cy="5114160"/>
          </a:xfrm>
        </p:grpSpPr>
        <p:sp>
          <p:nvSpPr>
            <p:cNvPr id="253" name="Oval 4"/>
            <p:cNvSpPr/>
            <p:nvPr/>
          </p:nvSpPr>
          <p:spPr>
            <a:xfrm>
              <a:off x="4141800" y="2000520"/>
              <a:ext cx="1148400" cy="1435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3471840" y="1057320"/>
              <a:ext cx="5360400" cy="5114160"/>
              <a:chOff x="3471840" y="1057320"/>
              <a:chExt cx="5360400" cy="5114160"/>
            </a:xfrm>
          </p:grpSpPr>
          <p:pic>
            <p:nvPicPr>
              <p:cNvPr id="255" name="Picture 6" descr="Storyboard - Physics and Scuba"/>
              <p:cNvPicPr/>
              <p:nvPr/>
            </p:nvPicPr>
            <p:blipFill>
              <a:blip r:embed="rId1"/>
              <a:stretch/>
            </p:blipFill>
            <p:spPr>
              <a:xfrm>
                <a:off x="3471840" y="1057320"/>
                <a:ext cx="5360400" cy="511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Oval 7"/>
              <p:cNvSpPr/>
              <p:nvPr/>
            </p:nvSpPr>
            <p:spPr>
              <a:xfrm>
                <a:off x="7491960" y="1713240"/>
                <a:ext cx="861480" cy="38232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57" name="Oval 8"/>
            <p:cNvSpPr/>
            <p:nvPr/>
          </p:nvSpPr>
          <p:spPr>
            <a:xfrm>
              <a:off x="3567600" y="4297680"/>
              <a:ext cx="1052640" cy="2869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7683840" y="3914640"/>
              <a:ext cx="956880" cy="4780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6801120" y="3994200"/>
              <a:ext cx="720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Navigatio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Button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3648600" y="249480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ai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enu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3533040" y="4066200"/>
              <a:ext cx="451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Detail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7512120" y="1481760"/>
              <a:ext cx="881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Screen Name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y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and cheaper to produce and test ideas on paper before produ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to generate alternate ideas as you think of them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ive tool to check that the finished product is what it should be!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DBB-5045-45B0-806B-2BA2B8090EE6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10T15:26:13Z</dcterms:modified>
  <cp:revision>7</cp:revision>
  <dc:subject/>
  <dc:title>INTRODUCTION TO DESIGN MOVEMENT, BALANCE, UNITY, CONTRAST, EMPHASIS, LINE, AND COLOR</dc:title>
</cp:coreProperties>
</file>