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7C91-785D-435F-AFE6-B348E0D98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mportant initial questions inform the way you structure content and information. You must create the information architecture of your site with your audience in m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BF88-F7E2-4BB4-B3B6-B26B24654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site’s structure is composed of the categories and logical groups you just created. A site map serves as a bird’s-eye view of the project that enables you to see how the site is organized and how users will view the site’s content and information. The site map becomes a blueprint that shapes the structure of the site during the development process. The site map should show main areas of content and represent all the pages within each s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B539-7865-485E-9561-B9BEA8CF1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9AA-2CD4-4C01-A40C-8B38577A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098-EAC8-4888-BFE8-2795E8A4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588-4110-414D-A4A2-064BA5BC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7EB-6F62-4DFE-9B24-9BB20D3C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6090-B98F-420C-BA2A-0B01F0B7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9173-94E3-418C-BA2D-68136F65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3875-77CA-40EA-BFCA-38A91E40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1375-CA32-49D9-AC12-60BBE032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2857-A2D8-4B78-9309-EAA25C52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1B31-0F67-44DD-877E-47A52CA3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CDEE-343D-4852-A220-1A9AA3A9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7C5-A6EE-47F9-B99B-97DEFD1D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1E55-B243-4C68-A849-3714652B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F0FD-2E81-4451-B621-B99BF155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6813-DF72-435C-8D80-D61BC25E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6742-34B3-4D56-A472-6C8D9DCC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6AF4-7A45-4C36-AE07-92B2E091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B9C4-FDB8-4E9E-9DB7-36E91F71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7C7F8-F424-4BB5-AC9D-54C5E3C2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230BD-5E17-4966-8537-0CAC414E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E7642-DB84-4E31-9FB6-085A462E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AC4DA-C0A8-48CA-8E3F-CC214B96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CAC-A81A-4735-ADD0-E95B7825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53E28-2EB5-4245-82D7-4757C263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762B-89ED-41D1-A2DF-54397DE1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BDBA-8315-4ADB-BCC5-D4EA8B21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E717-34AC-4841-BB69-FBF209B5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0A22-9C31-4A5E-B193-D07B32EA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47EC-05A1-43D9-A29C-CFE08CE4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6E046-7680-4247-96AA-0BDD7D0F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80EA-04E7-4B32-B090-AF6AE1E2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C5097-0780-4EA1-B709-57633B0E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5E47C-441E-4188-BAD8-E79E970B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42E-1DC8-49D2-A98C-6BE584B2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79772-0CE2-421F-8C84-5B3B7054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0F6CA-BB2F-470F-B0FF-5F1ED0D6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7294-7807-4382-B861-EDED7C99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EEE35-290E-48F4-8CCC-3AFE4979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C897-8986-4E79-8B48-1E4B9D9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88C8-82F7-4538-B2B5-A36AA347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92F5F-C8D2-4449-9673-F349FF74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083CE-2498-4120-87E0-2E28DC95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99DDF-19FD-4B5F-A9C5-CC706FF4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1A5-668C-45F1-A689-CFD7CB0A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60F-FEFA-4853-9B8A-F449A319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57B-D3A3-4ACE-B222-0AC58D05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47E-9298-4B68-84A9-80A43719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58F-3571-443A-AE11-F72586F9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76CB-E956-4FBA-BD3F-68783B3653D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F147-AE6B-4432-939F-F7A8A8A2596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6100-ACB4-4D7B-BB08-D9E63981781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A6FA-D74B-4CB8-99FF-1C51C056E66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 ARCHITECTURE</a:t>
            </a:r>
            <a:endParaRPr b="0" lang="en-US" sz="36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rchitecture is a method to add organization and support usability of 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rchitecture helps improve discoverability, efficiency, satisfaction, consistency, and overall usability of a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te map and a clear navigation are the key components of an informatio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A3F0-8FB3-471D-8E36-3F9F0F99A1A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What is information architecture?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what users are looking for and allowing easy access to content and information is the overall goal. It’s all about ensuring that users can get what they came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als of information archite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 and label a website structure to support us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users to the content and organize information intui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print the site from a functional perspective to communicate easily with a client and a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architecture step usually falls within the structure phase of web project production, before you create wireframes, design comps, and proto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CA9A-ABA2-45E7-B259-EBC7B6EAF8B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nformation architecture best practices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the needs of the audience a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 clear purpose for th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 and assemble sit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 site content into logic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it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avig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6B16-5D54-40A0-9135-17CCB452A5D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nsider your audienc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you create an information architecture for your website, consider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the target aud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kind of user are you trying to attract to the web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73CB-7BD9-440C-A3BA-B34C6FE4838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dentify website purpos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keep the goals in mind while you’re creating the information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goals of the websi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ill attract viewers to the web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the purpose of the website influence the information architec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110D-3F97-4B73-B4D9-7780932D4E3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nventory conten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you plan to use on your website influences the information architecture. Consider the following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ntent do you already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ntent do you need to cre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ntent suitable for the site’s aud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the content help accomplish the goals of the 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ntent suitable for the site’s target screens and devi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2476-0B50-4CEB-A78D-3CD3EA31164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Assemble conten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and structure are intertw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ing content into logical groups help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clear and consistent site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the task of defining the information archite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FE41-7F71-404C-957C-86BD12979A4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reate a site map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695A-AB59-4DCE-806C-EE0136D0262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1909800" y="1022400"/>
            <a:ext cx="5268960" cy="52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Design navigation systems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navigation helps connect users with the content on your site. Navigation helps us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oriented to where they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where they need to 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get back to where they came f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o use familiar visual cues and navigational aids as users move from page to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navigation also helps your website maintain consist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A997-06BB-4AEB-862A-6AD2FCAC8F5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2-04-20T17:08:38Z</dcterms:modified>
  <cp:revision>9</cp:revision>
  <dc:subject/>
  <dc:title>INTRODUCTION TO DESIGN MOVEMENT, BALANCE, UNITY, CONTRAST, EMPHASIS, LINE, AND COLOR</dc:title>
</cp:coreProperties>
</file>