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509E-5CFE-4C82-BBA7-86A8064C4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7329-4580-46F8-8979-D9F753CC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B659-2C5F-4D1F-A7A8-E652C59E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E64A-A1D7-4CE7-A341-C97C6AFB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A6D6-1CEE-45A5-AB96-16EE12030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6F38-53A3-4435-B91B-27AEDF64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8C5C-D24E-449D-A753-4C97FBAB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2590-D04E-4C23-A6CC-7C6D9B5F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BB47-845B-44C5-971E-E626F72A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4FB5-98BB-4AC1-85DB-493B24E5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A440-92AF-4A5A-BD9E-43508D7C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67F4-1005-403A-A766-E65147E2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2A72-D2E1-424B-91E4-09360439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61AF-7507-4C84-ADE4-8FFAE260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9474-EE12-4E3C-9C64-3B32ADD8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F81D-90E4-4A1C-A8B2-7C801C82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24BF-1565-4D82-BCCE-420850EF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E242E-E575-4C21-AB22-48E315F4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0FEC6-70FC-47CB-802F-4C387ABE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935C9-7961-49FC-B078-F2AF44C2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1C681-1A98-4CD6-98EE-96ECB288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19FD7-1519-45DF-99AF-F88910C2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9FF9-9C21-4E30-AF4A-A17FBEEA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6FFFA-5B35-422C-B582-C3F58299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2AE86-B925-433A-9068-DD427923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953A7-FFDB-4C31-826E-E40EE626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ACD36-037F-4F64-B297-BB3A8199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2003A-E7E4-4A4C-95B6-357300C4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0DD04-5613-4B47-9356-B0B1B642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3A896-E8BA-44BF-B940-9DF10CBE7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559BD-F6C3-46A2-872C-8900B93A7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8D8F4-0FE8-4E79-A993-D9A65302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D910E-BE8F-4126-ABD2-58BC2C06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219F-4AED-4960-A2D1-4B2FF166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51C5E-D81A-43D5-B989-A44BF7E8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2D4F5-69D1-4B02-95D9-6BF1C900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C7622-3EDC-4B8E-BF2B-920FDE97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953D2-61B1-44D1-81E5-B3CD8103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B7045-22A5-4317-893A-B913BFA8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DC531-61ED-47D1-A5D9-F268D448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101EA-A1B8-40C1-A47C-255C19A2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E1C13-E13D-406F-A113-7648121A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3FCB3-3535-4ACF-8853-DD6DAD94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F21B-7342-4FBB-9C34-939CC199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383E-176A-4AE4-BA8F-23909B8F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ECB0-91B8-4BEB-A064-9F6AF22C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744B-DF25-4390-8534-95643999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370F-000A-4924-965A-5DDDD594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25A6-DE2E-4BB7-9116-C395A31C4D39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8" name="Picture 2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A2E2-F9D3-42A9-A863-72BE916F3E38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3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CC06-B955-457C-BF9E-1C8D6D29360E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68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69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0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1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2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3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4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78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536D-BD68-49D9-B514-F69802204286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tle 2"/>
          <p:cNvSpPr/>
          <p:nvPr/>
        </p:nvSpPr>
        <p:spPr>
          <a:xfrm>
            <a:off x="392040" y="5133240"/>
            <a:ext cx="78152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ARNING THE LANGUAGE OF THE WEB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1" name="Text Placeholder 3"/>
          <p:cNvSpPr/>
          <p:nvPr/>
        </p:nvSpPr>
        <p:spPr>
          <a:xfrm>
            <a:off x="284040" y="4251240"/>
            <a:ext cx="78152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INTRODUCTION TO HTML AND CSS</a:t>
            </a:r>
            <a:endParaRPr b="0" lang="en-US" sz="3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What is HTML?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600" y="99036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stands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68120"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b034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per</a:t>
            </a:r>
            <a:r>
              <a:rPr b="1" lang="en-US" sz="2000" spc="-1" strike="noStrike">
                <a:solidFill>
                  <a:srgbClr val="fbb034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68120"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b034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k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68120"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b034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rkup language, HTML elements are the building blocks of web p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elements use tags to structure con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80D6-72C4-43A6-9FDF-EAE643F7032D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5" name="Group 6"/>
          <p:cNvGrpSpPr/>
          <p:nvPr/>
        </p:nvGrpSpPr>
        <p:grpSpPr>
          <a:xfrm>
            <a:off x="4843440" y="1523880"/>
            <a:ext cx="3892680" cy="1897200"/>
            <a:chOff x="4843440" y="1523880"/>
            <a:chExt cx="3892680" cy="1897200"/>
          </a:xfrm>
        </p:grpSpPr>
        <p:pic>
          <p:nvPicPr>
            <p:cNvPr id="226" name="Picture 15" descr="C:\Users\Jacques\AppData\Local\Temp\SNAGHTML14496448.PNG"/>
            <p:cNvPicPr/>
            <p:nvPr/>
          </p:nvPicPr>
          <p:blipFill>
            <a:blip r:embed="rId1"/>
            <a:stretch/>
          </p:blipFill>
          <p:spPr>
            <a:xfrm>
              <a:off x="4843440" y="1523880"/>
              <a:ext cx="3892680" cy="18972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</p:pic>
        <p:sp>
          <p:nvSpPr>
            <p:cNvPr id="227" name="Straight Connector 5"/>
            <p:cNvSpPr/>
            <p:nvPr/>
          </p:nvSpPr>
          <p:spPr>
            <a:xfrm>
              <a:off x="5306400" y="2286360"/>
              <a:ext cx="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pic>
        <p:nvPicPr>
          <p:cNvPr id="228" name="Picture 11" descr="C:\Users\Jacques\AppData\Local\Temp\SNAGHTML138fd9c1.PNG"/>
          <p:cNvPicPr/>
          <p:nvPr/>
        </p:nvPicPr>
        <p:blipFill>
          <a:blip r:embed="rId2"/>
          <a:stretch/>
        </p:blipFill>
        <p:spPr>
          <a:xfrm>
            <a:off x="4506840" y="3355920"/>
            <a:ext cx="3957840" cy="2054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Tag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8240" y="9903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elements consist of ta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are enclosed by angle brackets,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ike this: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usually come in pairs,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ike this: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&lt;title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&lt;/tit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h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ve a start (or opening) and end (or clos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re not displayed in a web brow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nterpret how to display content 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the ta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0900-FFFC-4558-91D6-9A6D822DD8B9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876920" y="1143000"/>
            <a:ext cx="3886200" cy="4495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tml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ead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title&gt;&lt;/title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/head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body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1&gt;&lt;/h1&gt;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p&gt;&lt;/p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/body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/html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Tag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tml&gt;&lt;/html&gt;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cribes the web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ead&gt;&lt;/head&gt;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cribes the hea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body&gt;&lt;/body&gt;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cribes visible page con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mmon formatting ta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h1&gt;&lt;/h1&gt;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displays a heading, ranging from size 1 (biggest) to 6 (smalles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p&gt;&lt;/p&gt;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formats text as a paragra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strong&gt;&lt;/strong&gt;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bolds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em&gt;&lt;/em&gt;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mphasizes text, displays as ital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br&gt;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reates a line bre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in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a href="http://www.example.com"&gt;&lt;/a&gt;</a:t>
            </a:r>
            <a:r>
              <a:rPr b="1" lang="en-CA" sz="1700" spc="-1" strike="noStrike">
                <a:solidFill>
                  <a:srgbClr val="000000"/>
                </a:solidFill>
                <a:latin typeface="Myriad Pro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reates a link to a web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5FFF-CA95-4340-BD6E-F802BB7692CB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S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28240" y="990360"/>
            <a:ext cx="4079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S stands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b034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c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b034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b034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cribes the “look and feel” of HTML elements on a web p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separate document content (HTML) from document presentation (CS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s presentation elements such as layout, colors, and fo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E10C-1B0E-4DEF-823A-C1018BF1D1CC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39" name="Group 9"/>
          <p:cNvGrpSpPr/>
          <p:nvPr/>
        </p:nvGrpSpPr>
        <p:grpSpPr>
          <a:xfrm>
            <a:off x="4686480" y="1143000"/>
            <a:ext cx="4076640" cy="3124080"/>
            <a:chOff x="4686480" y="1143000"/>
            <a:chExt cx="4076640" cy="3124080"/>
          </a:xfrm>
        </p:grpSpPr>
        <p:pic>
          <p:nvPicPr>
            <p:cNvPr id="240" name="Picture 21" descr="C:\Users\Jacques\AppData\Local\Temp\SNAGHTML144d32dc.PNG"/>
            <p:cNvPicPr/>
            <p:nvPr/>
          </p:nvPicPr>
          <p:blipFill>
            <a:blip r:embed="rId1"/>
            <a:stretch/>
          </p:blipFill>
          <p:spPr>
            <a:xfrm>
              <a:off x="4686480" y="1143000"/>
              <a:ext cx="4076640" cy="31240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</p:pic>
        <p:sp>
          <p:nvSpPr>
            <p:cNvPr id="241" name="Rectangle 8"/>
            <p:cNvSpPr/>
            <p:nvPr/>
          </p:nvSpPr>
          <p:spPr>
            <a:xfrm>
              <a:off x="7148880" y="3581280"/>
              <a:ext cx="1522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pic>
        <p:nvPicPr>
          <p:cNvPr id="242" name="Picture 8" descr="C:\Users\Jacques\AppData\Local\Temp\SNAGHTML13db1156.PNG"/>
          <p:cNvPicPr/>
          <p:nvPr/>
        </p:nvPicPr>
        <p:blipFill>
          <a:blip r:embed="rId2"/>
          <a:stretch/>
        </p:blipFill>
        <p:spPr>
          <a:xfrm>
            <a:off x="4419720" y="4191120"/>
            <a:ext cx="3492360" cy="18129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1000"/>
              </a:srgbClr>
            </a:outerShdw>
          </a:effectLst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S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yle sheet contains a list of rules about how elements appear on a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s of a selector and a declaration blo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00ff"/>
                </a:solidFill>
                <a:latin typeface="Arial"/>
              </a:rPr>
              <a:t>Selectors</a:t>
            </a:r>
            <a:r>
              <a:rPr b="0" lang="en-CA" sz="1800" spc="-1" strike="noStrike">
                <a:solidFill>
                  <a:srgbClr val="8348b5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ell which markup elements the style applies 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 declaration block is a list of </a:t>
            </a:r>
            <a:r>
              <a:rPr b="0" lang="en-CA" sz="1800" spc="-1" strike="noStrike">
                <a:solidFill>
                  <a:srgbClr val="000099"/>
                </a:solidFill>
                <a:latin typeface="Arial"/>
              </a:rPr>
              <a:t>property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CA" sz="1800" spc="-1" strike="noStrike">
                <a:solidFill>
                  <a:srgbClr val="00b0f0"/>
                </a:solidFill>
                <a:latin typeface="Arial"/>
              </a:rPr>
              <a:t>value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pairs that define the sty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embedded inside the HTML or linked as a separate doc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A5E8-E8A4-4DD5-8C39-C73422DD50F6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380880" y="3629160"/>
            <a:ext cx="6400800" cy="259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h1 {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font-family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Verdana, Geneva, sans-serif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font-size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24px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font-weight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bold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text-transform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uppercase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color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#C00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47" name="Picture 1" descr=""/>
          <p:cNvPicPr/>
          <p:nvPr/>
        </p:nvPicPr>
        <p:blipFill>
          <a:blip r:embed="rId1"/>
          <a:stretch/>
        </p:blipFill>
        <p:spPr>
          <a:xfrm>
            <a:off x="4602240" y="4667400"/>
            <a:ext cx="4133880" cy="1552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dadde0">
                <a:alpha val="58000"/>
              </a:srgbClr>
            </a:outerShdw>
          </a:effectLst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volution of HTML and CS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28240" y="990360"/>
            <a:ext cx="56307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HTML and CSS are a collection of web standar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HTML and CSS are a set of best practices for building webs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HTML and CSS are constantly evolv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HTML5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is the fifth iteration of HTML and </a:t>
            </a: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adds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tags to support </a:t>
            </a:r>
            <a:r>
              <a:rPr b="0" lang="en-CA" sz="1800" spc="-1" strike="noStrike">
                <a:solidFill>
                  <a:srgbClr val="fbb034"/>
                </a:solidFill>
                <a:latin typeface="Myriad Pro"/>
              </a:rPr>
              <a:t>multimedia elements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and </a:t>
            </a:r>
            <a:r>
              <a:rPr b="0" lang="en-CA" sz="1800" spc="-1" strike="noStrike">
                <a:solidFill>
                  <a:srgbClr val="fbb034"/>
                </a:solidFill>
                <a:latin typeface="Myriad Pro"/>
              </a:rPr>
              <a:t>dynamic graphics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in modern web brows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CSS3</a:t>
            </a:r>
            <a:r>
              <a:rPr b="0" lang="en-US" sz="1800" spc="-1" strike="noStrike">
                <a:solidFill>
                  <a:srgbClr val="c00000"/>
                </a:solidFill>
                <a:latin typeface="Myriad Pro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defines a new set of modular rules for how HTML content will be presented within the web brow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944E-408E-47D4-B04B-2DD741389E43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51" name="Picture 7" descr="C:\Users\Jacques\Desktop\HTML5_Logo_512.png"/>
          <p:cNvPicPr/>
          <p:nvPr/>
        </p:nvPicPr>
        <p:blipFill>
          <a:blip r:embed="rId1"/>
          <a:stretch/>
        </p:blipFill>
        <p:spPr>
          <a:xfrm>
            <a:off x="6207120" y="1281240"/>
            <a:ext cx="2556000" cy="35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HTML5 best practic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HTML5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!doctype html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ell a browser how to trans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meta charset="utf-8"&gt;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ell a browser the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haracter-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Use semantic markup tags </a:t>
            </a: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article&gt;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section&gt;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eader&gt;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nav&gt;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and others to bring a higher level of structural meaning to docu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ign and test content across a range of browsers and devices that support HTML5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43BE-4425-421C-A981-6168F72FD905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55" name="Picture 1" descr="C:\Users\Jacques\Desktop\fig04.png"/>
          <p:cNvPicPr/>
          <p:nvPr/>
        </p:nvPicPr>
        <p:blipFill>
          <a:blip r:embed="rId1"/>
          <a:stretch/>
        </p:blipFill>
        <p:spPr>
          <a:xfrm>
            <a:off x="1515960" y="3809880"/>
            <a:ext cx="6112080" cy="234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3:48:30Z</dcterms:created>
  <dc:creator>Matt Niemitz</dc:creator>
  <dc:description/>
  <dc:language>en-US</dc:language>
  <cp:lastModifiedBy>Matt Niemitz</cp:lastModifiedBy>
  <dcterms:modified xsi:type="dcterms:W3CDTF">2012-04-23T00:33:55Z</dcterms:modified>
  <cp:revision>5</cp:revision>
  <dc:subject/>
  <dc:title>PowerPoint Presentation</dc:title>
</cp:coreProperties>
</file>