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C92-DB84-4BE4-8738-D211CBFE2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atomy of the storyboard can change by the specific usage. This is just one simple example for one graph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notes are at the bottom and indicate the audience and purpo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audience are any professional members of the medical community wishing to have websites designed fo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purpose of the logo is to identify my design agency as focused on the medical commu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Note that the scale is indicated. The color scheme is true to how the finished product will l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It is a play on my name and initials: G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EBF-A1C6-4CE5-874E-A5B99C47A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08D-ED44-49EA-82BC-110CDA78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B4A-750C-410E-860C-37F8B6D3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CCC-5EA3-413E-AC39-66FEAEDD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F71-707F-47DB-8496-1D2EADBA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98B-E6D6-4D31-9341-794ECBA1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5E64-BC69-4DDF-8B3F-A798CFCC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4B8C-5437-4037-A8F2-23B1668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A2DA-EF87-493F-91E4-81E73D7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80BD-EDF3-4528-B250-810F0B7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A796-CA2D-4A7F-BB12-5B87C78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591C-173E-4239-AC73-7D77487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64D-0763-421F-93A9-B0B715AE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8BA-8CB2-41EB-8A71-5D972E0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7278-973C-4D8B-90AA-56AD744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53D-13F6-47A6-89A3-FEC70107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94D0-74E0-4840-8BFB-089D47E0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16A-76D8-48C7-BB75-E1D30968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136B-09DE-4544-A56B-36E74DCF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11E6-CB69-4ADF-9E64-C89F7083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C224-1E1B-48E7-8922-184C375E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32B4-0183-4C8B-BB8B-27ED9A1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29CB-C629-4306-AEF5-09285CD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BF9-DC84-4E59-982B-F351191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6786-09BF-431D-BD9E-477E7DEC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144F-536A-4C17-93C0-5E7B5AD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54A9-54B6-4CE6-B96F-F608E8D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1FA5-F5BF-498E-BE63-9871DCB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887F-AAC6-45A5-9E19-82CA779D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87A5-3E91-4739-97DB-AAF7AFB3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A140-A43C-49D4-AAEF-DD9115B5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DFE5-37F2-49F0-80CC-A024FF91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FFDF-31DD-47BF-A5B1-F517391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F577-729F-447D-ABC1-C14BC82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07C-ACF3-4FB4-8ECB-2113347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80AA-DEF9-4316-8695-A4D8772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F7F9-730A-45C8-B4C7-8A5261AE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8483-F3FE-4FCD-94A8-231EC25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1189-F414-49DF-B52B-7A17A17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2123-2D57-4BB7-84ED-7294F34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B7E2-6EEC-4CCF-8978-F29BCF8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A246-90B7-4110-BD34-44632F5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9E46-99F6-4056-99DE-CE6BA484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5D2C-2F41-48AB-BA1F-016F212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3EB-34EA-460B-9609-4033CA0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C3B-C2BE-4001-B94F-4E09B86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DC6-B9C6-4E2D-A6C7-65D2D7D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280-5979-4558-982F-B12874E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4DC-BA25-4159-9A74-DD0ED59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344-148C-4A77-8F22-C8E9298710A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08B5-633B-488A-804B-EF2C7CBFC41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A67-159F-4778-B860-9180603A20C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F92-D4BB-4F24-91B4-331EAD77490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784400"/>
            <a:ext cx="78152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BOARDS</a:t>
            </a:r>
            <a:endParaRPr b="0" lang="en-US" sz="3200" spc="-1" strike="noStrike">
              <a:solidFill>
                <a:srgbClr val="dadde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at is a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240" y="990360"/>
            <a:ext cx="4341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oryboard is a scene-by-scene drawing of the sequence of a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ryboards tell the story visually with enough detail for developers to know what to build. 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CA9-23AC-4B64-8CB2-DA24437AF671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4" descr="Storyboard1"/>
          <p:cNvPicPr/>
          <p:nvPr/>
        </p:nvPicPr>
        <p:blipFill>
          <a:blip r:embed="rId1"/>
          <a:stretch/>
        </p:blipFill>
        <p:spPr>
          <a:xfrm>
            <a:off x="4816440" y="1219320"/>
            <a:ext cx="3373560" cy="45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Two basic types of storyboards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No action elements indicated. Used for a graphical design such as a logo or page banner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nim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Indicating action, movement, camera angles, or the passage of time. Typically used in making movies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8BD-03AB-4FBE-B984-B3C269B7BB85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Example of storyboards 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990360"/>
            <a:ext cx="2936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ple storyboard layout when multiple pages or scenes are part of the desig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1065-DF55-48A7-BCE7-68E140920D08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3471840" y="1057320"/>
            <a:ext cx="5360400" cy="5114160"/>
            <a:chOff x="3471840" y="1057320"/>
            <a:chExt cx="5360400" cy="5114160"/>
          </a:xfrm>
        </p:grpSpPr>
        <p:sp>
          <p:nvSpPr>
            <p:cNvPr id="253" name="Oval 4"/>
            <p:cNvSpPr/>
            <p:nvPr/>
          </p:nvSpPr>
          <p:spPr>
            <a:xfrm>
              <a:off x="4141800" y="2000520"/>
              <a:ext cx="1148400" cy="1435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3471840" y="1057320"/>
              <a:ext cx="5360400" cy="5114160"/>
              <a:chOff x="3471840" y="1057320"/>
              <a:chExt cx="5360400" cy="5114160"/>
            </a:xfrm>
          </p:grpSpPr>
          <p:pic>
            <p:nvPicPr>
              <p:cNvPr id="255" name="Picture 6" descr="Storyboard - Physics and Scuba"/>
              <p:cNvPicPr/>
              <p:nvPr/>
            </p:nvPicPr>
            <p:blipFill>
              <a:blip r:embed="rId1"/>
              <a:stretch/>
            </p:blipFill>
            <p:spPr>
              <a:xfrm>
                <a:off x="3471840" y="1057320"/>
                <a:ext cx="5360400" cy="511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Oval 7"/>
              <p:cNvSpPr/>
              <p:nvPr/>
            </p:nvSpPr>
            <p:spPr>
              <a:xfrm>
                <a:off x="7491960" y="1713240"/>
                <a:ext cx="861480" cy="38232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57" name="Oval 8"/>
            <p:cNvSpPr/>
            <p:nvPr/>
          </p:nvSpPr>
          <p:spPr>
            <a:xfrm>
              <a:off x="3567600" y="4297680"/>
              <a:ext cx="1052640" cy="2869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7683840" y="3914640"/>
              <a:ext cx="956880" cy="4780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6801120" y="3994200"/>
              <a:ext cx="720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Navigatio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Button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3648600" y="249480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ai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enu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3533040" y="4066200"/>
              <a:ext cx="451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Detail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7512120" y="1481760"/>
              <a:ext cx="881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Screen Name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y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and cheaper to produce and test ideas on paper before produ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to generate alternate ideas as you think of them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ive tool to check that the finished product is what it should be!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46EF-6E57-4A3C-811C-CF929DA3F9D0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10T15:26:13Z</dcterms:modified>
  <cp:revision>7</cp:revision>
  <dc:subject/>
  <dc:title>INTRODUCTION TO DESIGN MOVEMENT, BALANCE, UNITY, CONTRAST, EMPHASIS, LINE, AND COLOR</dc:title>
</cp:coreProperties>
</file>