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2F5-741C-47E4-B48B-5395379C3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mportant initial questions inform the way you structure content and information. You must create the information architecture of your site with your audience in m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9BB4-E77D-4890-B66D-3141AE1B1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site’s structure is composed of the categories and logical groups you just created. A site map serves as a bird’s-eye view of the project that enables you to see how the site is organized and how users will view the site’s content and information. The site map becomes a blueprint that shapes the structure of the site during the development process. The site map should show main areas of content and represent all the pages within each s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4582-5845-4A15-B7DF-DEC0C6D07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957-1430-4F72-BE3B-0E214AD8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0D1-6951-4393-BB79-29D306E4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F97-24CF-45F9-8C36-40CC43BC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07A-B663-40A1-B7E2-67DC30CD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0F56-E537-433A-A40B-B83D64E2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AC7A-0F8C-4BD7-B393-1E24D99B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689C-8F93-4304-9F4F-C1FCDD4D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1A94-A451-47B3-8A5B-FC15A88F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1ADD-2F22-46D8-A465-3450C74F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5B06-D427-40F4-ADCF-355FB7BD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1F72-FEAE-4B53-AF2F-0B3476E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645-3C26-4868-AED6-78A61A55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6332-4F6D-4A75-A488-636CE79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22FF-4E03-48CB-8F44-EF706D5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D417-D619-43E1-AB07-BEBE1FB7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16DC-0B67-40F3-8A87-3ADF133E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2B78-396C-416E-ADB1-D15CAE0D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305C-E70F-47E9-8114-73E2DD5B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A56E-2224-45EC-90AF-66322EBA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15CDD-0877-4885-84AE-69953DE4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C378-841E-446A-9C7D-9D2771A6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312A-4227-47D5-8443-119ADCC7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4CA-1C2F-4922-A609-19353ACC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16C8-60B1-431D-9A5D-7C20BC90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3ABD-1316-4ABA-92C9-1F363CAA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7338-7D5B-4A71-B72C-5E1B08C6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5DE9-E5DC-4FF9-B17B-71A40FE4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BC7E-A253-4BBB-8773-1CAC8C9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C827-0F23-497A-9CB7-2737CA07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43CD-E294-4A65-8A17-2709DF15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F43A-CB9E-41C6-8196-082E33B4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7877-E920-497B-BE34-3F1B536A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2E4C-B01A-4E80-893D-B6FAA402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B27-E0E7-42EA-8BEB-37C1F0E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3B7C-9765-4812-8A26-E6DB68C5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23BC-221A-426F-824B-B079C501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E2E3-778D-40DA-8DEF-51FB9024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D33D-C576-405B-8CAB-37406A3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2950C-8576-4CBD-BA5F-73A438B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394CF-F12E-4455-AA42-176D6C24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3079-8235-4E34-BC79-BF89E7A5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D083-EC92-432D-860F-560138D6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6946-24C7-44FE-A665-02AFA710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1A7-7792-42BE-9C92-09247D11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7F3-5AB7-4774-9A39-962BE1B5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913-C959-425F-8E6D-8056241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8A9-E1A3-4C05-B950-C23AAF2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B6A-A7E9-40F8-8994-572574D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39B2-C85B-4DDB-87E1-4EC5A44779B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3B0-52ED-419D-948F-3DD35B4FB67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40D9-198D-40D2-B9F5-4B80D7008C5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6CB5-58CE-4C63-8E37-35B81B69765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ARCHITECTURE</a:t>
            </a:r>
            <a:endParaRPr b="0" lang="en-US" sz="36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is a method to add organization and support usability of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helps improve discoverability, efficiency, satisfaction, consistency, and overall usability of a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te map and a clear navigation are the key components of an inform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CD3B-5180-43E3-BAF9-659798B06F0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What is information architecture?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what users are looking for and allowing easy access to content and information is the overall goal. It’s all about ensuring that users can get what they came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s of information archite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and label a website structure to support us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users to the content and organize information intui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print the site from a functional perspective to communicate easily with a client and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architecture step usually falls within the structure phase of web project production, before you create wireframes, design comps, and proto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9F46-5411-4129-BD5D-0DCA3072F33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formation architecture best practice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the needs of the audience a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 clear purpose for th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 and assemble sit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 site content into logic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it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avig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2C0A-B10D-476C-9AA1-14B15C033EC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nsider your audienc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create an information architecture for your website, conside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target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user are you trying to attract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DA39-1B37-4BB6-ADC4-F59C09F4635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dentify website purpos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keep the goals in mind while you’re creating the information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goals of the websi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attract viewers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purpose of the website influence the information architec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8F36-2B00-49B6-AD22-1A1842DF77E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ventory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you plan to use on your website influences the information architecture. Consider the following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alread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need to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content help accomplish the goals of the 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target screens and devi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F031-8C5E-429C-8C57-319A2E9C257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Assemble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and structure are intertw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ing content into logical groups hel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clear and consistent site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the task of defining the information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93DE-B345-4513-85A1-EC9A6AA9916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reate a site map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E1B1-CAB4-42FD-9742-CFC01A68042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1909800" y="1022400"/>
            <a:ext cx="5268960" cy="52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Design navigation system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helps connect users with the content on your site. Navigation helps us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oriented to where they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where they need to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get back to where they came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o use familiar visual cues and navigational aids as users move from page to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also helps your website maintain consist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49F4-EFD3-4F47-8291-8E0001A6CF8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2-04-20T17:08:38Z</dcterms:modified>
  <cp:revision>9</cp:revision>
  <dc:subject/>
  <dc:title>INTRODUCTION TO DESIGN MOVEMENT, BALANCE, UNITY, CONTRAST, EMPHASIS, LINE, AND COLOR</dc:title>
</cp:coreProperties>
</file>