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9B7-C0EB-4161-9142-6CADA1B1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F71-5C50-4E56-B698-74471B47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3C4-D701-4222-B3F3-24570696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916-860A-4375-9443-FDF5ED94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CA71-435D-4112-BBB6-D2F529A3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2C9E-3624-4572-AC37-547E17AD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873F-770A-4ACD-91A6-A639AD6E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DA2D-B0B7-4818-8421-1DF645A3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1C78-3162-4F1B-B63F-EBEDCCDC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C741-8C07-4E61-AACE-1A98E14E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36DF-DE5A-4D53-8213-D4F02134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31B-AF8B-498A-ACE1-DC37669C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48EB-89C1-4CA7-B43C-F13867CA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D00B-C9CC-4E24-8A09-F47F7C60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7140-18DD-4DC0-988F-0A8BFDE9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153C-75EE-48EC-B0B8-F1E75E4A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D712-929A-4A31-8218-2E676291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C96D-4A3A-4E68-B8B6-1BC9B664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AF73-B684-49D0-9140-FC5285A2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B0A9E-DD94-4158-AA40-9B11B122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E2AA-852C-4C35-B214-1EAF44BE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6A65-364F-4061-B9CE-BCEAA702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560-E060-430F-88A8-6FCBC9E2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A852F-45F8-44A7-A70A-942ADBCC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977D-B19B-4772-8B6C-8E61C22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E14C-D86A-46B8-9B85-0B11A263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D410-45B6-477F-B37C-3ABAF6D7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B724-FB9B-48C9-8A38-FD3FB16E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9955-819C-4769-AD08-1A102B0D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4E5C-E644-4CCA-8764-7F375A62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964B1-365E-4740-85B3-DB09E1DB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87B69-D8AF-4821-BDEB-4D49CB3A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B8E4C-E212-47F9-9F3D-64D7DF82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6C6-D96A-4CF7-AA47-3E30C4B0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3B035-D8F2-4345-B44C-1EC31779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D33D-0D6C-40D5-B9C7-3BD76BE7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59E6-91D4-4E26-8074-F73B2100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18EA-2A8B-4631-9BF2-96948575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FB35-E1B8-4456-82F4-536F9CAA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1CFA8-0CF6-43CA-AF09-D12C0227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B4BB9-114B-46B8-9FC1-D7766ABE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EAB9-302C-4233-9A47-82B75B95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E190-FD36-4798-8624-0302883D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413-EC7F-41CF-A5CC-E9A1BD28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AE5-DD9B-4E17-9D27-DBFFBE05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A17-6A35-471A-8475-984E4DD0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49A-1637-4391-9712-F7BD24B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DC6-C315-482B-8774-2657A267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7614-407A-4A77-B407-0EA14DEF217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C884-DED8-41BD-A5EE-B048FFF8494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13F8-2866-4250-8876-65B89AE3EF9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B5CC-4875-426F-A279-BF114E66E89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2"/>
          <p:cNvSpPr/>
          <p:nvPr/>
        </p:nvSpPr>
        <p:spPr>
          <a:xfrm>
            <a:off x="392040" y="5133240"/>
            <a:ext cx="78152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THE LANGUAGE OF THE WE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Text Placeholder 3"/>
          <p:cNvSpPr/>
          <p:nvPr/>
        </p:nvSpPr>
        <p:spPr>
          <a:xfrm>
            <a:off x="284040" y="4251240"/>
            <a:ext cx="7815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HTML AND CSS</a:t>
            </a:r>
            <a:endParaRPr b="0" lang="en-US" sz="3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What is HTML?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903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per</a:t>
            </a: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68120"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034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kup language, HTML elements are the building blocks of web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use tags to struc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D55D-084B-4223-BD7F-895049E1955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4843440" y="1523880"/>
            <a:ext cx="3892680" cy="1897200"/>
            <a:chOff x="4843440" y="1523880"/>
            <a:chExt cx="3892680" cy="1897200"/>
          </a:xfrm>
        </p:grpSpPr>
        <p:pic>
          <p:nvPicPr>
            <p:cNvPr id="226" name="Picture 15" descr="C:\Users\Jacques\AppData\Local\Temp\SNAGHTML14496448.PNG"/>
            <p:cNvPicPr/>
            <p:nvPr/>
          </p:nvPicPr>
          <p:blipFill>
            <a:blip r:embed="rId1"/>
            <a:stretch/>
          </p:blipFill>
          <p:spPr>
            <a:xfrm>
              <a:off x="4843440" y="1523880"/>
              <a:ext cx="3892680" cy="189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27" name="Straight Connector 5"/>
            <p:cNvSpPr/>
            <p:nvPr/>
          </p:nvSpPr>
          <p:spPr>
            <a:xfrm>
              <a:off x="5306400" y="228636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28" name="Picture 11" descr="C:\Users\Jacques\AppData\Local\Temp\SNAGHTML138fd9c1.PNG"/>
          <p:cNvPicPr/>
          <p:nvPr/>
        </p:nvPicPr>
        <p:blipFill>
          <a:blip r:embed="rId2"/>
          <a:stretch/>
        </p:blipFill>
        <p:spPr>
          <a:xfrm>
            <a:off x="4506840" y="3355920"/>
            <a:ext cx="3957840" cy="20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elements consist of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are enclosed by angle bracket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usually come in pairs,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ke this: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title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e a start (or opening) and end (or clos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not displayed in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pret how to display content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he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CD75-B8E0-47CA-8EED-ED941099706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876920" y="1143000"/>
            <a:ext cx="38862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title&gt;&lt;/title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1&gt;&lt;/h1&gt;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p&gt;&lt;/p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	</a:t>
            </a: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22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ag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tml&gt;&lt;/html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web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&gt;&lt;/head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body&gt;&lt;/body&gt;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visible pag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on formatting t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h1&gt;&lt;/h1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plays a heading, ranging from size 1 (biggest) to 6 (small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p&gt;&lt;/p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mats text as a para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strong&gt;&lt;/strong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lds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em&gt;&lt;/em&gt;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mphasizes text, displays as ital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99"/>
                </a:solidFill>
                <a:latin typeface="Myriad Pro"/>
                <a:ea typeface="Courier New"/>
              </a:rPr>
              <a:t>&lt;br&gt;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e br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 href="http://www.example.com"&gt;&lt;/a&gt;</a:t>
            </a:r>
            <a:r>
              <a:rPr b="1" lang="en-CA" sz="17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eates a link to a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FCBA-5653-45AF-89FE-946DA4D8EBD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9903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 stand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b034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cribes the “look and feel” of HTML elements on a 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eparate document content (HTML) from document presentation (C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presentation elements such as layout, colors, and fo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587F-A403-44FD-875B-5DDA021DF8A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4686480" y="1143000"/>
            <a:ext cx="4076640" cy="3124080"/>
            <a:chOff x="4686480" y="1143000"/>
            <a:chExt cx="4076640" cy="3124080"/>
          </a:xfrm>
        </p:grpSpPr>
        <p:pic>
          <p:nvPicPr>
            <p:cNvPr id="240" name="Picture 21" descr="C:\Users\Jacques\AppData\Local\Temp\SNAGHTML144d32dc.PNG"/>
            <p:cNvPicPr/>
            <p:nvPr/>
          </p:nvPicPr>
          <p:blipFill>
            <a:blip r:embed="rId1"/>
            <a:stretch/>
          </p:blipFill>
          <p:spPr>
            <a:xfrm>
              <a:off x="4686480" y="1143000"/>
              <a:ext cx="4076640" cy="31240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241" name="Rectangle 8"/>
            <p:cNvSpPr/>
            <p:nvPr/>
          </p:nvSpPr>
          <p:spPr>
            <a:xfrm>
              <a:off x="7148880" y="3581280"/>
              <a:ext cx="15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pic>
        <p:nvPicPr>
          <p:cNvPr id="242" name="Picture 8" descr="C:\Users\Jacques\AppData\Local\Temp\SNAGHTML13db1156.PNG"/>
          <p:cNvPicPr/>
          <p:nvPr/>
        </p:nvPicPr>
        <p:blipFill>
          <a:blip r:embed="rId2"/>
          <a:stretch/>
        </p:blipFill>
        <p:spPr>
          <a:xfrm>
            <a:off x="4419720" y="4191120"/>
            <a:ext cx="3492360" cy="1812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yle sheet contains a list of rules about how elements appear on a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elector and a declaration b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ff"/>
                </a:solidFill>
                <a:latin typeface="Arial"/>
              </a:rPr>
              <a:t>Selectors</a:t>
            </a:r>
            <a:r>
              <a:rPr b="0" lang="en-CA" sz="1800" spc="-1" strike="noStrike">
                <a:solidFill>
                  <a:srgbClr val="8348b5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which markup elements the style applies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declaration block is a list of </a:t>
            </a:r>
            <a:r>
              <a:rPr b="0" lang="en-CA" sz="1800" spc="-1" strike="noStrike">
                <a:solidFill>
                  <a:srgbClr val="000099"/>
                </a:solidFill>
                <a:latin typeface="Arial"/>
              </a:rPr>
              <a:t>proper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b0f0"/>
                </a:solidFill>
                <a:latin typeface="Arial"/>
              </a:rPr>
              <a:t>valu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airs that define the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mbedded inside the HTML or linked as a separat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C860-E0C2-47E4-92C0-04D52A86D01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629160"/>
            <a:ext cx="6400800" cy="259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h1 {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family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Verdana, Geneva, sans-serif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siz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24px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font-weight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bold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text-transform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uppercase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	</a:t>
            </a:r>
            <a:r>
              <a:rPr b="1" lang="en-CA" sz="1600" spc="-1" strike="noStrike">
                <a:solidFill>
                  <a:srgbClr val="001e7e"/>
                </a:solidFill>
                <a:latin typeface="Courier New"/>
                <a:ea typeface="Courier New"/>
              </a:rPr>
              <a:t>color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:</a:t>
            </a:r>
            <a:r>
              <a:rPr b="1" lang="en-CA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CA" sz="1600" spc="-1" strike="noStrike">
                <a:solidFill>
                  <a:srgbClr val="00b0f0"/>
                </a:solidFill>
                <a:latin typeface="Courier New"/>
                <a:ea typeface="Courier New"/>
              </a:rPr>
              <a:t>#C00</a:t>
            </a: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115092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CA" sz="1600" spc="-1" strike="noStrike">
                <a:solidFill>
                  <a:srgbClr val="ff00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02240" y="4667400"/>
            <a:ext cx="4133880" cy="155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adde0">
                <a:alpha val="58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volution of HTML and CS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240" y="990360"/>
            <a:ext cx="563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collection of web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a set of best practices for building web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HTML and CSS are constantly evolv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HTML5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s the fifth iteration of HTML and </a:t>
            </a: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add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tags to support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multimedia element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and </a:t>
            </a:r>
            <a:r>
              <a:rPr b="0" lang="en-CA" sz="1800" spc="-1" strike="noStrike">
                <a:solidFill>
                  <a:srgbClr val="fbb034"/>
                </a:solidFill>
                <a:latin typeface="Myriad Pro"/>
              </a:rPr>
              <a:t>dynamic graphics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in modern web brow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spcBef>
                <a:spcPts val="1125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CSS3</a:t>
            </a:r>
            <a:r>
              <a:rPr b="0" lang="en-US" sz="1800" spc="-1" strike="noStrike">
                <a:solidFill>
                  <a:srgbClr val="c00000"/>
                </a:solidFill>
                <a:latin typeface="Myriad Pro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Myriad Pro"/>
              </a:rPr>
              <a:t>defines a new set of modular rules for how HTML content will be presented within the web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CF1D-AA2D-4B2A-B783-CB4BB015DC9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Picture 7" descr="C:\Users\Jacques\Desktop\HTML5_Logo_512.png"/>
          <p:cNvPicPr/>
          <p:nvPr/>
        </p:nvPicPr>
        <p:blipFill>
          <a:blip r:embed="rId1"/>
          <a:stretch/>
        </p:blipFill>
        <p:spPr>
          <a:xfrm>
            <a:off x="6207120" y="1281240"/>
            <a:ext cx="2556000" cy="35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HTML5 best practic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TML5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!doctype html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how to trans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meta charset="utf-8"&gt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ell a browser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haracter-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semantic markup tags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article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section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header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CA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&lt;nav&gt;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others to bring a higher level of structural meaning to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250"/>
              </a:spcBef>
              <a:buClr>
                <a:srgbClr val="fbb03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sign and test content across a range of browsers and devices that support HTML5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CC9F-C088-4C38-BE20-60216EF35C1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5" name="Picture 1" descr="C:\Users\Jacques\Desktop\fig04.png"/>
          <p:cNvPicPr/>
          <p:nvPr/>
        </p:nvPicPr>
        <p:blipFill>
          <a:blip r:embed="rId1"/>
          <a:stretch/>
        </p:blipFill>
        <p:spPr>
          <a:xfrm>
            <a:off x="1515960" y="3809880"/>
            <a:ext cx="611208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48:30Z</dcterms:created>
  <dc:creator>Matt Niemitz</dc:creator>
  <dc:description/>
  <dc:language>en-US</dc:language>
  <cp:lastModifiedBy>Matt Niemitz</cp:lastModifiedBy>
  <dcterms:modified xsi:type="dcterms:W3CDTF">2012-04-23T00:33:55Z</dcterms:modified>
  <cp:revision>5</cp:revision>
  <dc:subject/>
  <dc:title>PowerPoint Presentation</dc:title>
</cp:coreProperties>
</file>