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E7C2-09B8-41A8-B2B8-7C70E4EE0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3E56-4B57-4160-8B10-56F380CE3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110960" y="4571640"/>
            <a:ext cx="483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BBB3-DB24-43CA-9B1D-4E3E5046C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262160" y="4647960"/>
            <a:ext cx="46814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C6AE-6303-4E59-8E8B-66A9A1C5C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C74F-EF02-44EF-B64D-97237758F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1036800" y="4722840"/>
            <a:ext cx="4906800" cy="37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if they can think of other types of balance: texture and no texture (smooth), size and scale, elements of a compos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3982-E7F5-4B88-A349-33C2FA64A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6166-10CC-4D6E-82AC-104E47A6B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88AF-3E75-476C-8083-B1B08EBC3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ctangle has three lines of symmetry: Horizontal (blue), Vertical (red), Diagonal (yell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angle has only one line of symmetry: center or, in this orientation, Vertical. You can draw two other lines of symmetry from any of the vertices to the center of the opposite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3229-BA41-4255-B28E-E04753049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949B-DD9A-4665-9C9F-24647B4A6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1155-8BF2-4B8E-A87D-082BFFBF0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05F2-1635-4002-9D10-FB3B6C432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B4E6-BF96-4D1B-9CEE-06780ABE3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CCF1-7D5F-4D2C-9258-D89CDFE56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1BFD-8F32-4508-8018-FAE3C76B0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110960" y="4647960"/>
            <a:ext cx="4832280" cy="381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EF8D-584D-4BF5-AA97-C5353566F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CE54-9F2D-4475-8ECA-70F13418B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5072-2080-4989-BB2E-9E7E6330B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036800" y="4647960"/>
            <a:ext cx="4906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C7D6-09F3-44FD-A0C8-AA27C600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B3F8-8994-427C-96FF-829B0A05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FB4F-B97A-4C5F-BE39-53A53A62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7A87-A443-43C3-A7CB-F533C487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F21B-36A6-4C6B-9ACA-3A06F72E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52B1-3249-4A8A-9A8F-5C0825E0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3498-348E-4075-A1DA-3D780D36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BE17-000E-4CE4-BB9E-911BC92F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48C5-D829-4E80-8116-1503A231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B519-EB51-4DF3-A9FD-FE7169DF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79F3-E535-4B3C-8B5B-61BCBB84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D504-69CF-4DC6-9EB0-A8DF2AD4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0AA3-55D7-4025-BBAE-66FEFD96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AD53-3F7C-44EF-8713-92E49C6D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8781-2AD8-4820-A509-674D15E3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9E34-7BEA-4997-AFA5-71E5CB71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8B4A-42BE-4881-9B2D-DAA77E84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D3F90-4CD6-4CB3-B164-C6A4478B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5AD0A-06CD-4349-A335-C57E7BDD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B3366-DC63-4B77-994D-3E861A21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326E7-65E4-456D-B0A9-AEED3694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C7F31-B246-45FB-A9CC-9F608AE2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767D-CE3A-4658-B8F3-F0AFD83A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B6FB0-D0A6-42DA-B63B-F2F98CB2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34A1C-9C51-4C2B-BB8E-6A117DD7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755E7-1E73-4264-9F82-FDE6EF8A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FA1E0-3BF4-43DA-8E96-AB908013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DCA52-F7E4-4AAF-ADDA-0776B7EA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C3249-5829-448F-83DE-5ACC85BC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33FCB-55AF-48ED-AC9A-C5E01AB4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EF3B7-2784-44E2-9269-DEFB73E7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7045E-3FFF-47AD-80AC-4CCE55DB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A9220-5731-41E6-9D6C-3CD969AD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DFCF-388F-467E-B674-D85ACD74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81BEA-5E6C-4DCB-8862-E845845E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7A027-C454-417A-8313-14A0BEAA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54B27-FCDE-489D-B072-70748FAC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2C539-043D-41C0-8AFE-53FFFF20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1D302-7367-4611-B6C0-C34153AF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538A3-7835-43DD-9120-5C63A16A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E165D-B565-4C79-83FD-48CC484E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9028E-C5EC-46DA-91CB-C09FC6D5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DBECD-E552-4B7C-949C-48819721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1D0573-C588-4CF2-B428-6AC2C6B21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36B-B216-4909-B988-B6CF366C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A9C947-261B-4DFA-ACD8-449401C98AA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0D365F-0D6A-4670-B436-A8FA714A2E5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5324C2-B416-43A9-8373-A8B7F14F2CC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AACDA6-67C4-4D3E-8B45-E23B520B2F0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EF43B3-D75D-4021-9D71-A6537E1DD26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56157C-DA1C-4A8D-A897-68F66935437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314FF6-36A1-4ECC-8077-FFA0DD4EBAD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053B67-8CB0-4EE4-9216-64230A9279C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B8A95C-0BD7-44AC-B5F2-42043356D0F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7805E6-7358-4F81-A5B0-3AC77BEFD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6EFF-E706-4D8F-BC8C-02A5EBF2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066FD3-FB43-4257-900E-16EDA7C12DB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E39EDE-9D43-467A-9C05-AB4C5D64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FB25C9-404A-44DF-B88C-E3F07588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A34BD0-5BCF-4FB2-94CC-0236F202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85615D-EE00-472E-B0AC-7C6E200D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6E246D-1AF2-40E3-BF1A-EED95D7A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B1C27A-5158-4F44-80C4-8008656B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DF94F7-C2B6-4AA1-83BF-B753ED2B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96A5E9-077E-4692-8338-E97843B0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1A8F95-E5CC-4359-BB4A-5097AEC6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0001-A2CD-49A5-AF53-6F29BE6F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2C64EF-FFF9-4A1A-9B9A-7AF57A04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8B9ACB-3FC1-46BA-93C5-28D43709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7B9CDB-EF7F-4587-842C-7DB9563F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2051B4-CCDB-457C-9320-03476216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9C3CD4-5B3F-42AC-A8AC-0B0FD2E4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34363F-6EC8-4300-967C-EDF491F7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9057E8-E3DB-4987-972C-F86E1E1E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DA64CE-5359-4BC3-8251-6DA3668E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49FA4D-2978-4602-88FD-2B46E12A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477C85-1631-40D8-8532-A2FABD63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CD03-2E55-458D-8C36-1EE84DC3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F5B3AB-9740-42E4-B4A6-5100537A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031761-9951-453E-B414-CF6F30CF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96011C-F722-4AC6-88D6-FB01D5B3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BBC852-C224-4BFF-AF6D-22703400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F42D72-8A4F-4BA8-B476-9CA323C7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EE81-1C94-492D-9563-B54C09D9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AF82-7CE6-4FB9-A241-C08A1D3183FB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0" y="0"/>
            <a:ext cx="9144000" cy="129708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9" name="Picture 21" descr="adobe_logo_tab_top_78.png"/>
          <p:cNvPicPr/>
          <p:nvPr/>
        </p:nvPicPr>
        <p:blipFill>
          <a:blip r:embed="rId2"/>
          <a:stretch/>
        </p:blipFill>
        <p:spPr>
          <a:xfrm>
            <a:off x="480960" y="0"/>
            <a:ext cx="411120" cy="68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Adobe_Red-3_crop_4x3.png"/>
          <p:cNvPicPr/>
          <p:nvPr/>
        </p:nvPicPr>
        <p:blipFill>
          <a:blip r:embed="rId3"/>
          <a:stretch/>
        </p:blipFill>
        <p:spPr>
          <a:xfrm>
            <a:off x="0" y="2467080"/>
            <a:ext cx="9144000" cy="397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3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72" name="Picture 19" descr="C:\Users\Jacques\Desktop\untitled folder\Adobe_Green_1920x1430.jpg"/>
          <p:cNvPicPr/>
          <p:nvPr/>
        </p:nvPicPr>
        <p:blipFill>
          <a:blip r:embed="rId4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BC59-1F63-4A79-B140-3FC9F8D163D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7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A34B-B2FB-4E9B-80F6-4FAD6EDC8583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7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7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83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6D15-3E3F-4972-B13C-E2C33BA5E104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30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6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7A48-DDE8-4A62-8790-966FD4B7F14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81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282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3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4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5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6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7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8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89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91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06EB-D28B-48DA-BB63-4EF53F6F22A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5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3 Adobe Systems Incorporated.  All Rights Reserved.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36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337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3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4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345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346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07CF-0F7B-429C-8EC2-FBCE8EF1ED44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ighthouse.org/color_contrast.htm" TargetMode="External"/><Relationship Id="rId2" Type="http://schemas.openxmlformats.org/officeDocument/2006/relationships/hyperlink" Target="http://kuler.adobe.com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468360" y="6689160"/>
            <a:ext cx="2580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96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397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398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399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0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1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2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3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4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5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6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407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408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147920"/>
            <a:ext cx="811872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TO DESIGN PRINCIP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, BALANCE, UNITY, CONTRAST, EMPHASIS, LINE, AND COLOR</a:t>
            </a:r>
            <a:endParaRPr b="0" lang="en-US" sz="32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principl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inciples are ways in which elements are us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F12D-F465-43CC-A6CA-463D1F3EA7B0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Movement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Move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use of lines, color, and repetition to create the illusion of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ed forms or 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tition of geometric for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zzy lines or ou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81E3-6789-41CC-9BF1-B9A7CB11B3E0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5" name="Rectangle 9"/>
          <p:cNvSpPr/>
          <p:nvPr/>
        </p:nvSpPr>
        <p:spPr>
          <a:xfrm rot="20341200">
            <a:off x="8132760" y="2009520"/>
            <a:ext cx="735120" cy="798480"/>
          </a:xfrm>
          <a:prstGeom prst="rect">
            <a:avLst/>
          </a:prstGeom>
          <a:solidFill>
            <a:srgbClr val="ffcfb8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6" name="Rectangle 1"/>
          <p:cNvSpPr/>
          <p:nvPr/>
        </p:nvSpPr>
        <p:spPr>
          <a:xfrm rot="1127400">
            <a:off x="7686720" y="2388960"/>
            <a:ext cx="966600" cy="1049040"/>
          </a:xfrm>
          <a:prstGeom prst="rect">
            <a:avLst/>
          </a:prstGeom>
          <a:solidFill>
            <a:srgbClr val="ffa07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7" name="Rectangle 6"/>
          <p:cNvSpPr/>
          <p:nvPr/>
        </p:nvSpPr>
        <p:spPr>
          <a:xfrm rot="20088000">
            <a:off x="6481800" y="2495160"/>
            <a:ext cx="1314360" cy="1430280"/>
          </a:xfrm>
          <a:prstGeom prst="rect">
            <a:avLst/>
          </a:prstGeom>
          <a:solidFill>
            <a:srgbClr val="d9866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8" name="Rectangle 7"/>
          <p:cNvSpPr/>
          <p:nvPr/>
        </p:nvSpPr>
        <p:spPr>
          <a:xfrm rot="1096800">
            <a:off x="5881680" y="3477960"/>
            <a:ext cx="1738440" cy="1888920"/>
          </a:xfrm>
          <a:prstGeom prst="rect">
            <a:avLst/>
          </a:prstGeom>
          <a:solidFill>
            <a:srgbClr val="e8723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9" name="Rectangle 5"/>
          <p:cNvSpPr/>
          <p:nvPr/>
        </p:nvSpPr>
        <p:spPr>
          <a:xfrm rot="20703600">
            <a:off x="4134960" y="3581280"/>
            <a:ext cx="1998720" cy="2171880"/>
          </a:xfrm>
          <a:prstGeom prst="rect">
            <a:avLst/>
          </a:prstGeom>
          <a:solidFill>
            <a:srgbClr val="da49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60" name="Rectangle 8"/>
          <p:cNvSpPr/>
          <p:nvPr/>
        </p:nvSpPr>
        <p:spPr>
          <a:xfrm rot="3298800">
            <a:off x="2686320" y="3222000"/>
            <a:ext cx="2377800" cy="2400480"/>
          </a:xfrm>
          <a:prstGeom prst="rect">
            <a:avLst/>
          </a:prstGeom>
          <a:gradFill rotWithShape="0">
            <a:gsLst>
              <a:gs pos="0">
                <a:srgbClr val="af2900"/>
              </a:gs>
              <a:gs pos="100000">
                <a:srgbClr val="811d00"/>
              </a:gs>
            </a:gsLst>
            <a:lin ang="2100000"/>
          </a:gradFill>
          <a:ln w="9360">
            <a:solidFill>
              <a:srgbClr val="993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cxnSp>
        <p:nvCxnSpPr>
          <p:cNvPr id="461" name="Curved Connector 10"/>
          <p:cNvCxnSpPr/>
          <p:nvPr/>
        </p:nvCxnSpPr>
        <p:spPr>
          <a:xfrm flipV="1" rot="10800000">
            <a:off x="7314480" y="2128320"/>
            <a:ext cx="1662840" cy="1231200"/>
          </a:xfrm>
          <a:prstGeom prst="curvedConnector5">
            <a:avLst>
              <a:gd name="adj1" fmla="val 50000"/>
              <a:gd name="adj2" fmla="val 49985"/>
              <a:gd name="adj3" fmla="val 50000"/>
            </a:avLst>
          </a:prstGeom>
          <a:ln w="19080">
            <a:solidFill>
              <a:srgbClr val="ffc000"/>
            </a:solidFill>
            <a:prstDash val="lgDash"/>
            <a:miter/>
          </a:ln>
        </p:spPr>
      </p:cxnSp>
      <p:cxnSp>
        <p:nvCxnSpPr>
          <p:cNvPr id="462" name="Curved Connector 25"/>
          <p:cNvCxnSpPr/>
          <p:nvPr/>
        </p:nvCxnSpPr>
        <p:spPr>
          <a:xfrm flipV="1" rot="10800000">
            <a:off x="6492240" y="3382560"/>
            <a:ext cx="1664280" cy="151056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57240">
            <a:solidFill>
              <a:srgbClr val="ffc000"/>
            </a:solidFill>
            <a:prstDash val="lgDash"/>
            <a:miter/>
          </a:ln>
        </p:spPr>
      </p:cxnSp>
      <p:cxnSp>
        <p:nvCxnSpPr>
          <p:cNvPr id="463" name="Curved Connector 41"/>
          <p:cNvCxnSpPr/>
          <p:nvPr/>
        </p:nvCxnSpPr>
        <p:spPr>
          <a:xfrm rot="10800000">
            <a:off x="3276000" y="3656880"/>
            <a:ext cx="3427920" cy="146772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76320">
            <a:solidFill>
              <a:srgbClr val="ffc000"/>
            </a:solidFill>
            <a:prstDash val="lgDash"/>
            <a:miter/>
          </a:ln>
        </p:spPr>
      </p:cxnSp>
      <p:cxnSp>
        <p:nvCxnSpPr>
          <p:cNvPr id="464" name="Curved Connector 46"/>
          <p:cNvCxnSpPr/>
          <p:nvPr/>
        </p:nvCxnSpPr>
        <p:spPr>
          <a:xfrm rot="5400000">
            <a:off x="5631120" y="2621520"/>
            <a:ext cx="2143800" cy="177696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38160">
            <a:solidFill>
              <a:srgbClr val="ffc000"/>
            </a:solidFill>
            <a:prstDash val="lgDash"/>
            <a:miter/>
          </a:ln>
        </p:spPr>
      </p:cxnSp>
      <p:cxnSp>
        <p:nvCxnSpPr>
          <p:cNvPr id="465" name="Curved Connector 50"/>
          <p:cNvCxnSpPr/>
          <p:nvPr/>
        </p:nvCxnSpPr>
        <p:spPr>
          <a:xfrm flipV="1" rot="16200000">
            <a:off x="4270320" y="2774520"/>
            <a:ext cx="603720" cy="4388040"/>
          </a:xfrm>
          <a:prstGeom prst="curvedConnector5">
            <a:avLst>
              <a:gd name="adj1" fmla="val -37828"/>
              <a:gd name="adj2" fmla="val 28265"/>
              <a:gd name="adj3" fmla="val -37828"/>
            </a:avLst>
          </a:prstGeom>
          <a:ln w="98280">
            <a:solidFill>
              <a:srgbClr val="ffc000"/>
            </a:solidFill>
            <a:prstDash val="lgDash"/>
            <a:miter/>
          </a:ln>
        </p:spPr>
      </p:cxn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28600" y="990360"/>
            <a:ext cx="43401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indicate motion or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DC70-2DBB-445D-9DFC-62AA6AE9D87E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Balanc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ct of comparing or estimating two things, one against the other, and the contrast betwe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space (white space) and fille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and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and no colors and differen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s against flat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B1BE-1189-4D6B-9CAF-1D040619D978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3" name="Straight Connector 4"/>
          <p:cNvSpPr/>
          <p:nvPr/>
        </p:nvSpPr>
        <p:spPr>
          <a:xfrm>
            <a:off x="685800" y="4495680"/>
            <a:ext cx="8153280" cy="0"/>
          </a:xfrm>
          <a:prstGeom prst="line">
            <a:avLst/>
          </a:prstGeom>
          <a:ln w="38160">
            <a:solidFill>
              <a:srgbClr val="00a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74" name="Isosceles Triangle 5"/>
          <p:cNvSpPr/>
          <p:nvPr/>
        </p:nvSpPr>
        <p:spPr>
          <a:xfrm>
            <a:off x="5545080" y="4529160"/>
            <a:ext cx="1447920" cy="1417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556e2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75" name="Oval 6"/>
          <p:cNvGrpSpPr/>
          <p:nvPr/>
        </p:nvGrpSpPr>
        <p:grpSpPr>
          <a:xfrm>
            <a:off x="652320" y="3913200"/>
            <a:ext cx="640080" cy="639720"/>
            <a:chOff x="652320" y="3913200"/>
            <a:chExt cx="640080" cy="639720"/>
          </a:xfrm>
        </p:grpSpPr>
        <p:pic>
          <p:nvPicPr>
            <p:cNvPr id="476" name="Oval 6" descr=""/>
            <p:cNvPicPr/>
            <p:nvPr/>
          </p:nvPicPr>
          <p:blipFill>
            <a:blip r:embed="rId2"/>
            <a:stretch/>
          </p:blipFill>
          <p:spPr>
            <a:xfrm>
              <a:off x="652320" y="3913200"/>
              <a:ext cx="640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757080" y="4019400"/>
              <a:ext cx="3780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grpSp>
        <p:nvGrpSpPr>
          <p:cNvPr id="478" name="Oval 7"/>
          <p:cNvGrpSpPr/>
          <p:nvPr/>
        </p:nvGrpSpPr>
        <p:grpSpPr>
          <a:xfrm>
            <a:off x="7669080" y="3328920"/>
            <a:ext cx="1249560" cy="1224000"/>
            <a:chOff x="7669080" y="3328920"/>
            <a:chExt cx="1249560" cy="1224000"/>
          </a:xfrm>
        </p:grpSpPr>
        <p:pic>
          <p:nvPicPr>
            <p:cNvPr id="479" name="Oval 7" descr=""/>
            <p:cNvPicPr/>
            <p:nvPr/>
          </p:nvPicPr>
          <p:blipFill>
            <a:blip r:embed="rId3"/>
            <a:stretch/>
          </p:blipFill>
          <p:spPr>
            <a:xfrm>
              <a:off x="7669080" y="3328920"/>
              <a:ext cx="1249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7862760" y="3516480"/>
              <a:ext cx="809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Balance in compositio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hree different types of balance when using color, shape, and 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l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6DE6-0BF5-4B50-B4F9-D32644BA1418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or form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ually identify at least one of three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lines of symme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a900"/>
                </a:solidFill>
                <a:latin typeface="Arial"/>
              </a:rPr>
              <a:t>Di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F0A3-6604-4644-BA82-47E6E7BFBFC8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79000" y="179280"/>
            <a:ext cx="856476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0F50-7F07-4ABE-B483-7F75F934D048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3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B72B-6780-4FCB-880B-9ABDD0991B48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4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asymmetric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97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3F84-8027-4B91-8AD9-B9FFC26C9D5B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xamples of radial balanc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1" name="Slide Number Placeholder 2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85CF-34AA-4105-9BCC-F03A2C2BC073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Design element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Design elemen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 building blocks of graph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F724-1C71-4110-92CD-E8445AF9944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124080" y="2209680"/>
            <a:ext cx="5486400" cy="3657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4" name="Straight Connector 9"/>
          <p:cNvSpPr/>
          <p:nvPr/>
        </p:nvSpPr>
        <p:spPr>
          <a:xfrm flipV="1">
            <a:off x="2209680" y="1752120"/>
            <a:ext cx="6248520" cy="284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5" name="Oval 10"/>
          <p:cNvSpPr/>
          <p:nvPr/>
        </p:nvSpPr>
        <p:spPr>
          <a:xfrm>
            <a:off x="6200640" y="2666880"/>
            <a:ext cx="2210040" cy="2743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16" name="5-Point Star 11"/>
          <p:cNvGrpSpPr/>
          <p:nvPr/>
        </p:nvGrpSpPr>
        <p:grpSpPr>
          <a:xfrm>
            <a:off x="3889440" y="2895480"/>
            <a:ext cx="3529080" cy="3310200"/>
            <a:chOff x="3889440" y="2895480"/>
            <a:chExt cx="3529080" cy="3310200"/>
          </a:xfrm>
        </p:grpSpPr>
        <p:pic>
          <p:nvPicPr>
            <p:cNvPr id="417" name="5-Point Star 11" descr=""/>
            <p:cNvPicPr/>
            <p:nvPr/>
          </p:nvPicPr>
          <p:blipFill>
            <a:blip r:embed="rId2"/>
            <a:stretch/>
          </p:blipFill>
          <p:spPr>
            <a:xfrm>
              <a:off x="3889440" y="2895480"/>
              <a:ext cx="3529080" cy="33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649200">
              <a:off x="4982760" y="4154040"/>
              <a:ext cx="114480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Unit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28600" y="990360"/>
            <a:ext cx="437976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U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correct balance of composition or color that produces a harmonious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focus of the mess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7565-E8E7-4AEB-BAC3-B8989932BFC5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Emphasi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mpha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o express with  particular stress or fo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essage is stressed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CD01-7A4E-47C4-9565-D9C3B64110B5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s of good design is use of design elements and their thoughtful application in the form of design princi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identify what you are trying to accomplish — use design to convey your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instorm altern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6E3C-C5D7-43FE-9E3A-8DD81CE17DEC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Lin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28240" y="9903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straight or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lines used in the composition on this s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41C5-7187-4131-A080-5D17F40AC6A1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definition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other word for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hr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intensity or purity of co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wh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g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lor mixed with bl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b034"/>
                </a:solidFill>
                <a:latin typeface="Arial"/>
              </a:rPr>
              <a:t>Bright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quantity of light r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ewer's ey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6587-138C-4062-82F2-50E4DBA69B6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1"/>
          <a:stretch/>
        </p:blipFill>
        <p:spPr>
          <a:xfrm>
            <a:off x="5091120" y="1828800"/>
            <a:ext cx="350676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olor and contras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28600" y="990360"/>
            <a:ext cx="420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olor can enhance or detract from a composition.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lighthouse.org/color_contras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wheels help determine which colors are in greatest contr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012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34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dobe Kuler to try out new color sche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kuler.adobe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1D27-1B8C-404B-9865-A1925C20FEF3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wheel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28600" y="990360"/>
            <a:ext cx="434808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Analogous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adjacent to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Complementary col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opposite each other on the color wh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09AA-3073-48F3-BDD8-CCDEFD173CB7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Color in design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label or show 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represent or imitate re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unify, separate, or empha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to deco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consist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2905-4CDB-4D6F-AE99-A087E43B92DE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4194000" y="2743200"/>
            <a:ext cx="445644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Shapes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28600" y="99036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ha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enclosed objects that can be created by line or created by color and value changes that define their ed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F9CC-7262-459F-A6A9-D3EDAFA0F225}" type="slidenum">
              <a:rPr b="1" lang="en-US" sz="800" spc="-1" strike="noStrike">
                <a:solidFill>
                  <a:srgbClr val="6b737b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442" name="Picture 5" descr="sample_dolphin_outline"/>
          <p:cNvPicPr/>
          <p:nvPr/>
        </p:nvPicPr>
        <p:blipFill>
          <a:blip r:embed="rId1"/>
          <a:stretch/>
        </p:blipFill>
        <p:spPr>
          <a:xfrm>
            <a:off x="4419720" y="1981080"/>
            <a:ext cx="43052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</a:rPr>
              <a:t>Texture</a:t>
            </a:r>
            <a:endParaRPr b="0" lang="en-US" sz="22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28600" y="990360"/>
            <a:ext cx="4356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Tex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surface look of an object created by varying dark and light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ot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1360" indent="29988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99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4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9053-97C6-4D21-AD85-FDDABAA6B35F}" type="slidenum">
              <a:rPr b="1" lang="en-US" sz="800" spc="-1" strike="noStrike">
                <a:solidFill>
                  <a:srgbClr val="6b737b"/>
                </a:solidFill>
                <a:latin typeface="Myriad Pro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446" name="Oval 1"/>
          <p:cNvGrpSpPr/>
          <p:nvPr/>
        </p:nvGrpSpPr>
        <p:grpSpPr>
          <a:xfrm>
            <a:off x="3932280" y="2255760"/>
            <a:ext cx="4352760" cy="2955960"/>
            <a:chOff x="3932280" y="2255760"/>
            <a:chExt cx="4352760" cy="2955960"/>
          </a:xfrm>
        </p:grpSpPr>
        <p:pic>
          <p:nvPicPr>
            <p:cNvPr id="447" name="Oval 1" descr=""/>
            <p:cNvPicPr/>
            <p:nvPr/>
          </p:nvPicPr>
          <p:blipFill>
            <a:blip r:embed="rId1"/>
            <a:stretch/>
          </p:blipFill>
          <p:spPr>
            <a:xfrm>
              <a:off x="3932280" y="2255760"/>
              <a:ext cx="4352760" cy="29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91080" y="2709720"/>
              <a:ext cx="3038400" cy="20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3-10-30T15:30:29Z</dcterms:modified>
  <cp:revision>133</cp:revision>
  <dc:subject/>
  <dc:title>INTRODUCTION TO DESIGN MOVEMENT, BALANCE, UNITY, CONTRAST, EMPHASIS, LINE, AND COLOR</dc:title>
</cp:coreProperties>
</file>