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357F-0846-46BA-A7AE-56D5B73DD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AE93-C58F-48C1-9828-B401FA1EE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mple flowchart for a web-based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1E9F-C856-4708-BC6D-64D4E79F0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AE14-DF96-4E0B-91AE-DCE34FAAB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01D-FBDD-44C4-81FD-DEE5D0C1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6CE-2276-4707-B84E-916E9AC8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794-F727-4E51-918B-32D532C1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F76-1037-4E23-B321-335626BE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1323-6261-4EDD-9DC5-28044B25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53F5-7BF3-4660-971A-8BD91952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7350-F545-42F7-94D0-3CCB2547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FD8C-21F4-4059-B257-030A65C4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C903-545C-4B27-82AA-F6C7B4F6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1E86-6566-49D9-82AD-A70A245F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C519-AE9B-460D-A049-FF4600ED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66B-598A-4C44-8DC8-F4C2D5CF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C964-E73A-47B9-BAD1-879C8839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2E6F-DD77-4C5E-9A1B-8EA74E11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A65D-A8CC-493C-B48C-1AA24C13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204E-D77B-441F-95D8-4B62CBDA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1460-D742-4556-BACA-822A9B79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BF2A-67EB-459F-ADA7-1F2E398B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5D2D-B427-4291-B451-023586F2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1CA5D-1146-480D-9D3B-D7F0E50B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B516-8D12-49FF-8280-9B67E3AE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28D6-0150-4F03-8D8B-A4452C1D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FC0-501A-4829-9036-15F113E3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C2CD-44EA-4704-9F60-4DB408DD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AF7A-2283-4BA5-BFBF-74439EF3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1403-4E58-4073-88C7-04DA0E82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F7A9-B733-4ED1-9FD8-1282A0D7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FB50-AFB5-490F-A43D-EFC21129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E8F1-7C22-4CA0-9732-D8A0E091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7253-CEBD-4264-BBA0-5054B5F8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EA5F-9C83-4913-A14C-FD045C9D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7DBA-E2A6-4106-8072-1F8B1BFA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DEC8-E6BE-49C2-9602-354BF298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CAD-1356-43EB-8A94-B598BECD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56513-CAF7-4D17-AA0D-35F105E6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82967-0FC8-4B97-9AD2-5D2A1E6C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1E60-FB52-4166-B0BD-6C4026E1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3C58-7E85-4663-8271-1B29C30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088FD-E446-43EF-80D6-5E47DC6C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0755-F984-4D5E-80A5-8357A6ED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B973-1BEB-4EC3-95E6-0F13CFCA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D6B10-5FE7-4287-BDBD-ED50E0A5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8B2FF-582C-40A5-887D-C1EE3ACB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0A6-390D-4DE6-8799-F6359906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965-55B4-4E37-9C94-F07BF7EA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CD5-1F85-43A9-A537-0F544B0F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ABC-8446-4EA1-9C3C-D6C68B5D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0C8-3FF1-49C6-ADC0-674374B1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9815-DF37-4A4E-9892-782D5FF5F11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A4B7-6954-458D-805E-ED6804CFD2C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CA2E-C4A3-4639-853E-7108D08B554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4431-6DCD-4AE9-A441-F834B3E8153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JEC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 PH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, STRUCTURE, DESIGN, BUILD AND TEST, DELIVERY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goals, target audience, cont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livery requirement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project pla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utline the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lient interac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content productio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2A0D-0EB4-4D0B-AA7A-FEE98ABD122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3" descr="project_plan.pdf.png"/>
          <p:cNvPicPr/>
          <p:nvPr/>
        </p:nvPicPr>
        <p:blipFill>
          <a:blip r:embed="rId1"/>
          <a:stretch/>
        </p:blipFill>
        <p:spPr>
          <a:xfrm>
            <a:off x="1722600" y="2684520"/>
            <a:ext cx="5697360" cy="355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Information architectur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desig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bb034"/>
                </a:solidFill>
                <a:latin typeface="Arial"/>
              </a:rPr>
              <a:t>Flowcharts and wireframes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outline the overall structure of the site and site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FA16-A215-4C79-B303-7C8AFD182F5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9" name="Rounded Rectangle 1"/>
          <p:cNvSpPr/>
          <p:nvPr/>
        </p:nvSpPr>
        <p:spPr>
          <a:xfrm>
            <a:off x="3657600" y="3149640"/>
            <a:ext cx="167652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0" name="Rounded Rectangle 9"/>
          <p:cNvSpPr/>
          <p:nvPr/>
        </p:nvSpPr>
        <p:spPr>
          <a:xfrm>
            <a:off x="3908520" y="3172320"/>
            <a:ext cx="1204920" cy="981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51" name="Rounded Rectangle 10" descr=""/>
          <p:cNvPicPr/>
          <p:nvPr/>
        </p:nvPicPr>
        <p:blipFill>
          <a:blip r:embed="rId1"/>
          <a:stretch/>
        </p:blipFill>
        <p:spPr>
          <a:xfrm>
            <a:off x="66528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2" name="Rounded Rectangle 11" descr=""/>
          <p:cNvPicPr/>
          <p:nvPr/>
        </p:nvPicPr>
        <p:blipFill>
          <a:blip r:embed="rId2"/>
          <a:stretch/>
        </p:blipFill>
        <p:spPr>
          <a:xfrm>
            <a:off x="2286000" y="4322880"/>
            <a:ext cx="1322280" cy="1968480"/>
          </a:xfrm>
          <a:prstGeom prst="rect">
            <a:avLst/>
          </a:prstGeom>
          <a:ln w="0">
            <a:noFill/>
          </a:ln>
        </p:spPr>
      </p:pic>
      <p:pic>
        <p:nvPicPr>
          <p:cNvPr id="253" name="Rounded Rectangle 12" descr=""/>
          <p:cNvPicPr/>
          <p:nvPr/>
        </p:nvPicPr>
        <p:blipFill>
          <a:blip r:embed="rId3"/>
          <a:stretch/>
        </p:blipFill>
        <p:spPr>
          <a:xfrm>
            <a:off x="3876840" y="4322880"/>
            <a:ext cx="1323720" cy="1968480"/>
          </a:xfrm>
          <a:prstGeom prst="rect">
            <a:avLst/>
          </a:prstGeom>
          <a:ln w="0">
            <a:noFill/>
          </a:ln>
        </p:spPr>
      </p:pic>
      <p:pic>
        <p:nvPicPr>
          <p:cNvPr id="254" name="Rounded Rectangle 13" descr=""/>
          <p:cNvPicPr/>
          <p:nvPr/>
        </p:nvPicPr>
        <p:blipFill>
          <a:blip r:embed="rId4"/>
          <a:stretch/>
        </p:blipFill>
        <p:spPr>
          <a:xfrm>
            <a:off x="5522760" y="4322880"/>
            <a:ext cx="1322640" cy="1968480"/>
          </a:xfrm>
          <a:prstGeom prst="rect">
            <a:avLst/>
          </a:prstGeom>
          <a:ln w="0">
            <a:noFill/>
          </a:ln>
        </p:spPr>
      </p:pic>
      <p:pic>
        <p:nvPicPr>
          <p:cNvPr id="255" name="Rounded Rectangle 14" descr=""/>
          <p:cNvPicPr/>
          <p:nvPr/>
        </p:nvPicPr>
        <p:blipFill>
          <a:blip r:embed="rId5"/>
          <a:stretch/>
        </p:blipFill>
        <p:spPr>
          <a:xfrm>
            <a:off x="7139160" y="4322880"/>
            <a:ext cx="132840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Straight Connector 7"/>
          <p:cNvSpPr/>
          <p:nvPr/>
        </p:nvSpPr>
        <p:spPr>
          <a:xfrm>
            <a:off x="4511520" y="4157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7" name="Straight Connector 16"/>
          <p:cNvSpPr/>
          <p:nvPr/>
        </p:nvSpPr>
        <p:spPr>
          <a:xfrm flipH="1">
            <a:off x="1371600" y="4157640"/>
            <a:ext cx="3139920" cy="2430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6248520" y="3759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9" name="Straight Connector 18"/>
          <p:cNvSpPr/>
          <p:nvPr/>
        </p:nvSpPr>
        <p:spPr>
          <a:xfrm flipH="1">
            <a:off x="2918880" y="4157640"/>
            <a:ext cx="1592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0" name="Straight Connector 19"/>
          <p:cNvSpPr/>
          <p:nvPr/>
        </p:nvSpPr>
        <p:spPr>
          <a:xfrm flipH="1">
            <a:off x="4510080" y="4157640"/>
            <a:ext cx="144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1" name="Straight Connector 20"/>
          <p:cNvSpPr/>
          <p:nvPr/>
        </p:nvSpPr>
        <p:spPr>
          <a:xfrm>
            <a:off x="4511520" y="4157640"/>
            <a:ext cx="164628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2" name="Straight Connector 21"/>
          <p:cNvSpPr/>
          <p:nvPr/>
        </p:nvSpPr>
        <p:spPr>
          <a:xfrm>
            <a:off x="4511520" y="4157640"/>
            <a:ext cx="3265560" cy="19368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ketch layouts and provide two or more design co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view comps with team or cl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esign based on feed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velop production storyboard and prototype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A326-2646-4AE5-A183-61777BADAA7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6" name="Picture 5" descr="C:\Users\Jacques\AppData\Local\Temp\SNAGHTML103f53fe.PNG"/>
          <p:cNvPicPr/>
          <p:nvPr/>
        </p:nvPicPr>
        <p:blipFill>
          <a:blip r:embed="rId1"/>
          <a:stretch/>
        </p:blipFill>
        <p:spPr>
          <a:xfrm>
            <a:off x="4143240" y="1225440"/>
            <a:ext cx="4727880" cy="328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3610080" cy="250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uild and tes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9903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uild site images, graphics, create content, and design layout based on design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 technical, accessibility, and usability testing, recording bugs, and design-chang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ke revisions based on test results and repeat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duct focus groups (if applic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eate final vers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D9A2-882D-46A0-BCC4-5BAD35E564D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1" name="Picture 6" descr="C:\Users\Jacques\AppData\Local\Temp\SNAGHTML10427b9a.PNG"/>
          <p:cNvPicPr/>
          <p:nvPr/>
        </p:nvPicPr>
        <p:blipFill>
          <a:blip r:embed="rId1"/>
          <a:stretch/>
        </p:blipFill>
        <p:spPr>
          <a:xfrm>
            <a:off x="4302000" y="1800360"/>
            <a:ext cx="4529160" cy="3152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3805200" y="4959360"/>
            <a:ext cx="4942080" cy="103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59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live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vid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a launch plan including promotion, and search engine optim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f applicabl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4DE9-A56D-4E69-AFB3-09AE993027C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76" name="Picture 7" descr="C:\Users\Jacques\AppData\Local\Temp\SNAGHTML138b33e2.PNG"/>
          <p:cNvPicPr/>
          <p:nvPr/>
        </p:nvPicPr>
        <p:blipFill>
          <a:blip r:embed="rId1"/>
          <a:stretch/>
        </p:blipFill>
        <p:spPr>
          <a:xfrm>
            <a:off x="1447920" y="2332080"/>
            <a:ext cx="6227640" cy="3770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9:41:34Z</dcterms:modified>
  <cp:revision>32</cp:revision>
  <dc:subject/>
  <dc:title>INTRODUCTION TO DESIGN MOVEMENT, BALANCE, UNITY, CONTRAST, EMPHASIS, LINE, AND COLOR</dc:title>
</cp:coreProperties>
</file>