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dobe Clean"/>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C8A2-25A5-4A6C-8FBD-14FBCFC8086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FA9F-421F-4B26-96B3-151D6AF4CADF}"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information about the differences between HTML4 and HTML5, see: http://dev.w3.org/html5/html4-differ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E570-A6E2-42CB-A6F3-A2608D3839A7}"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FD2E3-B5EE-4FB2-BC67-60CD87FE5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87F2F-D426-48EF-9E0C-CB477E77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22D5A-9F1F-4A42-98AC-BDCD39ECB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4BF83-EA8C-4A98-9BA1-D267A1C88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3512E-5246-4746-AA24-3E50A4DEA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7B78B-20B2-4937-A6A1-C4720FF27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DFB43-89A5-485C-873D-A78DC8031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36016-8738-45B6-AB1A-031835A3E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9952C-342B-49B8-B57B-739D927C4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BC89B-57BB-41CF-B26F-952872F78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855A6-4D4E-4161-A58D-0659C6DAE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03CF1-19F9-4F72-8EF7-D71F31792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B7E9B-0487-4F4C-88DF-13050C3C3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E4EFE-820E-46AF-99C8-2DBAF325B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484F7-9D1B-4A4F-9CA5-7E4377FD3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1A5D9-BE53-43A7-90AC-543B82FC4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E5995-CCB0-4832-B76A-D4BDD629E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3BFE46-6053-4E37-9A0A-29292A6FC5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7D3CD-A905-4F48-9A76-9318D8415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E772D-A99F-4885-87D6-05E82E0CB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D2B2D-9BFD-4315-BA79-B54025FC2C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79593-6C5B-443B-994A-D5ECE2EFB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4D1F3-121E-4DC3-9411-589F7A821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33C22C-F5FC-4B4E-B4E4-C4930C2401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34054-E163-4BE1-BADC-B2A0CC996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0A02D-0E71-4130-9E2C-4B3756DAD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BA608-C73F-42CD-AA67-161CCEB8B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7C7AC-8D2F-429F-ACD3-C38EC1CD9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8FEF66-18F9-499A-B4ED-B580D61D6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F17E74-DC55-4C0E-8FE2-3823283B12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281186-8509-4457-B6F0-13A51865B7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7C5AD4-54C8-4AA4-A513-0D6CB09C36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35BE5-79D4-4E83-A60B-088470FCC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E5F12-502C-4C27-9C95-A042DA58A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82CE0-1CC5-44A0-B18D-F37B13866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96C79-B645-4145-ABC0-9F1EDB9006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BCCB7-4176-4F84-BB0F-7D8B93D850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1E48B-6ED0-49BE-9A0D-E893AC206F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001BA-905C-4D13-B0FB-1DE5A8E3F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28731-3041-482D-AA4E-5C30CC544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FCAFC8-BDDC-4E85-92A4-68A6F3B61C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DAA9B9-0405-457D-946A-03978C97C7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D0EB9-D126-48DA-8905-A0463373E8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BAB40-555B-4EE0-B1F5-986D5C0F4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0DE27-22DD-4668-BE52-DE600D11E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F7B5-19AC-4312-9FB9-BB35FF2BC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2AA6-9857-46FB-A897-EDD4E4B3A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1810-DAC1-429D-9C04-555ECB532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D175-4F90-452C-AEF9-64BBB0A7B6B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4BCD-276D-4D7E-B6AA-8E91B7AB48CB}"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46CC-FC92-4080-B63C-56F0B8C37E29}"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E794-39FA-41D6-A3B4-4C7A391CC8E1}"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
          <p:cNvSpPr/>
          <p:nvPr/>
        </p:nvSpPr>
        <p:spPr>
          <a:xfrm>
            <a:off x="302040" y="6689160"/>
            <a:ext cx="27439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Copyright 2012 Adobe Systems Incorporated.  All rights reserved. </a:t>
            </a:r>
            <a:endParaRPr b="0" lang="en-US" sz="700" spc="-1" strike="noStrike">
              <a:solidFill>
                <a:srgbClr val="000000"/>
              </a:solidFill>
              <a:latin typeface="Adobe Clean"/>
            </a:endParaRPr>
          </a:p>
        </p:txBody>
      </p:sp>
      <p:grpSp>
        <p:nvGrpSpPr>
          <p:cNvPr id="228" name="Group 6"/>
          <p:cNvGrpSpPr/>
          <p:nvPr/>
        </p:nvGrpSpPr>
        <p:grpSpPr>
          <a:xfrm>
            <a:off x="8785080" y="6475320"/>
            <a:ext cx="237600" cy="293760"/>
            <a:chOff x="8785080" y="6475320"/>
            <a:chExt cx="237600" cy="293760"/>
          </a:xfrm>
        </p:grpSpPr>
        <p:grpSp>
          <p:nvGrpSpPr>
            <p:cNvPr id="229" name="Group 7"/>
            <p:cNvGrpSpPr/>
            <p:nvPr/>
          </p:nvGrpSpPr>
          <p:grpSpPr>
            <a:xfrm>
              <a:off x="8785080" y="6480000"/>
              <a:ext cx="230400" cy="289080"/>
              <a:chOff x="8785080" y="6480000"/>
              <a:chExt cx="230400" cy="289080"/>
            </a:xfrm>
          </p:grpSpPr>
          <p:sp>
            <p:nvSpPr>
              <p:cNvPr id="230"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1"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dobe Clean"/>
                </a:endParaRPr>
              </a:p>
            </p:txBody>
          </p:sp>
          <p:sp>
            <p:nvSpPr>
              <p:cNvPr id="232"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3"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4"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dobe Clean"/>
                </a:endParaRPr>
              </a:p>
            </p:txBody>
          </p:sp>
          <p:sp>
            <p:nvSpPr>
              <p:cNvPr id="235"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dobe Clean"/>
                </a:endParaRPr>
              </a:p>
            </p:txBody>
          </p:sp>
          <p:sp>
            <p:nvSpPr>
              <p:cNvPr id="236"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7"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8"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dobe Clean"/>
                </a:endParaRPr>
              </a:p>
            </p:txBody>
          </p:sp>
          <p:sp>
            <p:nvSpPr>
              <p:cNvPr id="239"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dobe Clean"/>
                </a:endParaRPr>
              </a:p>
            </p:txBody>
          </p:sp>
        </p:grpSp>
        <p:sp>
          <p:nvSpPr>
            <p:cNvPr id="240"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41" name="PlaceHolder 1"/>
          <p:cNvSpPr>
            <a:spLocks noGrp="1"/>
          </p:cNvSpPr>
          <p:nvPr>
            <p:ph type="title"/>
          </p:nvPr>
        </p:nvSpPr>
        <p:spPr>
          <a:xfrm>
            <a:off x="380520" y="4535280"/>
            <a:ext cx="7815240" cy="1004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RITING FOR THE WEB</a:t>
            </a:r>
            <a:br>
              <a:rPr sz="3200"/>
            </a:b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clusion</a:t>
            </a:r>
            <a:endParaRPr b="0" lang="en-US" sz="2200" spc="-1" strike="noStrike">
              <a:solidFill>
                <a:srgbClr val="dadde0"/>
              </a:solidFill>
              <a:latin typeface="Arial"/>
            </a:endParaRPr>
          </a:p>
        </p:txBody>
      </p:sp>
      <p:sp>
        <p:nvSpPr>
          <p:cNvPr id="26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tle, summary, and major headings should give users a broad overview of the topic.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tences and paragraphs should tell users a story.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ant to take away the main ideas without being bogged down with specif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B02B-6642-48E9-9C6F-2C6C494FD2F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hy is writing for the web different from other writing?</a:t>
            </a:r>
            <a:endParaRPr b="0" lang="en-US" sz="2200" spc="-1" strike="noStrike">
              <a:solidFill>
                <a:srgbClr val="dadde0"/>
              </a:solidFill>
              <a:latin typeface="Arial"/>
            </a:endParaRPr>
          </a:p>
        </p:txBody>
      </p:sp>
      <p:sp>
        <p:nvSpPr>
          <p:cNvPr id="243" name=""/>
          <p:cNvSpPr txBox="1"/>
          <p:nvPr/>
        </p:nvSpPr>
        <p:spPr>
          <a:xfrm>
            <a:off x="228240" y="990720"/>
            <a:ext cx="8288280" cy="480672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read information online differently than information in pri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readers coming to a site after an online search often don’t know if a website will meet their need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quickly find the information they are looking for, they will deem the site of little value, no matter how well it is designed or how easy to us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usable content can be achieved by writing for readers with varying levels of interest. A writer’s goal should be to give all readers their desired level of information as quickly as possible. </a:t>
            </a:r>
            <a:endParaRPr b="0" lang="en-US" sz="2000" spc="-1" strike="noStrike">
              <a:solidFill>
                <a:srgbClr val="000000"/>
              </a:solidFill>
              <a:latin typeface="Arial"/>
            </a:endParaRPr>
          </a:p>
        </p:txBody>
      </p:sp>
      <p:sp>
        <p:nvSpPr>
          <p:cNvPr id="24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C9CD-442A-4071-913D-2FE0768E55E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nline reading behavior</a:t>
            </a:r>
            <a:endParaRPr b="0" lang="en-US" sz="2200" spc="-1" strike="noStrike">
              <a:solidFill>
                <a:srgbClr val="dadde0"/>
              </a:solidFill>
              <a:latin typeface="Arial"/>
            </a:endParaRPr>
          </a:p>
        </p:txBody>
      </p:sp>
      <p:sp>
        <p:nvSpPr>
          <p:cNvPr id="246"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discovered the following behaviors of online users:</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dge websites in a fraction of a second.</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can content, hunting for the information they’re after, as opposed to reading word-for-word. </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ad more slowly from screens than from print.</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actions and competition from online messaging, Facebook, and so on make it hard to keep users’ attention.</a:t>
            </a:r>
            <a:endParaRPr b="0" lang="en-US" sz="20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so much information is available online, users need to determine quickly if content is worth reading and spending time with.</a:t>
            </a:r>
            <a:endParaRPr b="0" lang="en-US" sz="2000" spc="-1" strike="noStrike">
              <a:solidFill>
                <a:srgbClr val="00000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7527-6CCF-41DB-B4E9-EB0BD7E9301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Know your audience</a:t>
            </a:r>
            <a:endParaRPr b="0" lang="en-US" sz="2200" spc="-1" strike="noStrike">
              <a:solidFill>
                <a:srgbClr val="dadde0"/>
              </a:solidFill>
              <a:latin typeface="Arial"/>
            </a:endParaRPr>
          </a:p>
        </p:txBody>
      </p:sp>
      <p:sp>
        <p:nvSpPr>
          <p:cNvPr id="249"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audience: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identify your audience, determine various interest levels of your overall audience and try to write for each level (none, little, some, strong, and so 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user persona for each kind of user to help you determine how to get their attention.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as if you are speaking to your audience in pers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for all users: </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sers of various reading level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all content is accessible.</a:t>
            </a:r>
            <a:endParaRPr b="0" lang="en-US" sz="1600" spc="-1" strike="noStrike">
              <a:solidFill>
                <a:srgbClr val="000000"/>
              </a:solidFill>
              <a:latin typeface="Arial"/>
            </a:endParaRPr>
          </a:p>
        </p:txBody>
      </p:sp>
      <p:sp>
        <p:nvSpPr>
          <p:cNvPr id="25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6B4F-5156-4453-AB74-2DB5C38AD83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guidelines</a:t>
            </a:r>
            <a:endParaRPr b="0" lang="en-US" sz="2200" spc="-1" strike="noStrike">
              <a:solidFill>
                <a:srgbClr val="dadde0"/>
              </a:solidFill>
              <a:latin typeface="Arial"/>
            </a:endParaRPr>
          </a:p>
        </p:txBody>
      </p:sp>
      <p:sp>
        <p:nvSpPr>
          <p:cNvPr id="252" name=""/>
          <p:cNvSpPr txBox="1"/>
          <p:nvPr/>
        </p:nvSpPr>
        <p:spPr>
          <a:xfrm>
            <a:off x="228240" y="990360"/>
            <a:ext cx="857268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effective communication</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lear, simple, and familiar language.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jargon, acronyms, and abbreviation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 active and objective voice.</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direct and concise, getting to the important points quick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conclusion first so readers know exactly what they will get from the conten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nk content</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unk</a:t>
            </a:r>
            <a:r>
              <a:rPr b="0" lang="en-US" sz="1600" spc="-1" strike="noStrike">
                <a:solidFill>
                  <a:srgbClr val="000000"/>
                </a:solidFill>
                <a:latin typeface="Arial"/>
              </a:rPr>
              <a:t> means a manageable bit – a small piece of information a user can easily find and understand.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d important words or phras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ist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content short and create space for scanning it easily.</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ragments or phrases instead of prose style – if you can cut a word, cut it.</a:t>
            </a:r>
            <a:endParaRPr b="0" lang="en-US" sz="16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CD0A-AA24-4199-A3AE-1F18293C42D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5"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tle is the first piece of information a user scans. Make it clear, inviting, and meaningful.</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s and subheading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should be short, direct, and powerful.</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headings should be descriptive so users easily learn what each section is about. Use subheadings frequently (every few paragraphs) to keep user moving through content in easy chunks.</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nces and paragraphs – shorter is better</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ences should be no longer than about 20 words.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ntence should be limited to one idea.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s should have no more than about 6 sentences.</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agraph should be limited to one or two ideas.</a:t>
            </a:r>
            <a:endParaRPr b="0" lang="en-US" sz="1600" spc="-1" strike="noStrike">
              <a:solidFill>
                <a:srgbClr val="000000"/>
              </a:solidFill>
              <a:latin typeface="Arial"/>
            </a:endParaRPr>
          </a:p>
        </p:txBody>
      </p:sp>
      <p:sp>
        <p:nvSpPr>
          <p:cNvPr id="25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8B04-E634-4B3B-8B18-BC306596D22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Organizing page content</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re easy to scan because content is vertical. </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presented in lists is usually more succinct.</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scriptive link text so users know where they are going.</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related information.</a:t>
            </a:r>
            <a:endParaRPr b="0" lang="en-US" sz="16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elements</a:t>
            </a:r>
            <a:endParaRPr b="0" lang="en-US" sz="18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llouts, bold, and italics to make text easier to scan.</a:t>
            </a:r>
            <a:endParaRPr b="0" lang="en-US" sz="1600" spc="-1" strike="noStrike">
              <a:solidFill>
                <a:srgbClr val="000000"/>
              </a:solidFill>
              <a:latin typeface="Arial"/>
            </a:endParaRPr>
          </a:p>
          <a:p>
            <a:pPr lvl="2" marL="631800" indent="-16812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pictures and other visual elements in place of text when appropriate.</a:t>
            </a:r>
            <a:endParaRPr b="0" lang="en-US" sz="16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408E-B8F4-4237-91D5-375D92A0884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Writing for mobile devices</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content on mobile devices is more difficult that reading content on a desktop compute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riting for mobile users, focus their attention on the essential content.</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secondary content to secondary pages to maintain focus on the most essential content.</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for mobile readers requires even harsher editing than writing for the Web. Mobile use implies less patience for filler copy.</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 doubt, leave it out. </a:t>
            </a:r>
            <a:endParaRPr b="0" lang="en-US" sz="18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7474-1865-47FF-B23B-6499DCFE8BB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
        <p:nvSpPr>
          <p:cNvPr id="263" name="TextBox 4"/>
          <p:cNvSpPr/>
          <p:nvPr/>
        </p:nvSpPr>
        <p:spPr>
          <a:xfrm>
            <a:off x="125640" y="6594480"/>
            <a:ext cx="2658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adde0"/>
                </a:solidFill>
                <a:latin typeface="Arial"/>
                <a:ea typeface="Arial"/>
              </a:rPr>
              <a:t>Source: http://www.useit.com/papers/webwriting/</a:t>
            </a:r>
            <a:endParaRPr b="0" lang="en-US" sz="9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Best practices</a:t>
            </a:r>
            <a:endParaRPr b="0" lang="en-US" sz="2200" spc="-1" strike="noStrike">
              <a:solidFill>
                <a:srgbClr val="dadde0"/>
              </a:solidFill>
              <a:latin typeface="Arial"/>
            </a:endParaRPr>
          </a:p>
        </p:txBody>
      </p:sp>
      <p:sp>
        <p:nvSpPr>
          <p:cNvPr id="26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emulate great web writing.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ccurate descriptions and keywords for search engin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writing guidelines when repurposing print documents for the web.</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style guid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your conten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links work and are relevant.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ll titles and summaries provide information about the contents of the page. </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ntent from the view of your defined personas and make sure all users will find information quickly and accurately. </a:t>
            </a:r>
            <a:endParaRPr b="0" lang="en-US" sz="1800" spc="-1" strike="noStrike">
              <a:solidFill>
                <a:srgbClr val="000000"/>
              </a:solidFill>
              <a:latin typeface="Arial"/>
            </a:endParaRPr>
          </a:p>
        </p:txBody>
      </p:sp>
      <p:sp>
        <p:nvSpPr>
          <p:cNvPr id="26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D1B6-D5EE-4A67-A468-CA5D94D4294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Jacques</cp:lastModifiedBy>
  <dcterms:modified xsi:type="dcterms:W3CDTF">2013-06-12T18:39:57Z</dcterms:modified>
  <cp:revision>125</cp:revision>
  <dc:subject/>
  <dc:title>INTRODUCTION TO DESIGN MOVEMENT, BALANCE, UNITY, CONTRAST, EMPHASIS, LINE, AND COLOR</dc:title>
</cp:coreProperties>
</file>