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dobe Clean"/>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4B1AD-25BF-4B9C-B88F-97DADC35385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9A4A-1DCB-44A8-B962-8F78585ADAB2}"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information about the differences between HTML4 and HTML5, see: http://dev.w3.org/html5/html4-differe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CFB6-B229-4309-9C46-14C3D791459A}"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1F218-DCBD-4838-B7A9-11157F5C5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03528-DA47-4B7B-A564-455032BE0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E9D49-70FE-4EF4-900C-803010A03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B3C38-4CA8-41FC-B3A8-EA5730E08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55F48-1E41-4C80-858D-5C437805D8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164A3-0451-4BE6-A2AD-76BF1F93B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92821-8962-45B5-B749-598AEE057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74248-4F08-4D9F-9110-2A04389F9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D3BC5-122C-42D8-B34B-2F8A330DD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90DCF-6131-4C21-8C9E-3AAA00466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BC83A-9997-4D1F-9835-462064AC8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1A262-BF0E-4F4F-A501-5C78EC1B6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7E215-B884-44A2-A9DE-34B734E6C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3D000-A18D-442F-B23B-C87353022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AEA58-F5A7-497B-B088-F5854DDF8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5020EB-8ED5-478D-9881-129D13F6F9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459B3D-4ADF-4B2D-9BD6-04153070B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D7B482-DE14-44B8-9D20-F666A188AC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A015CE-5637-4A9D-85E8-AB53183B2A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0AADEC-F998-43DD-8589-CBA5AB6449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1DD90A-5013-432F-AA0B-8D95671FED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DD7AA7-1252-444A-AEC4-9A78757D2E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877D0-CEF9-4E9E-A580-D3DF9C7B6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8832B7-BFD3-47F3-8C53-6265F47253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FA27EC-D100-46B1-A472-15F6E1A00C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159001-F5DD-4CF2-9E07-8D2F35439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84C40F-8F6B-43C7-A907-1E2A1A8AF9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DEDBC3-B9FC-48D0-9360-6D04CF7699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ED51CF-A452-43BF-B634-FA19C49F1F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EB2AAE-D3EB-4CC5-99D2-3E565305C2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6CCA0A-EB39-4323-A723-A1671DD388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9FB2CE-A1C4-480F-AEDE-BA1CB0E6E2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F3BE98-0DA8-495F-8C72-27F254E25A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09046-46D7-4A87-AFB7-F79C57477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7B594C-8210-4990-8FF0-AC6225E177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9BF4EC-5453-43F9-B6AF-C5FC07967C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906242-FF65-44B1-A345-7EFDDA2CCC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DCBD94-25D6-4B2F-8ACB-224CCA02DE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B220F8-122C-4177-8A47-63389A2019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B1BBF0-ECED-413B-BE8A-C18336B537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EA8271-E98A-4A5B-8323-121D977E80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3F26A5-6EDC-41BC-A1C5-E28480892D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D3E6C6-88CA-4C81-97E0-E5E845C796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094B9-4467-4D31-9AAA-A42EE5693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7D96C-122A-4404-9BE3-289D7CB25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AA307-D261-496E-BD09-6D5D9C3E3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A23D2-A260-4F7E-8F48-4D2684278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04F06-80E0-4C39-BA9F-E7C877C95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C71C-7397-4717-B0F7-F49E896A8497}"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67"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pic>
        <p:nvPicPr>
          <p:cNvPr id="68" name="Picture 19" descr="C:\Users\Jacques\Desktop\untitled folder\Adobe_Green_1920x1430.jpg"/>
          <p:cNvPicPr/>
          <p:nvPr/>
        </p:nvPicPr>
        <p:blipFill>
          <a:blip r:embed="rId2"/>
          <a:stretch/>
        </p:blipFill>
        <p:spPr>
          <a:xfrm>
            <a:off x="-11160" y="0"/>
            <a:ext cx="9171000" cy="6858000"/>
          </a:xfrm>
          <a:prstGeom prst="rect">
            <a:avLst/>
          </a:prstGeom>
          <a:ln w="0">
            <a:noFill/>
          </a:ln>
        </p:spPr>
      </p:pic>
      <p:sp>
        <p:nvSpPr>
          <p:cNvPr id="6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7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72" name="PlaceHolder 4"/>
          <p:cNvSpPr>
            <a:spLocks noGrp="1"/>
          </p:cNvSpPr>
          <p:nvPr>
            <p:ph type="ftr" idx="5"/>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73" name="PlaceHolder 5"/>
          <p:cNvSpPr>
            <a:spLocks noGrp="1"/>
          </p:cNvSpPr>
          <p:nvPr>
            <p:ph type="sldNum" idx="6"/>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1943B-EB9D-4F5D-BF39-9E4942F6E4D6}"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13" name="Group 9"/>
          <p:cNvGrpSpPr/>
          <p:nvPr/>
        </p:nvGrpSpPr>
        <p:grpSpPr>
          <a:xfrm>
            <a:off x="8786880" y="6529320"/>
            <a:ext cx="203040" cy="255600"/>
            <a:chOff x="8786880" y="6529320"/>
            <a:chExt cx="203040" cy="255600"/>
          </a:xfrm>
        </p:grpSpPr>
        <p:sp>
          <p:nvSpPr>
            <p:cNvPr id="11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1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23"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4"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25"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 name="PlaceHolder 3"/>
          <p:cNvSpPr>
            <a:spLocks noGrp="1"/>
          </p:cNvSpPr>
          <p:nvPr>
            <p:ph type="dt" idx="7"/>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7" name="PlaceHolder 4"/>
          <p:cNvSpPr>
            <a:spLocks noGrp="1"/>
          </p:cNvSpPr>
          <p:nvPr>
            <p:ph type="ftr" idx="8"/>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28" name="PlaceHolder 5"/>
          <p:cNvSpPr>
            <a:spLocks noGrp="1"/>
          </p:cNvSpPr>
          <p:nvPr>
            <p:ph type="sldNum" idx="9"/>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A0C39-4143-4058-BB35-FA07F4630EF9}"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6"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7"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68" name="Group 9"/>
          <p:cNvGrpSpPr/>
          <p:nvPr/>
        </p:nvGrpSpPr>
        <p:grpSpPr>
          <a:xfrm>
            <a:off x="8786880" y="6529320"/>
            <a:ext cx="203040" cy="255600"/>
            <a:chOff x="8786880" y="6529320"/>
            <a:chExt cx="203040" cy="255600"/>
          </a:xfrm>
        </p:grpSpPr>
        <p:sp>
          <p:nvSpPr>
            <p:cNvPr id="169"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70"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1"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2"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3"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4"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5"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6"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7"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78"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 name="PlaceHolder 3"/>
          <p:cNvSpPr>
            <a:spLocks noGrp="1"/>
          </p:cNvSpPr>
          <p:nvPr>
            <p:ph type="dt" idx="10"/>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82" name="PlaceHolder 4"/>
          <p:cNvSpPr>
            <a:spLocks noGrp="1"/>
          </p:cNvSpPr>
          <p:nvPr>
            <p:ph type="ftr" idx="11"/>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83" name="PlaceHolder 5"/>
          <p:cNvSpPr>
            <a:spLocks noGrp="1"/>
          </p:cNvSpPr>
          <p:nvPr>
            <p:ph type="sldNum" idx="12"/>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156B8-524D-48F1-8C16-B468A9550108}"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302040" y="6689160"/>
            <a:ext cx="27439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Copyright 2012 Adobe Systems Incorporated.  All rights reserved. </a:t>
            </a:r>
            <a:endParaRPr b="0" lang="en-US" sz="700" spc="-1" strike="noStrike">
              <a:solidFill>
                <a:srgbClr val="000000"/>
              </a:solidFill>
              <a:latin typeface="Adobe Clean"/>
            </a:endParaRPr>
          </a:p>
        </p:txBody>
      </p:sp>
      <p:grpSp>
        <p:nvGrpSpPr>
          <p:cNvPr id="228" name="Group 6"/>
          <p:cNvGrpSpPr/>
          <p:nvPr/>
        </p:nvGrpSpPr>
        <p:grpSpPr>
          <a:xfrm>
            <a:off x="8785080" y="6475320"/>
            <a:ext cx="237600" cy="293760"/>
            <a:chOff x="8785080" y="6475320"/>
            <a:chExt cx="237600" cy="293760"/>
          </a:xfrm>
        </p:grpSpPr>
        <p:grpSp>
          <p:nvGrpSpPr>
            <p:cNvPr id="229" name="Group 7"/>
            <p:cNvGrpSpPr/>
            <p:nvPr/>
          </p:nvGrpSpPr>
          <p:grpSpPr>
            <a:xfrm>
              <a:off x="8785080" y="6480000"/>
              <a:ext cx="230400" cy="289080"/>
              <a:chOff x="8785080" y="6480000"/>
              <a:chExt cx="230400" cy="289080"/>
            </a:xfrm>
          </p:grpSpPr>
          <p:sp>
            <p:nvSpPr>
              <p:cNvPr id="230"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1"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dobe Clean"/>
                </a:endParaRPr>
              </a:p>
            </p:txBody>
          </p:sp>
          <p:sp>
            <p:nvSpPr>
              <p:cNvPr id="232"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3"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4"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5"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6"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7"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8"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9"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dobe Clean"/>
                </a:endParaRPr>
              </a:p>
            </p:txBody>
          </p:sp>
        </p:grpSp>
        <p:sp>
          <p:nvSpPr>
            <p:cNvPr id="240" name="Text Box 18"/>
            <p:cNvSpPr/>
            <p:nvPr/>
          </p:nvSpPr>
          <p:spPr>
            <a:xfrm>
              <a:off x="9002160" y="6475320"/>
              <a:ext cx="20520" cy="30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Arial"/>
                </a:rPr>
                <a:t>®</a:t>
              </a:r>
              <a:endParaRPr b="0" lang="en-US" sz="200" spc="-1" strike="noStrike">
                <a:solidFill>
                  <a:srgbClr val="000000"/>
                </a:solidFill>
                <a:latin typeface="Adobe Clean"/>
              </a:endParaRPr>
            </a:p>
          </p:txBody>
        </p:sp>
      </p:grpSp>
      <p:sp>
        <p:nvSpPr>
          <p:cNvPr id="241" name="PlaceHolder 1"/>
          <p:cNvSpPr>
            <a:spLocks noGrp="1"/>
          </p:cNvSpPr>
          <p:nvPr>
            <p:ph type="title"/>
          </p:nvPr>
        </p:nvSpPr>
        <p:spPr>
          <a:xfrm>
            <a:off x="380520" y="4535280"/>
            <a:ext cx="7815240" cy="1004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WRITING FOR THE WEB</a:t>
            </a:r>
            <a:br>
              <a:rPr sz="3200"/>
            </a:br>
            <a:endParaRPr b="0" lang="en-US" sz="3200" spc="-1" strike="noStrike">
              <a:solidFill>
                <a:srgbClr val="dadde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clusion</a:t>
            </a:r>
            <a:endParaRPr b="0" lang="en-US" sz="2200" spc="-1" strike="noStrike">
              <a:solidFill>
                <a:srgbClr val="dadde0"/>
              </a:solidFill>
              <a:latin typeface="Arial"/>
            </a:endParaRPr>
          </a:p>
        </p:txBody>
      </p:sp>
      <p:sp>
        <p:nvSpPr>
          <p:cNvPr id="26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tle, summary, and major headings should give users a broad overview of the topic.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tences and paragraphs should tell users a story.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ant to take away the main ideas without being bogged down with specif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B79C1-44F3-4EB2-A310-E80026EF9E2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hy is writing for the web different from other writing?</a:t>
            </a:r>
            <a:endParaRPr b="0" lang="en-US" sz="2200" spc="-1" strike="noStrike">
              <a:solidFill>
                <a:srgbClr val="dadde0"/>
              </a:solidFill>
              <a:latin typeface="Arial"/>
            </a:endParaRPr>
          </a:p>
        </p:txBody>
      </p:sp>
      <p:sp>
        <p:nvSpPr>
          <p:cNvPr id="243" name=""/>
          <p:cNvSpPr txBox="1"/>
          <p:nvPr/>
        </p:nvSpPr>
        <p:spPr>
          <a:xfrm>
            <a:off x="228240" y="990720"/>
            <a:ext cx="8288280" cy="480672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read information online differently than information in pri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readers coming to a site after an online search often don’t know if a website will meet their need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y do not quickly find the information they are looking for, they will deem the site of little value, no matter how well it is designed or how easy to us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usable content can be achieved by writing for readers with varying levels of interest. A writer’s goal should be to give all readers their desired level of information as quickly as possible. </a:t>
            </a:r>
            <a:endParaRPr b="0" lang="en-US" sz="2000" spc="-1" strike="noStrike">
              <a:solidFill>
                <a:srgbClr val="000000"/>
              </a:solidFill>
              <a:latin typeface="Arial"/>
            </a:endParaRPr>
          </a:p>
        </p:txBody>
      </p:sp>
      <p:sp>
        <p:nvSpPr>
          <p:cNvPr id="24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ACE9-F637-4C54-8DA3-1D15D6176F2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nline reading behavior</a:t>
            </a:r>
            <a:endParaRPr b="0" lang="en-US" sz="2200" spc="-1" strike="noStrike">
              <a:solidFill>
                <a:srgbClr val="dadde0"/>
              </a:solidFill>
              <a:latin typeface="Arial"/>
            </a:endParaRPr>
          </a:p>
        </p:txBody>
      </p:sp>
      <p:sp>
        <p:nvSpPr>
          <p:cNvPr id="246"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have discovered the following behaviors of online users:</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judge websites in a fraction of a second.</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can content, hunting for the information they’re after, as opposed to reading word-for-word. </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ad more slowly from screens than from print.</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actions and competition from online messaging, Facebook, and so on make it hard to keep users’ attention.</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so much information is available online, users need to determine quickly if content is worth reading and spending time with.</a:t>
            </a:r>
            <a:endParaRPr b="0" lang="en-US" sz="2000" spc="-1" strike="noStrike">
              <a:solidFill>
                <a:srgbClr val="00000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CEB8A-00D5-4872-882F-EC50D4EF841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Know your audience</a:t>
            </a:r>
            <a:endParaRPr b="0" lang="en-US" sz="2200" spc="-1" strike="noStrike">
              <a:solidFill>
                <a:srgbClr val="dadde0"/>
              </a:solidFill>
              <a:latin typeface="Arial"/>
            </a:endParaRPr>
          </a:p>
        </p:txBody>
      </p:sp>
      <p:sp>
        <p:nvSpPr>
          <p:cNvPr id="249"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udience: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you identify your audience, determine various interest levels of your overall audience and try to write for each level (none, little, some, strong, and so 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user persona for each kind of user to help you determine how to get their attenti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as if you are speaking to your audience in pers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for all users: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users of various reading level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all content is accessible.</a:t>
            </a:r>
            <a:endParaRPr b="0" lang="en-US" sz="1600" spc="-1" strike="noStrike">
              <a:solidFill>
                <a:srgbClr val="000000"/>
              </a:solidFill>
              <a:latin typeface="Arial"/>
            </a:endParaRPr>
          </a:p>
        </p:txBody>
      </p:sp>
      <p:sp>
        <p:nvSpPr>
          <p:cNvPr id="25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BC94-3F90-40C9-B49B-0FC64E1A8A0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guidelines</a:t>
            </a:r>
            <a:endParaRPr b="0" lang="en-US" sz="2200" spc="-1" strike="noStrike">
              <a:solidFill>
                <a:srgbClr val="dadde0"/>
              </a:solidFill>
              <a:latin typeface="Arial"/>
            </a:endParaRPr>
          </a:p>
        </p:txBody>
      </p:sp>
      <p:sp>
        <p:nvSpPr>
          <p:cNvPr id="252" name=""/>
          <p:cNvSpPr txBox="1"/>
          <p:nvPr/>
        </p:nvSpPr>
        <p:spPr>
          <a:xfrm>
            <a:off x="228240" y="990360"/>
            <a:ext cx="857268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lines for effective communication</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lear, simple, and familiar language.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jargon, acronyms, and abbreviation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n active and objective voice.</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direct and concise, getting to the important points quick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the conclusion first so readers know exactly what they will get from the conten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nk content</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unk</a:t>
            </a:r>
            <a:r>
              <a:rPr b="0" lang="en-US" sz="1600" spc="-1" strike="noStrike">
                <a:solidFill>
                  <a:srgbClr val="000000"/>
                </a:solidFill>
                <a:latin typeface="Arial"/>
              </a:rPr>
              <a:t> means a manageable bit – a small piece of information a user can easily find and understand.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ld important words or phras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ist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content short and create space for scanning it easi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ragments or phrases instead of prose style – if you can cut a word, cut it.</a:t>
            </a:r>
            <a:endParaRPr b="0" lang="en-US" sz="16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BE0F2-7AD6-423A-8AF6-61CF7F035BD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5"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le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tle is the first piece of information a user scans. Make it clear, inviting, and meaningful.</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s and subheading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s should be short, direct, and powerful.</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headings should be descriptive so users easily learn what each section is about. Use subheadings frequently (every few paragraphs) to keep user moving through content in easy chunk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nces and paragraphs – shorter is better</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ences should be no longer than about 20 word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entence should be limited to one idea.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raphs should have no more than about 6 sentenc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aragraph should be limited to one or two ideas.</a:t>
            </a:r>
            <a:endParaRPr b="0" lang="en-US" sz="1600" spc="-1" strike="noStrike">
              <a:solidFill>
                <a:srgbClr val="000000"/>
              </a:solidFill>
              <a:latin typeface="Arial"/>
            </a:endParaRPr>
          </a:p>
        </p:txBody>
      </p:sp>
      <p:sp>
        <p:nvSpPr>
          <p:cNvPr id="25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E0764-179F-4757-837A-109534CCD03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s are easy to scan because content is vertical.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presented in lists is usually more succinc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scriptive link text so users know where they are going.</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related informati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elemen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llouts, bold, and italics to make text easier to scan.</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pictures and other visual elements in place of text when appropriate.</a:t>
            </a:r>
            <a:endParaRPr b="0" lang="en-US" sz="16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CB075-A784-4BF6-818E-54C4FDA473A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for mobile devices</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content on mobile devices is more difficult that reading content on a desktop compute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riting for mobile users, focus their attention on the essential content.</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 secondary content to secondary pages to maintain focus on the most essential content.</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for mobile readers requires even harsher editing than writing for the Web. Mobile use implies less patience for filler copy.</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n doubt, leave it out. </a:t>
            </a:r>
            <a:endParaRPr b="0" lang="en-US" sz="18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E67B9-4DA1-4EBB-90B4-009C6B42EE0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
        <p:nvSpPr>
          <p:cNvPr id="263" name="TextBox 4"/>
          <p:cNvSpPr/>
          <p:nvPr/>
        </p:nvSpPr>
        <p:spPr>
          <a:xfrm>
            <a:off x="125640" y="6594480"/>
            <a:ext cx="2658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adde0"/>
                </a:solidFill>
                <a:latin typeface="Arial"/>
                <a:ea typeface="Arial"/>
              </a:rPr>
              <a:t>Source: http://www.useit.com/papers/webwriting/</a:t>
            </a:r>
            <a:endParaRPr b="0" lang="en-US" sz="900" spc="-1" strike="noStrike">
              <a:solidFill>
                <a:srgbClr val="000000"/>
              </a:solidFill>
              <a:latin typeface="Adobe Cle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Best practices</a:t>
            </a:r>
            <a:endParaRPr b="0" lang="en-US" sz="2200" spc="-1" strike="noStrike">
              <a:solidFill>
                <a:srgbClr val="dadde0"/>
              </a:solidFill>
              <a:latin typeface="Arial"/>
            </a:endParaRPr>
          </a:p>
        </p:txBody>
      </p:sp>
      <p:sp>
        <p:nvSpPr>
          <p:cNvPr id="26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and emulate great web writing.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urate descriptions and keywords for search engine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eb writing guidelines when repurposing print documents for the web.</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style guid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your conten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links work and are relevant.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titles and summaries provide information about the contents of the page.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content from the view of your defined personas and make sure all users will find information quickly and accurately. </a:t>
            </a:r>
            <a:endParaRPr b="0" lang="en-US" sz="1800" spc="-1" strike="noStrike">
              <a:solidFill>
                <a:srgbClr val="000000"/>
              </a:solidFill>
              <a:latin typeface="Arial"/>
            </a:endParaRPr>
          </a:p>
        </p:txBody>
      </p:sp>
      <p:sp>
        <p:nvSpPr>
          <p:cNvPr id="26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9179-7B70-43CD-A527-AF4E307DBCA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48:14Z</dcterms:created>
  <dc:creator>Matt Niemitz</dc:creator>
  <dc:description/>
  <dc:language>en-US</dc:language>
  <cp:lastModifiedBy>Jacques</cp:lastModifiedBy>
  <dcterms:modified xsi:type="dcterms:W3CDTF">2013-06-12T18:39:57Z</dcterms:modified>
  <cp:revision>125</cp:revision>
  <dc:subject/>
  <dc:title>INTRODUCTION TO DESIGN MOVEMENT, BALANCE, UNITY, CONTRAST, EMPHASIS, LINE, AND COLOR</dc:title>
</cp:coreProperties>
</file>