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F1C-F61C-4085-9952-F55B55BBC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mportant initial questions inform the way you structure content and information. You must create the information architecture of your site with your audience in m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BC3-3113-4D55-B587-6827FA555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ite’s structure is composed of the categories and logical groups you just created. A site map serves as a bird’s-eye view of the project that enables you to see how the site is organized and how users will view the site’s content and information. The site map becomes a blueprint that shapes the structure of the site during the development process. The site map should show main areas of content and represent all the pages within each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7CE5-0CA1-4615-8A55-AA9C74D19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2FD-AAA5-4366-9071-9114BCD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8E1-83AD-4C12-B967-AE4B650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D6B-708A-41C1-BDA7-198B1BA4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9D1-BDD3-4D5C-871F-E4E0D5A7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FAC4-8C42-4931-8166-AACF4EFC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ADB8-9503-496D-8D12-51B1D09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3A3C-7B5D-4A2C-AFFC-68474FD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CDFB-36AB-41A2-AAC0-C761B4E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8E5-E9BF-4150-9AC2-FFF6DA9B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B58-17EF-489F-97C0-60ABF85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05F-1B6C-421C-A7E7-F9A008D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F6E-7A81-4BF6-BA2D-361434C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435-B599-40D3-9D52-225BC22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D41A-2401-4FA9-90BA-61F1671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46E-B682-4958-80B8-535B3B2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5D24-E498-4EF6-9F7E-4F5660BE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C99-88D4-487A-BDAF-046B4C14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C0E9-53C8-4EFF-ABB3-46D1FEC4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C836-78AB-439E-975F-17052A0E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40D4-AB56-4A8B-8184-29DFD5B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EF3C-2177-4088-99ED-E9FD8D2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4C78-6864-48A6-BDB5-E227E506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B0E-6223-44EE-8BC3-7F04719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B8AA-F916-491A-9702-B91D5899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8815-2A8E-4B89-A6E5-C4D5B13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1B48-670B-4CF2-B6A8-1B8A2A9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6626-5079-4309-913A-6A83DA7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3657-3DA2-4969-8646-1E0DD0BA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73AF-0873-4292-AA66-F0D238A4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ADAF-3CB5-4CAC-AA8C-31488FD3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A98F-4B4E-4ADA-9908-0D5A9052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6686-AE02-4703-BBBA-B9D1080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5B19-A3D4-47DC-B4CD-D3DA3A91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181-ACCC-4DFC-859A-A06428F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9B58-B5F3-4B75-A7BD-3EF8ECC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5868-6CE9-498E-A0CF-48BAB05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4CCC-2A9B-4DEB-8D26-AE1E55B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6EBA-D2FD-4D35-A4BE-46FC794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1EB3-A94D-4E5C-9E90-BFF0954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6D95-7DE5-462C-8ECE-F994037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B98A-F55D-4EDD-BC74-2F7E80F5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F5FF-5382-474F-870B-2291AA8E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5D35-B186-49C6-993B-093B65D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E83-24FA-41FF-917A-2E230F0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8F4-C0DD-4F4D-A6FD-6F369C2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B55-07E5-4A32-8F2C-57724E4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CF8-5D0F-4AAF-86D3-F1D9DAF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C34-5A71-484E-9946-53035FD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A15-4AC6-4D7B-93EC-02AF359D02F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0E5-928D-41C7-A0B1-82B0918F9D5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A37-188A-4C74-9F48-06D211C9048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BA3-C2F1-41EB-A924-FCAE42082A4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36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is a method to add organization and support usability of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helps improve discoverability, efficiency, satisfaction, consistency, and overall usability of a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te map and a clear navigation are the key components of an inform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1F5F-049B-4EE3-8F86-FC4DAA8289E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What is information architecture?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what users are looking for and allowing easy access to content and information is the overall goal. It’s all about ensuring that users can get what they cam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s of information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label a website structure to support us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ers to the content and organize information intui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print the site from a functional perspective to communicate easily with a client and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architecture step usually falls within the structure phase of web project production, before you create wireframes, design comps, and prot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830-CEF1-4BF5-BF9D-6EBDB12ED55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formation architecture best practice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needs of the audienc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clear purpose for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nd assemble sit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site content into logic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it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76C-B27E-4CEC-8549-054626F0C75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nsider your audienc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an information architecture for your website, 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target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user are you trying to attract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69F-24DF-4030-935E-4D40D73D528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dentify website purpos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the goals in mind while you’re creating the information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goals of the websi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attract viewers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purpose of the website influence the information archite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EE64-9583-49C4-B81C-58C3485F43E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ventory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you plan to use on your website influences the information architecture. Consid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alread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need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content help accomplish the goals of the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target screens and dev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83A-8BFF-424F-9B17-FAF32FA4670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Assemble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structure are intertw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ng content into logical groups hel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and consistent sit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task of defining the informatio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A3F8-9207-4F7D-8DEC-D6AA6813493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reate a site map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8537-F1AA-41C5-91F5-EE784B0B347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1909800" y="1022400"/>
            <a:ext cx="52689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Design navigation system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helps connect users with the content on your site. Navigation helps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oriented to where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here they need to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back to where they came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use familiar visual cues and navigational aids as users move from page to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also helps your website maintain 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D21-5599-4BE0-8C96-1FF7574D65F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20T17:08:38Z</dcterms:modified>
  <cp:revision>9</cp:revision>
  <dc:subject/>
  <dc:title>INTRODUCTION TO DESIGN MOVEMENT, BALANCE, UNITY, CONTRAST, EMPHASIS, LINE, AND COLOR</dc:title>
</cp:coreProperties>
</file>