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dobe Cle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FBE5-2655-41B4-870F-ADDD4D2CF0B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6055-09EC-4198-90F2-A2F0C1F6BDC1}"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information about the differences between HTML4 and HTML5, see: http://dev.w3.org/html5/html4-differ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7ADE-D697-4D7A-9EFB-27EB77EB49B9}"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67708-D26E-4BD7-9FBF-78E1766B8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80788-D15F-4E20-945C-9D253883A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89839-660E-463C-A6AA-C336682D3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1D34B-5C7A-40AE-951A-43AD0EB39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CF31C-0E5A-435F-AB1D-DA90B0473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FD53B-E579-4EB1-AEC0-9DEE3213C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4F18D-0CF4-4D80-BB0E-046E5737F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7EFC5-B615-4F9B-B20C-4923ABF9B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E8E67-8064-4EC0-AAB7-37C8126B2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3AC65-D1C3-44C7-AC6D-6C7208480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112AB-3B70-47B8-BA9D-51E28BB3C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0927D-CAC5-4F72-9EAD-3B608E446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F674D-EB3D-4AC9-A95A-A6789335E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278B3-CF09-49DF-A001-3871CA4A1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258EE-ACEB-4BEF-8880-910671B1E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00C86A-5C11-42E1-91EC-8D81267EF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3CF03-8CD6-4D8E-86E0-94A4AA5801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698A91-D83B-486E-A1CE-DF45F102A8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9A2C3C-FA6B-4C21-B2C8-25E3F59562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F0CE96-0E12-4948-AEB3-F6278E2335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4939E7-6CFA-4298-B1A9-7FC7055011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625F5A-625D-4DFC-860F-70AF94AA1C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89DA5-C853-4AFF-A473-9EE89BBED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82E1DF-06BD-4E20-9AA9-ABC57F93C1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EA630-0D0A-41F0-ADD3-2B49E77142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184507-17F9-4213-95BF-09D7B14B3C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A43A49-B1C4-40A6-ACE7-F48DF1E7A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6BE881-E07F-49A4-984C-C3B4D283F2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EB8976-8477-4834-81EB-7474261A7F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201E42-6F7C-4682-B58B-452B492931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8BD739-7FD4-486D-A9B8-AB1FE26335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BC8B37-4844-41E8-8AD8-BE56B40786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E8EAE0-7267-4859-BAA6-D21EEBCD24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8D4F6-D44A-427C-9FBB-FF6150D15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89AFB8-38FA-4109-9C38-A3146F3F7B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27CA32-37A4-4F91-9115-279FCAD883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5047D4-21F4-4121-B8CE-7FE5AD027E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306315-BE52-44C1-A704-17A8DDF456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866A5F-4E0F-4BCE-862A-88C8449A64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F030F3-F179-401E-ADD6-5FA26A78F7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2559E5-FCBF-489E-9EA0-1FCEFAABF4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36FF66-4BE1-41AB-95EF-205EE91F0E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747DA3-D2BB-4622-87E5-367F7F27B6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198C2-0B78-40A9-8400-EDF5529A6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0FBD4-D7DF-4A1D-B4FF-11917E49B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27000-2D7E-41B1-82D3-FD1738ED1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0F350-EA54-4B37-A4F3-2C500EB80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A2EF6-B2E4-4C76-8D4C-0FA8D595A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3195-AA22-449D-AC68-6280EB493768}"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FF74-D082-4CD0-9386-D2CB813A432C}"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5D6D-D06D-44BB-8FD5-246446DBD364}"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5EF8-E257-4593-BD0E-AEF4F6447C02}"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302040" y="6689160"/>
            <a:ext cx="27439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Copyright 2012 Adobe Systems Incorporated.  All rights reserved. </a:t>
            </a:r>
            <a:endParaRPr b="0" lang="en-US" sz="700" spc="-1" strike="noStrike">
              <a:solidFill>
                <a:srgbClr val="000000"/>
              </a:solidFill>
              <a:latin typeface="Adobe Clean"/>
            </a:endParaRPr>
          </a:p>
        </p:txBody>
      </p:sp>
      <p:grpSp>
        <p:nvGrpSpPr>
          <p:cNvPr id="228" name="Group 6"/>
          <p:cNvGrpSpPr/>
          <p:nvPr/>
        </p:nvGrpSpPr>
        <p:grpSpPr>
          <a:xfrm>
            <a:off x="8785080" y="6475320"/>
            <a:ext cx="237600" cy="293760"/>
            <a:chOff x="8785080" y="6475320"/>
            <a:chExt cx="237600" cy="293760"/>
          </a:xfrm>
        </p:grpSpPr>
        <p:grpSp>
          <p:nvGrpSpPr>
            <p:cNvPr id="229" name="Group 7"/>
            <p:cNvGrpSpPr/>
            <p:nvPr/>
          </p:nvGrpSpPr>
          <p:grpSpPr>
            <a:xfrm>
              <a:off x="8785080" y="6480000"/>
              <a:ext cx="230400" cy="289080"/>
              <a:chOff x="8785080" y="6480000"/>
              <a:chExt cx="230400" cy="289080"/>
            </a:xfrm>
          </p:grpSpPr>
          <p:sp>
            <p:nvSpPr>
              <p:cNvPr id="230"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1"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dobe Clean"/>
                </a:endParaRPr>
              </a:p>
            </p:txBody>
          </p:sp>
          <p:sp>
            <p:nvSpPr>
              <p:cNvPr id="232"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3"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4"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5"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6"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7"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8"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9"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dobe Clean"/>
                </a:endParaRPr>
              </a:p>
            </p:txBody>
          </p:sp>
        </p:grpSp>
        <p:sp>
          <p:nvSpPr>
            <p:cNvPr id="240"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41" name="PlaceHolder 1"/>
          <p:cNvSpPr>
            <a:spLocks noGrp="1"/>
          </p:cNvSpPr>
          <p:nvPr>
            <p:ph type="title"/>
          </p:nvPr>
        </p:nvSpPr>
        <p:spPr>
          <a:xfrm>
            <a:off x="380520" y="4535280"/>
            <a:ext cx="7815240" cy="1004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RITING FOR THE WEB</a:t>
            </a:r>
            <a:br>
              <a:rPr sz="3200"/>
            </a:br>
            <a:endParaRPr b="0" lang="en-US" sz="3200" spc="-1" strike="noStrike">
              <a:solidFill>
                <a:srgbClr val="dadde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clusion</a:t>
            </a:r>
            <a:endParaRPr b="0" lang="en-US" sz="2200" spc="-1" strike="noStrike">
              <a:solidFill>
                <a:srgbClr val="dadde0"/>
              </a:solidFill>
              <a:latin typeface="Arial"/>
            </a:endParaRPr>
          </a:p>
        </p:txBody>
      </p:sp>
      <p:sp>
        <p:nvSpPr>
          <p:cNvPr id="26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tle, summary, and major headings should give users a broad overview of the topic.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tences and paragraphs should tell users a story.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ant to take away the main ideas without being bogged down with specif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EF93-461B-487A-A324-11F31A52139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hy is writing for the web different from other writing?</a:t>
            </a:r>
            <a:endParaRPr b="0" lang="en-US" sz="2200" spc="-1" strike="noStrike">
              <a:solidFill>
                <a:srgbClr val="dadde0"/>
              </a:solidFill>
              <a:latin typeface="Arial"/>
            </a:endParaRPr>
          </a:p>
        </p:txBody>
      </p:sp>
      <p:sp>
        <p:nvSpPr>
          <p:cNvPr id="243" name=""/>
          <p:cNvSpPr txBox="1"/>
          <p:nvPr/>
        </p:nvSpPr>
        <p:spPr>
          <a:xfrm>
            <a:off x="228240" y="990720"/>
            <a:ext cx="8288280" cy="480672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read information online differently than information in pri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readers coming to a site after an online search often don’t know if a website will meet their need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do not quickly find the information they are looking for, they will deem the site of little value, no matter how well it is designed or how easy to us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usable content can be achieved by writing for readers with varying levels of interest. A writer’s goal should be to give all readers their desired level of information as quickly as possible. </a:t>
            </a:r>
            <a:endParaRPr b="0" lang="en-US" sz="2000" spc="-1" strike="noStrike">
              <a:solidFill>
                <a:srgbClr val="000000"/>
              </a:solidFill>
              <a:latin typeface="Arial"/>
            </a:endParaRPr>
          </a:p>
        </p:txBody>
      </p:sp>
      <p:sp>
        <p:nvSpPr>
          <p:cNvPr id="24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16D48-78FD-4866-8895-F4185C4EB91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nline reading behavior</a:t>
            </a:r>
            <a:endParaRPr b="0" lang="en-US" sz="2200" spc="-1" strike="noStrike">
              <a:solidFill>
                <a:srgbClr val="dadde0"/>
              </a:solidFill>
              <a:latin typeface="Arial"/>
            </a:endParaRPr>
          </a:p>
        </p:txBody>
      </p:sp>
      <p:sp>
        <p:nvSpPr>
          <p:cNvPr id="246"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have discovered the following behaviors of online users:</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judge websites in a fraction of a second.</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can content, hunting for the information they’re after, as opposed to reading word-for-word. </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ad more slowly from screens than from print.</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actions and competition from online messaging, Facebook, and so on make it hard to keep users’ attention.</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so much information is available online, users need to determine quickly if content is worth reading and spending time with.</a:t>
            </a:r>
            <a:endParaRPr b="0" lang="en-US" sz="2000" spc="-1" strike="noStrike">
              <a:solidFill>
                <a:srgbClr val="00000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4F2F1-861E-4D51-976E-FA308F34AEF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Know your audience</a:t>
            </a:r>
            <a:endParaRPr b="0" lang="en-US" sz="2200" spc="-1" strike="noStrike">
              <a:solidFill>
                <a:srgbClr val="dadde0"/>
              </a:solidFill>
              <a:latin typeface="Arial"/>
            </a:endParaRPr>
          </a:p>
        </p:txBody>
      </p:sp>
      <p:sp>
        <p:nvSpPr>
          <p:cNvPr id="249"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udience: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you identify your audience, determine various interest levels of your overall audience and try to write for each level (none, little, some, strong, and so 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user persona for each kind of user to help you determine how to get their attenti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as if you are speaking to your audience in pers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for all users: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users of various reading level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all content is accessible.</a:t>
            </a:r>
            <a:endParaRPr b="0" lang="en-US" sz="1600" spc="-1" strike="noStrike">
              <a:solidFill>
                <a:srgbClr val="000000"/>
              </a:solidFill>
              <a:latin typeface="Arial"/>
            </a:endParaRPr>
          </a:p>
        </p:txBody>
      </p:sp>
      <p:sp>
        <p:nvSpPr>
          <p:cNvPr id="25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CA02-BD24-43E9-9F41-B38579BD258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guidelines</a:t>
            </a:r>
            <a:endParaRPr b="0" lang="en-US" sz="2200" spc="-1" strike="noStrike">
              <a:solidFill>
                <a:srgbClr val="dadde0"/>
              </a:solidFill>
              <a:latin typeface="Arial"/>
            </a:endParaRPr>
          </a:p>
        </p:txBody>
      </p:sp>
      <p:sp>
        <p:nvSpPr>
          <p:cNvPr id="252" name=""/>
          <p:cNvSpPr txBox="1"/>
          <p:nvPr/>
        </p:nvSpPr>
        <p:spPr>
          <a:xfrm>
            <a:off x="228240" y="990360"/>
            <a:ext cx="857268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s for effective communication</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lear, simple, and familiar language.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jargon, acronyms, and abbreviation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n active and objective voice.</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direct and concise, getting to the important points quick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he conclusion first so readers know exactly what they will get from the conten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nk content</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unk</a:t>
            </a:r>
            <a:r>
              <a:rPr b="0" lang="en-US" sz="1600" spc="-1" strike="noStrike">
                <a:solidFill>
                  <a:srgbClr val="000000"/>
                </a:solidFill>
                <a:latin typeface="Arial"/>
              </a:rPr>
              <a:t> means a manageable bit – a small piece of information a user can easily find and understand.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d important words or phras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ist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content short and create space for scanning it easi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ragments or phrases instead of prose style – if you can cut a word, cut it.</a:t>
            </a:r>
            <a:endParaRPr b="0" lang="en-US" sz="16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67AB-465A-4415-BA4D-A7F2D26DF2F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5"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tle is the first piece of information a user scans. Make it clear, inviting, and meaningful.</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s and subheading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s should be short, direct, and powerful.</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headings should be descriptive so users easily learn what each section is about. Use subheadings frequently (every few paragraphs) to keep user moving through content in easy chunk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s and paragraphs – shorter is better</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ences should be no longer than about 20 word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entence should be limited to one idea.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raphs should have no more than about 6 sentenc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ragraph should be limited to one or two ideas.</a:t>
            </a:r>
            <a:endParaRPr b="0" lang="en-US" sz="1600" spc="-1" strike="noStrike">
              <a:solidFill>
                <a:srgbClr val="000000"/>
              </a:solidFill>
              <a:latin typeface="Arial"/>
            </a:endParaRPr>
          </a:p>
        </p:txBody>
      </p:sp>
      <p:sp>
        <p:nvSpPr>
          <p:cNvPr id="25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E83D-1DA2-4EA1-94E3-7C0387C375B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 are easy to scan because content is vertical.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presented in lists is usually more succinc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scriptive link text so users know where they are going.</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related informati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elemen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llouts, bold, and italics to make text easier to scan.</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pictures and other visual elements in place of text when appropriate.</a:t>
            </a:r>
            <a:endParaRPr b="0" lang="en-US" sz="16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05CB-41DC-445F-92FD-34D0E04839A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for mobile devices</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content on mobile devices is more difficult that reading content on a desktop compute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riting for mobile users, focus their attention on the essential content.</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 secondary content to secondary pages to maintain focus on the most essential content.</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for mobile readers requires even harsher editing than writing for the Web. Mobile use implies less patience for filler copy.</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n doubt, leave it out. </a:t>
            </a:r>
            <a:endParaRPr b="0" lang="en-US" sz="18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9793-8A34-4F5F-9147-D4A4D64D9B0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
        <p:nvSpPr>
          <p:cNvPr id="263" name="TextBox 4"/>
          <p:cNvSpPr/>
          <p:nvPr/>
        </p:nvSpPr>
        <p:spPr>
          <a:xfrm>
            <a:off x="125640" y="6594480"/>
            <a:ext cx="2658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adde0"/>
                </a:solidFill>
                <a:latin typeface="Arial"/>
                <a:ea typeface="Arial"/>
              </a:rPr>
              <a:t>Source: http://www.useit.com/papers/webwriting/</a:t>
            </a:r>
            <a:endParaRPr b="0" lang="en-US" sz="9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Best practices</a:t>
            </a:r>
            <a:endParaRPr b="0" lang="en-US" sz="2200" spc="-1" strike="noStrike">
              <a:solidFill>
                <a:srgbClr val="dadde0"/>
              </a:solidFill>
              <a:latin typeface="Arial"/>
            </a:endParaRPr>
          </a:p>
        </p:txBody>
      </p:sp>
      <p:sp>
        <p:nvSpPr>
          <p:cNvPr id="26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and emulate great web writing.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urate descriptions and keywords for search engin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eb writing guidelines when repurposing print documents for the web.</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style guid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your conten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links work and are relevant.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titles and summaries provide information about the contents of the page.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content from the view of your defined personas and make sure all users will find information quickly and accurately. </a:t>
            </a:r>
            <a:endParaRPr b="0" lang="en-US" sz="1800" spc="-1" strike="noStrike">
              <a:solidFill>
                <a:srgbClr val="000000"/>
              </a:solidFill>
              <a:latin typeface="Arial"/>
            </a:endParaRPr>
          </a:p>
        </p:txBody>
      </p:sp>
      <p:sp>
        <p:nvSpPr>
          <p:cNvPr id="26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9FF69-EC13-44BF-8A49-8F86D8688C8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Jacques</cp:lastModifiedBy>
  <dcterms:modified xsi:type="dcterms:W3CDTF">2013-06-12T18:39:57Z</dcterms:modified>
  <cp:revision>125</cp:revision>
  <dc:subject/>
  <dc:title>INTRODUCTION TO DESIGN MOVEMENT, BALANCE, UNITY, CONTRAST, EMPHASIS, LINE, AND COLOR</dc:title>
</cp:coreProperties>
</file>