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dobe Clean"/>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5445-D95C-4008-BEA7-E0344B71948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7C12-2304-44C3-89D0-C2974D978EAA}"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information about the differences between HTML4 and HTML5, see: http://dev.w3.org/html5/html4-differen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A434-B8B0-485C-B288-2D3B1DF48EF1}"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EB412-11EF-4A7D-AA10-8338E5529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1AC2A-0CEE-4C24-9DE9-E138E27BF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9DFC0-811E-4BDA-A17F-334C6F783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5C364-3C75-4C19-AA6D-1CBC54066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A2635C-17C6-468A-90AF-72F4C914A8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9CB3E-85A0-4F33-8CD5-18AF3D008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560D4-EFC7-4734-8F27-E85E06CA3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5A2BC-6D9C-4835-8426-76D4D5891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397C4-65DB-4118-A85F-AE91F401C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C0E34-13F5-49BC-AC85-C039BFA28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DFAAD-7EBE-4673-924F-557CDC04A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A5181-DA63-46D1-A8A1-8DC487EDD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B9EFD-F832-4518-AADA-7DF08E29C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08E2C-E5AF-4284-BBC7-87E149E5A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672D4-3651-46CB-B408-37D845920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3EBBDF-F6D2-4D56-9042-6C9B4C87A2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EAB4B3-F4B2-43DC-A9D5-90C24387E3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80DBA9-A7E8-4A42-9D68-DFF52A3AF0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F46E3D-C87C-40F6-AE44-C7A2353A33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87C92C-6BFC-4DBD-A1EC-D5AB01E3E5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060C23-DCAE-4E50-82ED-6E563C2C0B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FE2CA6-987E-4E9D-AD31-D9B5602C6D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962F6-4E86-40A9-877F-565EF64F6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538E7F-F461-43A7-844E-7C0BA03D20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F61531-4841-4311-8D7B-420622252B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9A7A50-66FC-4E58-9F3A-F2D768EEFC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AB78CD-9B6E-40A9-98A1-32A1A835EA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788D91-1825-40C3-AF80-D446A8BB31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9BF49F-E9B1-48B6-9DA2-25174D7445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6A16EE-C0E3-475C-9CE2-F986BC66C1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E29C17-9D83-497C-9384-E15B8F8F66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5B666B-CDE5-4DB3-86D4-B39E3A8550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D9CDA1-084F-4EE6-A703-04A1E53488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F0DB0-D533-4B45-B369-E1C969D2E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5B7F80-E614-44D6-8211-74FBFDCA24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61F891-8E3B-4170-8B56-90CFF9F0DE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372255-3D5E-4491-82D1-53806FC606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E657B1-F322-48B4-BAAE-08C4C3E2D1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5C0F72-D499-435E-9660-A1700F9BC6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FEB46B-F5EB-47E0-9416-230E9CE1BF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02547B-61E0-4F5B-93AD-A4936BDF55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53A965-31E0-44C3-A8EB-0DC7B70F75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F2DE3C-8A96-434A-B44D-AF50C56705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C2C56-3137-43C2-83DF-F36F30543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E9F0D-B5B2-46F2-8C22-A4B0332FD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CB24D-AABC-4FD0-9C48-F624565E0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31C3F-461F-49E8-92A2-106419BB6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C1B9E-528D-4CCF-B16B-A6843A2AC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8A380-0A52-4CCD-AE30-4D072AD0B83D}"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67" name="Rectangle 19"/>
          <p:cNvSpPr/>
          <p:nvPr/>
        </p:nvSpPr>
        <p:spPr>
          <a:xfrm>
            <a:off x="8709120" y="6505560"/>
            <a:ext cx="434880" cy="35244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pic>
        <p:nvPicPr>
          <p:cNvPr id="68" name="Picture 19" descr="C:\Users\Jacques\Desktop\untitled folder\Adobe_Green_1920x1430.jpg"/>
          <p:cNvPicPr/>
          <p:nvPr/>
        </p:nvPicPr>
        <p:blipFill>
          <a:blip r:embed="rId2"/>
          <a:stretch/>
        </p:blipFill>
        <p:spPr>
          <a:xfrm>
            <a:off x="-11160" y="0"/>
            <a:ext cx="9171000" cy="6858000"/>
          </a:xfrm>
          <a:prstGeom prst="rect">
            <a:avLst/>
          </a:prstGeom>
          <a:ln w="0">
            <a:noFill/>
          </a:ln>
        </p:spPr>
      </p:pic>
      <p:sp>
        <p:nvSpPr>
          <p:cNvPr id="6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7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72" name="PlaceHolder 4"/>
          <p:cNvSpPr>
            <a:spLocks noGrp="1"/>
          </p:cNvSpPr>
          <p:nvPr>
            <p:ph type="ftr" idx="5"/>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73" name="PlaceHolder 5"/>
          <p:cNvSpPr>
            <a:spLocks noGrp="1"/>
          </p:cNvSpPr>
          <p:nvPr>
            <p:ph type="sldNum" idx="6"/>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03887-824E-4243-B64A-4398F490AA17}"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13" name="Group 9"/>
          <p:cNvGrpSpPr/>
          <p:nvPr/>
        </p:nvGrpSpPr>
        <p:grpSpPr>
          <a:xfrm>
            <a:off x="8786880" y="6529320"/>
            <a:ext cx="203040" cy="255600"/>
            <a:chOff x="8786880" y="6529320"/>
            <a:chExt cx="203040" cy="255600"/>
          </a:xfrm>
        </p:grpSpPr>
        <p:sp>
          <p:nvSpPr>
            <p:cNvPr id="11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1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23"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4"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25"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6" name="PlaceHolder 3"/>
          <p:cNvSpPr>
            <a:spLocks noGrp="1"/>
          </p:cNvSpPr>
          <p:nvPr>
            <p:ph type="dt" idx="7"/>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7" name="PlaceHolder 4"/>
          <p:cNvSpPr>
            <a:spLocks noGrp="1"/>
          </p:cNvSpPr>
          <p:nvPr>
            <p:ph type="ftr" idx="8"/>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28" name="PlaceHolder 5"/>
          <p:cNvSpPr>
            <a:spLocks noGrp="1"/>
          </p:cNvSpPr>
          <p:nvPr>
            <p:ph type="sldNum" idx="9"/>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E1ACA-D292-4AE4-8F69-3B5892DA3FA4}"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6"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7"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68" name="Group 9"/>
          <p:cNvGrpSpPr/>
          <p:nvPr/>
        </p:nvGrpSpPr>
        <p:grpSpPr>
          <a:xfrm>
            <a:off x="8786880" y="6529320"/>
            <a:ext cx="203040" cy="255600"/>
            <a:chOff x="8786880" y="6529320"/>
            <a:chExt cx="203040" cy="255600"/>
          </a:xfrm>
        </p:grpSpPr>
        <p:sp>
          <p:nvSpPr>
            <p:cNvPr id="169"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70"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1"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2"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3"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4"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5"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6"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7"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78"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81" name="PlaceHolder 3"/>
          <p:cNvSpPr>
            <a:spLocks noGrp="1"/>
          </p:cNvSpPr>
          <p:nvPr>
            <p:ph type="dt" idx="10"/>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82" name="PlaceHolder 4"/>
          <p:cNvSpPr>
            <a:spLocks noGrp="1"/>
          </p:cNvSpPr>
          <p:nvPr>
            <p:ph type="ftr" idx="11"/>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83" name="PlaceHolder 5"/>
          <p:cNvSpPr>
            <a:spLocks noGrp="1"/>
          </p:cNvSpPr>
          <p:nvPr>
            <p:ph type="sldNum" idx="12"/>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39DA-C44A-4D67-9865-70E757805CA2}"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
          <p:cNvSpPr/>
          <p:nvPr/>
        </p:nvSpPr>
        <p:spPr>
          <a:xfrm>
            <a:off x="302040" y="6689160"/>
            <a:ext cx="27439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Copyright 2012 Adobe Systems Incorporated.  All rights reserved. </a:t>
            </a:r>
            <a:endParaRPr b="0" lang="en-US" sz="700" spc="-1" strike="noStrike">
              <a:solidFill>
                <a:srgbClr val="000000"/>
              </a:solidFill>
              <a:latin typeface="Adobe Clean"/>
            </a:endParaRPr>
          </a:p>
        </p:txBody>
      </p:sp>
      <p:grpSp>
        <p:nvGrpSpPr>
          <p:cNvPr id="228" name="Group 6"/>
          <p:cNvGrpSpPr/>
          <p:nvPr/>
        </p:nvGrpSpPr>
        <p:grpSpPr>
          <a:xfrm>
            <a:off x="8785080" y="6475320"/>
            <a:ext cx="237600" cy="293760"/>
            <a:chOff x="8785080" y="6475320"/>
            <a:chExt cx="237600" cy="293760"/>
          </a:xfrm>
        </p:grpSpPr>
        <p:grpSp>
          <p:nvGrpSpPr>
            <p:cNvPr id="229" name="Group 7"/>
            <p:cNvGrpSpPr/>
            <p:nvPr/>
          </p:nvGrpSpPr>
          <p:grpSpPr>
            <a:xfrm>
              <a:off x="8785080" y="6480000"/>
              <a:ext cx="230400" cy="289080"/>
              <a:chOff x="8785080" y="6480000"/>
              <a:chExt cx="230400" cy="289080"/>
            </a:xfrm>
          </p:grpSpPr>
          <p:sp>
            <p:nvSpPr>
              <p:cNvPr id="230"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1"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dobe Clean"/>
                </a:endParaRPr>
              </a:p>
            </p:txBody>
          </p:sp>
          <p:sp>
            <p:nvSpPr>
              <p:cNvPr id="232"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3"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4"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5"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6"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7"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8"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9"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dobe Clean"/>
                </a:endParaRPr>
              </a:p>
            </p:txBody>
          </p:sp>
        </p:grpSp>
        <p:sp>
          <p:nvSpPr>
            <p:cNvPr id="240" name="Text Box 18"/>
            <p:cNvSpPr/>
            <p:nvPr/>
          </p:nvSpPr>
          <p:spPr>
            <a:xfrm>
              <a:off x="9002160" y="6475320"/>
              <a:ext cx="20520" cy="30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ea typeface="Arial"/>
                </a:rPr>
                <a:t>®</a:t>
              </a:r>
              <a:endParaRPr b="0" lang="en-US" sz="200" spc="-1" strike="noStrike">
                <a:solidFill>
                  <a:srgbClr val="000000"/>
                </a:solidFill>
                <a:latin typeface="Adobe Clean"/>
              </a:endParaRPr>
            </a:p>
          </p:txBody>
        </p:sp>
      </p:grpSp>
      <p:sp>
        <p:nvSpPr>
          <p:cNvPr id="241" name="PlaceHolder 1"/>
          <p:cNvSpPr>
            <a:spLocks noGrp="1"/>
          </p:cNvSpPr>
          <p:nvPr>
            <p:ph type="title"/>
          </p:nvPr>
        </p:nvSpPr>
        <p:spPr>
          <a:xfrm>
            <a:off x="380520" y="4535280"/>
            <a:ext cx="7815240" cy="1004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WRITING FOR THE WEB</a:t>
            </a:r>
            <a:br>
              <a:rPr sz="3200"/>
            </a:br>
            <a:endParaRPr b="0" lang="en-US" sz="3200" spc="-1" strike="noStrike">
              <a:solidFill>
                <a:srgbClr val="dadde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clusion</a:t>
            </a:r>
            <a:endParaRPr b="0" lang="en-US" sz="2200" spc="-1" strike="noStrike">
              <a:solidFill>
                <a:srgbClr val="dadde0"/>
              </a:solidFill>
              <a:latin typeface="Arial"/>
            </a:endParaRPr>
          </a:p>
        </p:txBody>
      </p:sp>
      <p:sp>
        <p:nvSpPr>
          <p:cNvPr id="26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tle, summary, and major headings should give users a broad overview of the topic.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ntences and paragraphs should tell users a story.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want to take away the main ideas without being bogged down with specif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5778-838F-4D50-A885-1D707327ABB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hy is writing for the web different from other writing?</a:t>
            </a:r>
            <a:endParaRPr b="0" lang="en-US" sz="2200" spc="-1" strike="noStrike">
              <a:solidFill>
                <a:srgbClr val="dadde0"/>
              </a:solidFill>
              <a:latin typeface="Arial"/>
            </a:endParaRPr>
          </a:p>
        </p:txBody>
      </p:sp>
      <p:sp>
        <p:nvSpPr>
          <p:cNvPr id="243" name=""/>
          <p:cNvSpPr txBox="1"/>
          <p:nvPr/>
        </p:nvSpPr>
        <p:spPr>
          <a:xfrm>
            <a:off x="228240" y="990720"/>
            <a:ext cx="8288280" cy="480672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read information online differently than information in pri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readers coming to a site after an online search often don’t know if a website will meet their need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y do not quickly find the information they are looking for, they will deem the site of little value, no matter how well it is designed or how easy to us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usable content can be achieved by writing for readers with varying levels of interest. A writer’s goal should be to give all readers their desired level of information as quickly as possible. </a:t>
            </a:r>
            <a:endParaRPr b="0" lang="en-US" sz="2000" spc="-1" strike="noStrike">
              <a:solidFill>
                <a:srgbClr val="000000"/>
              </a:solidFill>
              <a:latin typeface="Arial"/>
            </a:endParaRPr>
          </a:p>
        </p:txBody>
      </p:sp>
      <p:sp>
        <p:nvSpPr>
          <p:cNvPr id="244"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11E22-1692-4DF4-8DC7-4991525CFE8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nline reading behavior</a:t>
            </a:r>
            <a:endParaRPr b="0" lang="en-US" sz="2200" spc="-1" strike="noStrike">
              <a:solidFill>
                <a:srgbClr val="dadde0"/>
              </a:solidFill>
              <a:latin typeface="Arial"/>
            </a:endParaRPr>
          </a:p>
        </p:txBody>
      </p:sp>
      <p:sp>
        <p:nvSpPr>
          <p:cNvPr id="246" name=""/>
          <p:cNvSpPr txBox="1"/>
          <p:nvPr/>
        </p:nvSpPr>
        <p:spPr>
          <a:xfrm>
            <a:off x="228600" y="990360"/>
            <a:ext cx="868680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ies have discovered the following behaviors of online users:</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judge websites in a fraction of a second.</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can content, hunting for the information they’re after, as opposed to reading word-for-word. </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read more slowly from screens than from print.</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actions and competition from online messaging, Facebook, and so on make it hard to keep users’ attention.</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so much information is available online, users need to determine quickly if content is worth reading and spending time with.</a:t>
            </a:r>
            <a:endParaRPr b="0" lang="en-US" sz="2000" spc="-1" strike="noStrike">
              <a:solidFill>
                <a:srgbClr val="00000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1B9D4-2FF4-4D11-AF77-09685359898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Know your audience</a:t>
            </a:r>
            <a:endParaRPr b="0" lang="en-US" sz="2200" spc="-1" strike="noStrike">
              <a:solidFill>
                <a:srgbClr val="dadde0"/>
              </a:solidFill>
              <a:latin typeface="Arial"/>
            </a:endParaRPr>
          </a:p>
        </p:txBody>
      </p:sp>
      <p:sp>
        <p:nvSpPr>
          <p:cNvPr id="249"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audience: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you identify your audience, determine various interest levels of your overall audience and try to write for each level (none, little, some, strong, and so 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user persona for each kind of user to help you determine how to get their attenti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as if you are speaking to your audience in pers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for all users: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users of various reading level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all content is accessible.</a:t>
            </a:r>
            <a:endParaRPr b="0" lang="en-US" sz="1600" spc="-1" strike="noStrike">
              <a:solidFill>
                <a:srgbClr val="000000"/>
              </a:solidFill>
              <a:latin typeface="Arial"/>
            </a:endParaRPr>
          </a:p>
        </p:txBody>
      </p:sp>
      <p:sp>
        <p:nvSpPr>
          <p:cNvPr id="25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6F59-02B6-4742-B0D3-57F16026997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guidelines</a:t>
            </a:r>
            <a:endParaRPr b="0" lang="en-US" sz="2200" spc="-1" strike="noStrike">
              <a:solidFill>
                <a:srgbClr val="dadde0"/>
              </a:solidFill>
              <a:latin typeface="Arial"/>
            </a:endParaRPr>
          </a:p>
        </p:txBody>
      </p:sp>
      <p:sp>
        <p:nvSpPr>
          <p:cNvPr id="252" name=""/>
          <p:cNvSpPr txBox="1"/>
          <p:nvPr/>
        </p:nvSpPr>
        <p:spPr>
          <a:xfrm>
            <a:off x="228240" y="990360"/>
            <a:ext cx="857268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lines for effective communication</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lear, simple, and familiar language.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jargon, acronyms, and abbreviation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n active and objective voice.</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direct and concise, getting to the important points quick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the conclusion first so readers know exactly what they will get from the conten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nk content</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unk</a:t>
            </a:r>
            <a:r>
              <a:rPr b="0" lang="en-US" sz="1600" spc="-1" strike="noStrike">
                <a:solidFill>
                  <a:srgbClr val="000000"/>
                </a:solidFill>
                <a:latin typeface="Arial"/>
              </a:rPr>
              <a:t> means a manageable bit – a small piece of information a user can easily find and understand.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ld important words or phras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list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content short and create space for scanning it easi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ragments or phrases instead of prose style – if you can cut a word, cut it.</a:t>
            </a:r>
            <a:endParaRPr b="0" lang="en-US" sz="16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FBFC2-D8A7-4CB3-B0E2-6644B264197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5"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le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itle is the first piece of information a user scans. Make it clear, inviting, and meaningful.</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s and subheading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s should be short, direct, and powerful.</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headings should be descriptive so users easily learn what each section is about. Use subheadings frequently (every few paragraphs) to keep user moving through content in easy chunks.</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ences and paragraphs – shorter is better</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tences should be no longer than about 20 word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entence should be limited to one idea.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graphs should have no more than about 6 sentenc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aragraph should be limited to one or two ideas.</a:t>
            </a:r>
            <a:endParaRPr b="0" lang="en-US" sz="1600" spc="-1" strike="noStrike">
              <a:solidFill>
                <a:srgbClr val="000000"/>
              </a:solidFill>
              <a:latin typeface="Arial"/>
            </a:endParaRPr>
          </a:p>
        </p:txBody>
      </p:sp>
      <p:sp>
        <p:nvSpPr>
          <p:cNvPr id="25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06158-88D2-4605-95EA-23F1E78EEE9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s are easy to scan because content is vertical.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presented in lists is usually more succinc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scriptive link text so users know where they are going.</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related informati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elemen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llouts, bold, and italics to make text easier to scan.</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pictures and other visual elements in place of text when appropriate.</a:t>
            </a:r>
            <a:endParaRPr b="0" lang="en-US" sz="16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06016-C361-44A7-8132-5976F805383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for mobile devices</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content on mobile devices is more difficult that reading content on a desktop compute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riting for mobile users, focus their attention on the essential content.</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 secondary content to secondary pages to maintain focus on the most essential content.</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for mobile readers requires even harsher editing than writing for the Web. Mobile use implies less patience for filler copy.</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n doubt, leave it out. </a:t>
            </a:r>
            <a:endParaRPr b="0" lang="en-US" sz="18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3D9A2-0D5B-49B9-B96D-27802D528AB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
        <p:nvSpPr>
          <p:cNvPr id="263" name="TextBox 4"/>
          <p:cNvSpPr/>
          <p:nvPr/>
        </p:nvSpPr>
        <p:spPr>
          <a:xfrm>
            <a:off x="125640" y="6594480"/>
            <a:ext cx="2658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adde0"/>
                </a:solidFill>
                <a:latin typeface="Arial"/>
                <a:ea typeface="Arial"/>
              </a:rPr>
              <a:t>Source: http://www.useit.com/papers/webwriting/</a:t>
            </a:r>
            <a:endParaRPr b="0" lang="en-US" sz="900" spc="-1" strike="noStrike">
              <a:solidFill>
                <a:srgbClr val="000000"/>
              </a:solidFill>
              <a:latin typeface="Adobe Cle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Best practices</a:t>
            </a:r>
            <a:endParaRPr b="0" lang="en-US" sz="2200" spc="-1" strike="noStrike">
              <a:solidFill>
                <a:srgbClr val="dadde0"/>
              </a:solidFill>
              <a:latin typeface="Arial"/>
            </a:endParaRPr>
          </a:p>
        </p:txBody>
      </p:sp>
      <p:sp>
        <p:nvSpPr>
          <p:cNvPr id="26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and emulate great web writing.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ccurate descriptions and keywords for search engine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web writing guidelines when repurposing print documents for the web.</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style guid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your conten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links work and are relevant.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titles and summaries provide information about the contents of the page.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content from the view of your defined personas and make sure all users will find information quickly and accurately. </a:t>
            </a:r>
            <a:endParaRPr b="0" lang="en-US" sz="1800" spc="-1" strike="noStrike">
              <a:solidFill>
                <a:srgbClr val="000000"/>
              </a:solidFill>
              <a:latin typeface="Arial"/>
            </a:endParaRPr>
          </a:p>
        </p:txBody>
      </p:sp>
      <p:sp>
        <p:nvSpPr>
          <p:cNvPr id="26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A2B8F-A9C3-440C-8C8A-15FA8A26B64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9:48:14Z</dcterms:created>
  <dc:creator>Matt Niemitz</dc:creator>
  <dc:description/>
  <dc:language>en-US</dc:language>
  <cp:lastModifiedBy>Jacques</cp:lastModifiedBy>
  <dcterms:modified xsi:type="dcterms:W3CDTF">2013-06-12T18:39:57Z</dcterms:modified>
  <cp:revision>125</cp:revision>
  <dc:subject/>
  <dc:title>INTRODUCTION TO DESIGN MOVEMENT, BALANCE, UNITY, CONTRAST, EMPHASIS, LINE, AND COLOR</dc:title>
</cp:coreProperties>
</file>