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F460-E8D2-4862-808D-D6CC2133A07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AF6E-1B4E-4ED1-AA61-2AC5669255E6}"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about the differences between HTML4 and HTML5, see: http://dev.w3.org/html5/html4-differ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4F71-266C-4645-984B-7096B8BE7241}"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4B375-AFF9-4DB6-9F84-2D7DB24DF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ED941-D35F-4EF7-A6DB-B2D945847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8D6DE-0FB4-4B01-BCAE-E1575B8AC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62F8C-23B0-406C-898C-E5D4C497F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6229C-36FF-4E6F-8343-8E525ACBF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63616-15D2-4B3E-B631-E98900A4C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6741C-3546-4ABA-9183-9F67EFB4B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6C233-AA5B-4886-9456-3C2DCCE10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5B25E-0246-4D36-8B39-FDB0C9B4D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E3D51-2BB7-4C7C-9C11-6ECCA48AA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642C4-FC2F-43B0-BFDD-7D1B3C960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BA722-FC83-43F1-B67A-CB16B3C2A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826EB-0526-40CC-BC02-43AC6D57D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D9D69-DAE1-41D9-B91D-38C57E258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A66FD-09BF-460D-8FC9-9CD8814A5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85F26-BDD4-4669-934D-E9C43927B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54FC4-81A3-41D5-8B4A-264B49F10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7D54D0-C68F-4F0C-8C48-835F964BF9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ED7071-3055-44B5-B785-B89BA36FE7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ACD01D-6D78-4086-945A-C0DF5BCA3A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9F6864-D62A-4B4C-B7D6-DC6CF58DDE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8B111B-0DDF-49BB-8C55-95F7CF4295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9DC2F-0701-4C1F-9C9A-9E7D2E2EA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DCD73D-EE7A-4A1B-8199-74644185A5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2CB472-1D80-4609-A528-AE73007906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48AF7-DE9B-4896-98BF-5EE5DC4162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D3ACB1-A274-487D-8EAD-5943DDAA1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502882-054E-45EF-9E39-35CDEAA0ED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8F38BA-555B-4B30-B402-1EA064050B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F8A8DF-0B78-43DB-96CC-B46A2D51F3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D2FF8A-CF83-45B7-A35C-80FD782FFC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AAE40F-341A-41EB-84ED-783903930B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8B9871-898C-4D0B-B762-D1AAE8392C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50AFA-4C5A-4A49-A0AF-EC20D39FE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557A08-485F-4C00-B30D-052D70BBF7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C43FFF-6406-42F3-A9B0-AD6587D9B4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B21ED1-F35A-4F8B-9F82-90AC790FE7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11F11-35FA-4960-8CB7-BCC5849AC1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12A725-9CFC-4CBE-B4CC-07E7807A63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2DECB3-9751-4A38-A94C-EFC6CA19C7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2CB860-6B4F-4D1D-9289-0146C5B992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01C6CB-0D38-486F-943B-818C03DF49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FB07AA-DEC1-445E-811D-D7058EAC73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0CE1B-51D5-46F7-BE3E-0C24202AD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FB820-2ECA-4E84-9302-AAC4ADF98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AF63D-3C29-4AE8-81D2-B7AC983DE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9DD2F-8478-45C8-BC44-2D6ACE12E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E3BF2-E197-49EF-B6CD-D4DEBC848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2E4C-33F0-4480-AA3B-803044AE38C0}"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981E-CA3F-4988-A5E7-6B059553F334}"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B54E-4FF9-4611-B25F-2FD0C962E464}"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DAE3-A784-412C-933B-064EC7E23C3D}"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302040" y="6689160"/>
            <a:ext cx="27439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RITING FOR THE WEB</a:t>
            </a:r>
            <a:br>
              <a:rPr sz="3200"/>
            </a:b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tle, summary, and major headings should give users a broad overview of the topic.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tences and paragraphs should tell users a story.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ant to take away the main ideas without being bogged down with specif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F92F-1F69-4DD0-ACEE-2E151A286E2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y is writing for the web different from other writing?</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read information online differently than information in pri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readers coming to a site after an online search often don’t know if a website will meet their need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do not quickly find the information they are looking for, they will deem the site of little value, no matter how well it is designed or how easy to us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able content can be achieved by writing for readers with varying levels of interest. A writer’s goal should be to give all readers their desired level of information as quickly as possible.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56BF-B0AD-45E2-B99D-BE42BBD3EA1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nline reading behavior</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discovered the following behaviors of online user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dge websites in a fraction of a second.</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can content, hunting for the information they’re after, as opposed to reading word-for-word. </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ad more slowly from screens than from pri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s and competition from online messaging, Facebook, and so on make it hard to keep users’ attentio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 much information is available online, users need to determine quickly if content is worth reading and spending time with.</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982E-6C17-43C7-8591-F669D84112C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now your audienc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udience: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identify your audience, determine various interest levels of your overall audience and try to write for each level (none, little, some, strong, and so 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user persona for each kind of user to help you determine how to get their attenti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as if you are speaking to your audience in pers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for all users: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users of various reading level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all content is accessible.</a:t>
            </a:r>
            <a:endParaRPr b="0" lang="en-US" sz="16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C0A4-9BBB-4F63-A9A5-869CE565990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guidelin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effective communication</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lear, simple, and familiar language.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jargon, acronyms, and abbreviation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 active and objective voice.</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direct and concise, getting to the important points quick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conclusion first so readers know exactly what they will get from the conten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nk content</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unk</a:t>
            </a:r>
            <a:r>
              <a:rPr b="0" lang="en-US" sz="1600" spc="-1" strike="noStrike">
                <a:solidFill>
                  <a:srgbClr val="000000"/>
                </a:solidFill>
                <a:latin typeface="Arial"/>
              </a:rPr>
              <a:t> means a manageable bit – a small piece of information a user can easily find and understand.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d important words or phras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ist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content short and create space for scanning it easi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ragments or phrases instead of prose style – if you can cut a word, cut it.</a:t>
            </a:r>
            <a:endParaRPr b="0" lang="en-US" sz="16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77DD-290B-4812-AA16-7A264B2EBA1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tle is the first piece of information a user scans. Make it clear, inviting, and meaningful.</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s and subheading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s should be short, direct, and powerful.</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headings should be descriptive so users easily learn what each section is about. Use subheadings frequently (every few paragraphs) to keep user moving through content in easy chunk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s and paragraphs – shorter is better</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ences should be no longer than about 20 word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ntence should be limited to one idea.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s should have no more than about 6 sentenc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agraph should be limited to one or two ideas.</a:t>
            </a:r>
            <a:endParaRPr b="0" lang="en-US" sz="16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992A-E8DD-448D-BE5D-D7547BD2D22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re easy to scan because content is vertical.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ed in lists is usually more succinc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scriptive link text so users know where they are going.</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related informa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elemen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llouts, bold, and italics to make text easier to scan.</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pictures and other visual elements in place of text when appropriate.</a:t>
            </a:r>
            <a:endParaRPr b="0" lang="en-US" sz="16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0249-78DD-403D-98B8-FC7091A32E3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for mobile devices</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content on mobile devices is more difficult that reading content on a desktop compute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riting for mobile users, focus their attention on the essential content.</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secondary content to secondary pages to maintain focus on the most essential content.</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for mobile readers requires even harsher editing than writing for the Web. Mobile use implies less patience for filler copy.</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 doubt, leave it out. </a:t>
            </a:r>
            <a:endParaRPr b="0" lang="en-US" sz="18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12D7-12F0-4454-8EE5-D14C691A3DB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
        <p:nvSpPr>
          <p:cNvPr id="263" name="TextBox 4"/>
          <p:cNvSpPr/>
          <p:nvPr/>
        </p:nvSpPr>
        <p:spPr>
          <a:xfrm>
            <a:off x="125640" y="6594480"/>
            <a:ext cx="265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adde0"/>
                </a:solidFill>
                <a:latin typeface="Arial"/>
                <a:ea typeface="Arial"/>
              </a:rPr>
              <a:t>Source: http://www.useit.com/papers/webwriting/</a:t>
            </a:r>
            <a:endParaRPr b="0" lang="en-US" sz="9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6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and emulate great web writing.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urate descriptions and keywords for search engin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writing guidelines when repurposing print documents for the web.</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yle guid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conten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links work and are relevant.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titles and summaries provide information about the contents of the page.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ntent from the view of your defined personas and make sure all users will find information quickly and accurately. </a:t>
            </a:r>
            <a:endParaRPr b="0" lang="en-US" sz="1800" spc="-1" strike="noStrike">
              <a:solidFill>
                <a:srgbClr val="000000"/>
              </a:solidFill>
              <a:latin typeface="Arial"/>
            </a:endParaRPr>
          </a:p>
        </p:txBody>
      </p:sp>
      <p:sp>
        <p:nvSpPr>
          <p:cNvPr id="26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C89E-7908-4910-9985-3EA52D6F804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Jacques</cp:lastModifiedBy>
  <dcterms:modified xsi:type="dcterms:W3CDTF">2013-06-12T18:39:57Z</dcterms:modified>
  <cp:revision>125</cp:revision>
  <dc:subject/>
  <dc:title>INTRODUCTION TO DESIGN MOVEMENT, BALANCE, UNITY, CONTRAST, EMPHASIS, LINE, AND COLOR</dc:title>
</cp:coreProperties>
</file>