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jpeg" ContentType="image/jpe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F1D5-A741-413D-AC39-5A81FD5DA5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1DE4-9F1D-4D70-860D-AE841A9A3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110960" y="4571640"/>
            <a:ext cx="483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875A-53A3-4EB9-A53B-4081B01DE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262160" y="4647960"/>
            <a:ext cx="46814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84EC-1490-485C-A171-FFFC2952A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AD14-E773-477D-9EDA-08D32346B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1036800" y="4722840"/>
            <a:ext cx="490680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students if they can think of other types of balance: texture and no texture (smooth), size and scale, elements of a compos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07C6-18E6-45F9-92A7-9C563E187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A1BA-0D05-46BA-B82F-2FB763115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A158-43EC-488A-953A-E71505D7B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ctangle has three lines of symmetry: Horizontal (blue), Vertical (red), Diagonal (yello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angle has only one line of symmetry: center or, in this orientation, Vertical. You can draw two other lines of symmetry from any of the vertices to the center of the opposite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53CF-B3D3-40A3-8C08-052A31B92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1CE4-35D8-466D-9BE8-B8E7BF44C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23D2-5C95-4441-8D60-CBC34E9AD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45BE-9668-44FF-B637-AA607080C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D5E4-47C5-4EC1-ADC2-8ABE721B4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A86A-60D0-44C2-8BE5-A358980B7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EC63-2520-469C-B237-9FDC53EEB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D99D-F669-4D9A-88EF-11817EBB8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5F08-AC2B-41AB-8612-66A2CEE5D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B625-B0BC-4FB0-8960-EC133B34A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B65C-4C67-4B6D-9479-038DA41A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8B76-B727-4C6E-AE68-557DE497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8CFA-BB85-4BD8-9FB4-5A84620D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CB70-125E-4E47-BD30-64A2DE8C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ACA4-91DA-49E1-BC6B-CF7E7629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C044-0D7A-4D62-9BD1-AA6F9E5F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0757-7ECA-4CDD-B0F2-97B8AA86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C9B6-D182-4333-A62C-D3D43D09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8238-1058-4A84-A94B-1C13E5D9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96A2-A64D-4142-A4E0-AB1DFC99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C8D3-1F67-4687-ACEF-A057A0F7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9807-EF4C-4281-B6A4-C4BA562C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C40A-E105-417A-A370-F25DEA50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2220-ECFB-498D-B8E3-5DF395CC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2D46-FC4A-499E-B8F7-9812F42F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0B7E-0340-4977-8956-E269DF2E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DE37-8819-4164-BDA0-88924054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083CA-B2E8-4224-A51F-BFF03473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1E3F8-8897-44AB-BE51-062C9B16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DD3A6-AE5B-453B-998C-CC7CCDE9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2F2D0-55F6-4E06-9986-39CD9A54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FF0AB-3539-41B2-A854-3C395B87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3325-7623-4478-91E7-4D8634AB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29EB8-E2D3-4DD1-82C6-CED4F24E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C1C60-78FF-4E36-A2F3-6486418A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CEA63-8269-4A43-A716-DAEB0911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EC4E4-1856-4651-B945-D199D966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75C67-E1CE-47FC-AB2C-D045CDBF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FAD59-FE59-4EF2-BF2D-2F8D1CB9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744D8-7D62-496F-B465-8FE6AE9F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D47D7-769F-42BC-A648-9670026D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0B0ED-67F1-4F09-B513-5408C1AD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9EB3D-6215-4A04-904B-DFC9CAF0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9F71-EBBE-4790-91CE-133CA990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2DA34-966A-4F12-802E-BC2AA864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12D1B-863E-48A2-811B-73CA75CD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296C1-F2C2-4879-BDFA-6C52C525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A253A-C178-4BD2-9C65-B5EEB188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22D18-BEB7-4F26-AE06-D746A55E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3DE92-77B5-4560-B730-627D1EE9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C13FE-F738-4E46-8F59-CA7FE7DC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B8FFD-8F04-41DF-B198-4B90EF5B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1036B-3522-49FC-9B98-64925A67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16FF65-D3D3-4AC3-90BB-E43F9497A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8489-2742-4F74-A310-F892CA7D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F7D838-CAE6-42AB-A44D-9350F051F3C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AEB0FB-CEA1-4FE0-BB98-851FBB5E345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B63C35-1287-4A09-B919-CD1C1507CD2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1EC343-DEC0-416B-9B64-7EE5CF483D1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A6521D-63EF-439C-87C5-091E184A213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92EC30-E2BB-499B-AF9B-6F2C9E3D616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538357-ECEC-4EEE-9AEC-90267132CD7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90C45B-4263-4C5C-A2D6-C877623C8C0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A2BCD7-314B-44CD-B569-C1334D74BDE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D4D1B9-EEAA-4CA7-A455-822B935B5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727C-6B0C-4AC1-8993-CB232A43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39A3EC-6E81-4B9C-B033-0B90E0EABE1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004308-960D-4FBA-ACC7-CF92CFEB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7070C3-F821-4AA0-9C62-6DB445CA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853DD3-D976-445F-AA6A-1A54A9D6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332BC2-95B1-47A9-85DD-B15FA308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51800A-8D2F-459E-BA11-E65FB149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D88584-1EE9-449D-B713-7BC16D44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7A62FF-84BD-45C8-B1A8-D101A664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C57C82-0F52-456F-9502-D6C764A4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B48EE8-59DB-42D1-BDAF-BEC3FB24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5586-9B6E-4185-B8CA-D2D3486D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21F9BF-91A5-4F57-A9CF-D60BE27C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DF47AE-24AC-4BDE-9358-0E6D5BF9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E59EFD-1A96-4E96-9D7D-32CDB10C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500259-48B0-48E9-92BA-CD55C0752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23F142-EFFE-4F4F-BB4A-C69F052B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C21097-52F2-406D-875E-59910B4E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06C7FA-B9B9-4BB0-87FB-C72E00A8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70BADC-5E90-4813-A7E5-02ED589B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165E88-C18A-4D50-94FF-782EF4F6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7A88FB-2B51-4AF7-B450-106A43BC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7F4F-9AAE-43EE-BB73-58C5E9FC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0369E5-5597-452D-B249-DA8D0FF7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E90018-7B20-4149-84CF-04D59E92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2CCE11-3C14-4F01-8A4D-8762787D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BBCF4A-DD02-4A5C-9487-E331AC8D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203EF5-1A39-49B7-85D8-77356830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D281-4A31-446C-BB3D-3EEA2E12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7D21-C936-4553-9D73-7DA3DAEFA0B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0" y="0"/>
            <a:ext cx="9144000" cy="129708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9" name="Picture 21" descr="adobe_logo_tab_top_78.png"/>
          <p:cNvPicPr/>
          <p:nvPr/>
        </p:nvPicPr>
        <p:blipFill>
          <a:blip r:embed="rId2"/>
          <a:stretch/>
        </p:blipFill>
        <p:spPr>
          <a:xfrm>
            <a:off x="480960" y="0"/>
            <a:ext cx="411120" cy="681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Adobe_Red-3_crop_4x3.png"/>
          <p:cNvPicPr/>
          <p:nvPr/>
        </p:nvPicPr>
        <p:blipFill>
          <a:blip r:embed="rId3"/>
          <a:stretch/>
        </p:blipFill>
        <p:spPr>
          <a:xfrm>
            <a:off x="0" y="2467080"/>
            <a:ext cx="9144000" cy="397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3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72" name="Picture 19" descr="C:\Users\Jacques\Desktop\untitled folder\Adobe_Green_1920x1430.jpg"/>
          <p:cNvPicPr/>
          <p:nvPr/>
        </p:nvPicPr>
        <p:blipFill>
          <a:blip r:embed="rId4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3165-E4BA-4DFD-BDDB-0D48B4EF9F9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7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0A49-5062-4A2B-83D7-80AF691EF26D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7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7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83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FB9D-D0A5-4878-8511-D0D278E3671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30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1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2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3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4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5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6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7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5787-8649-4C98-8C8C-D691B6ABBAE5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80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81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82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3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4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5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6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7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8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9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91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82F7-DCE9-4D40-8A18-7696B6C78B1D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5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36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337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8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9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0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1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2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3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4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5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346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0DDB-D55E-4091-94B0-BDED7672CD2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ighthouse.org/color_contrast.htm" TargetMode="External"/><Relationship Id="rId2" Type="http://schemas.openxmlformats.org/officeDocument/2006/relationships/hyperlink" Target="http://kuler.adobe.com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"/>
          <p:cNvSpPr/>
          <p:nvPr/>
        </p:nvSpPr>
        <p:spPr>
          <a:xfrm>
            <a:off x="468360" y="6689160"/>
            <a:ext cx="2580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96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397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398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399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0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1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2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3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4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5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6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7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408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4147920"/>
            <a:ext cx="811872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TO DESIGN PRINCIP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, BALANCE, UNITY, CONTRAST, EMPHASIS, LINE, AND COLOR</a:t>
            </a:r>
            <a:endParaRPr b="0" lang="en-US" sz="32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principl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inciples are ways in which elements are used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1B01-B4F3-427F-8E0B-82BF827C0DE5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Movement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Movemen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use of lines, color, and repetition to create the illusion of mo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ed forms or 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tition of geometric for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zzy lines or out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04E6-0754-4254-8B18-96A04C9C1751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5" name="Rectangle 9"/>
          <p:cNvSpPr/>
          <p:nvPr/>
        </p:nvSpPr>
        <p:spPr>
          <a:xfrm rot="20341200">
            <a:off x="8132760" y="2009520"/>
            <a:ext cx="735120" cy="798480"/>
          </a:xfrm>
          <a:prstGeom prst="rect">
            <a:avLst/>
          </a:prstGeom>
          <a:solidFill>
            <a:srgbClr val="ffcfb8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6" name="Rectangle 1"/>
          <p:cNvSpPr/>
          <p:nvPr/>
        </p:nvSpPr>
        <p:spPr>
          <a:xfrm rot="1127400">
            <a:off x="7686720" y="2388960"/>
            <a:ext cx="966600" cy="1049040"/>
          </a:xfrm>
          <a:prstGeom prst="rect">
            <a:avLst/>
          </a:prstGeom>
          <a:solidFill>
            <a:srgbClr val="ffa07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7" name="Rectangle 6"/>
          <p:cNvSpPr/>
          <p:nvPr/>
        </p:nvSpPr>
        <p:spPr>
          <a:xfrm rot="20088000">
            <a:off x="6481800" y="2495160"/>
            <a:ext cx="1314360" cy="1430280"/>
          </a:xfrm>
          <a:prstGeom prst="rect">
            <a:avLst/>
          </a:prstGeom>
          <a:solidFill>
            <a:srgbClr val="d9866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8" name="Rectangle 7"/>
          <p:cNvSpPr/>
          <p:nvPr/>
        </p:nvSpPr>
        <p:spPr>
          <a:xfrm rot="1096800">
            <a:off x="5881680" y="3477960"/>
            <a:ext cx="1738440" cy="1888920"/>
          </a:xfrm>
          <a:prstGeom prst="rect">
            <a:avLst/>
          </a:prstGeom>
          <a:solidFill>
            <a:srgbClr val="e8723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9" name="Rectangle 5"/>
          <p:cNvSpPr/>
          <p:nvPr/>
        </p:nvSpPr>
        <p:spPr>
          <a:xfrm rot="20703600">
            <a:off x="4134960" y="3581280"/>
            <a:ext cx="1998720" cy="2171880"/>
          </a:xfrm>
          <a:prstGeom prst="rect">
            <a:avLst/>
          </a:prstGeom>
          <a:solidFill>
            <a:srgbClr val="da49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60" name="Rectangle 8"/>
          <p:cNvSpPr/>
          <p:nvPr/>
        </p:nvSpPr>
        <p:spPr>
          <a:xfrm rot="3298800">
            <a:off x="2686320" y="3222000"/>
            <a:ext cx="2377800" cy="2400480"/>
          </a:xfrm>
          <a:prstGeom prst="rect">
            <a:avLst/>
          </a:prstGeom>
          <a:gradFill rotWithShape="0">
            <a:gsLst>
              <a:gs pos="0">
                <a:srgbClr val="af2900"/>
              </a:gs>
              <a:gs pos="100000">
                <a:srgbClr val="811d00"/>
              </a:gs>
            </a:gsLst>
            <a:lin ang="2100000"/>
          </a:gradFill>
          <a:ln w="9360">
            <a:solidFill>
              <a:srgbClr val="993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cxnSp>
        <p:nvCxnSpPr>
          <p:cNvPr id="461" name="Curved Connector 10"/>
          <p:cNvCxnSpPr/>
          <p:nvPr/>
        </p:nvCxnSpPr>
        <p:spPr>
          <a:xfrm flipV="1" rot="10800000">
            <a:off x="7314480" y="2128320"/>
            <a:ext cx="1662840" cy="1231200"/>
          </a:xfrm>
          <a:prstGeom prst="curvedConnector5">
            <a:avLst>
              <a:gd name="adj1" fmla="val 50000"/>
              <a:gd name="adj2" fmla="val 49985"/>
              <a:gd name="adj3" fmla="val 50000"/>
            </a:avLst>
          </a:prstGeom>
          <a:ln w="19080">
            <a:solidFill>
              <a:srgbClr val="ffc000"/>
            </a:solidFill>
            <a:prstDash val="lgDash"/>
            <a:miter/>
          </a:ln>
        </p:spPr>
      </p:cxnSp>
      <p:cxnSp>
        <p:nvCxnSpPr>
          <p:cNvPr id="462" name="Curved Connector 25"/>
          <p:cNvCxnSpPr/>
          <p:nvPr/>
        </p:nvCxnSpPr>
        <p:spPr>
          <a:xfrm flipV="1" rot="10800000">
            <a:off x="6492240" y="3382560"/>
            <a:ext cx="1664280" cy="151056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57240">
            <a:solidFill>
              <a:srgbClr val="ffc000"/>
            </a:solidFill>
            <a:prstDash val="lgDash"/>
            <a:miter/>
          </a:ln>
        </p:spPr>
      </p:cxnSp>
      <p:cxnSp>
        <p:nvCxnSpPr>
          <p:cNvPr id="463" name="Curved Connector 41"/>
          <p:cNvCxnSpPr/>
          <p:nvPr/>
        </p:nvCxnSpPr>
        <p:spPr>
          <a:xfrm rot="10800000">
            <a:off x="3276000" y="3656880"/>
            <a:ext cx="3427920" cy="146772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76320">
            <a:solidFill>
              <a:srgbClr val="ffc000"/>
            </a:solidFill>
            <a:prstDash val="lgDash"/>
            <a:miter/>
          </a:ln>
        </p:spPr>
      </p:cxnSp>
      <p:cxnSp>
        <p:nvCxnSpPr>
          <p:cNvPr id="464" name="Curved Connector 46"/>
          <p:cNvCxnSpPr/>
          <p:nvPr/>
        </p:nvCxnSpPr>
        <p:spPr>
          <a:xfrm rot="5400000">
            <a:off x="5631120" y="2621520"/>
            <a:ext cx="2143800" cy="177696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38160">
            <a:solidFill>
              <a:srgbClr val="ffc000"/>
            </a:solidFill>
            <a:prstDash val="lgDash"/>
            <a:miter/>
          </a:ln>
        </p:spPr>
      </p:cxnSp>
      <p:cxnSp>
        <p:nvCxnSpPr>
          <p:cNvPr id="465" name="Curved Connector 50"/>
          <p:cNvCxnSpPr/>
          <p:nvPr/>
        </p:nvCxnSpPr>
        <p:spPr>
          <a:xfrm flipV="1" rot="16200000">
            <a:off x="4270320" y="2774520"/>
            <a:ext cx="603720" cy="4388040"/>
          </a:xfrm>
          <a:prstGeom prst="curvedConnector5">
            <a:avLst>
              <a:gd name="adj1" fmla="val -37828"/>
              <a:gd name="adj2" fmla="val 28265"/>
              <a:gd name="adj3" fmla="val -37828"/>
            </a:avLst>
          </a:prstGeom>
          <a:ln w="98280">
            <a:solidFill>
              <a:srgbClr val="ffc000"/>
            </a:solidFill>
            <a:prstDash val="lgDash"/>
            <a:miter/>
          </a:ln>
        </p:spPr>
      </p:cxn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28600" y="990360"/>
            <a:ext cx="43401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indicate motion or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6D75-9714-41C3-A7CB-AC5F3C01C007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Balanc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ct of comparing or estimating two things, one against the other, and the contrast betwe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 space (white space) and fille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and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and no colors and differen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s against fla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D798-DE9D-4A7B-96D7-CCD50F3851AA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3" name="Straight Connector 4"/>
          <p:cNvSpPr/>
          <p:nvPr/>
        </p:nvSpPr>
        <p:spPr>
          <a:xfrm>
            <a:off x="685800" y="4495680"/>
            <a:ext cx="8153280" cy="0"/>
          </a:xfrm>
          <a:prstGeom prst="line">
            <a:avLst/>
          </a:prstGeom>
          <a:ln w="38160">
            <a:solidFill>
              <a:srgbClr val="00a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4" name="Isosceles Triangle 5"/>
          <p:cNvSpPr/>
          <p:nvPr/>
        </p:nvSpPr>
        <p:spPr>
          <a:xfrm>
            <a:off x="5545080" y="4529160"/>
            <a:ext cx="1447920" cy="1417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556e2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75" name="Oval 6"/>
          <p:cNvGrpSpPr/>
          <p:nvPr/>
        </p:nvGrpSpPr>
        <p:grpSpPr>
          <a:xfrm>
            <a:off x="652320" y="3913200"/>
            <a:ext cx="640080" cy="639720"/>
            <a:chOff x="652320" y="3913200"/>
            <a:chExt cx="640080" cy="639720"/>
          </a:xfrm>
        </p:grpSpPr>
        <p:pic>
          <p:nvPicPr>
            <p:cNvPr id="476" name="Oval 6" descr=""/>
            <p:cNvPicPr/>
            <p:nvPr/>
          </p:nvPicPr>
          <p:blipFill>
            <a:blip r:embed="rId2"/>
            <a:stretch/>
          </p:blipFill>
          <p:spPr>
            <a:xfrm>
              <a:off x="652320" y="3913200"/>
              <a:ext cx="640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757080" y="4019400"/>
              <a:ext cx="37800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grpSp>
        <p:nvGrpSpPr>
          <p:cNvPr id="478" name="Oval 7"/>
          <p:cNvGrpSpPr/>
          <p:nvPr/>
        </p:nvGrpSpPr>
        <p:grpSpPr>
          <a:xfrm>
            <a:off x="7669080" y="3328920"/>
            <a:ext cx="1249560" cy="1224000"/>
            <a:chOff x="7669080" y="3328920"/>
            <a:chExt cx="1249560" cy="1224000"/>
          </a:xfrm>
        </p:grpSpPr>
        <p:pic>
          <p:nvPicPr>
            <p:cNvPr id="479" name="Oval 7" descr=""/>
            <p:cNvPicPr/>
            <p:nvPr/>
          </p:nvPicPr>
          <p:blipFill>
            <a:blip r:embed="rId3"/>
            <a:stretch/>
          </p:blipFill>
          <p:spPr>
            <a:xfrm>
              <a:off x="7669080" y="3328920"/>
              <a:ext cx="1249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7862760" y="3516480"/>
              <a:ext cx="809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 in compositio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hree different types of balance when using color, shape, and pos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l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B385-7C6E-4325-A8BC-F45D6BF99AAE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or form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ually identify at least one of three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lines of symme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a900"/>
                </a:solidFill>
                <a:latin typeface="Arial"/>
              </a:rPr>
              <a:t>Dia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A3A1-9148-4237-AE07-38EF214FFD58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79000" y="179280"/>
            <a:ext cx="856476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9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7D5E-7FB2-486B-80D9-8DD254AE11A8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3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436B-5C3A-4811-B57D-8D852C8D4CC7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4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a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7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C3F7-4FAD-4BA6-8731-7E0347451BD8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radi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1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966D-AC05-4AD0-AF5D-A8ECC12261D1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element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Design elemen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 building blocks of graph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8D43-C57C-400E-8961-98C31CA8005B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124080" y="2209680"/>
            <a:ext cx="5486400" cy="3657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4" name="Straight Connector 9"/>
          <p:cNvSpPr/>
          <p:nvPr/>
        </p:nvSpPr>
        <p:spPr>
          <a:xfrm flipV="1">
            <a:off x="2209680" y="1752120"/>
            <a:ext cx="6248520" cy="284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5" name="Oval 10"/>
          <p:cNvSpPr/>
          <p:nvPr/>
        </p:nvSpPr>
        <p:spPr>
          <a:xfrm>
            <a:off x="6200640" y="2666880"/>
            <a:ext cx="2210040" cy="2743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16" name="5-Point Star 11"/>
          <p:cNvGrpSpPr/>
          <p:nvPr/>
        </p:nvGrpSpPr>
        <p:grpSpPr>
          <a:xfrm>
            <a:off x="3889440" y="2895480"/>
            <a:ext cx="3529080" cy="3310200"/>
            <a:chOff x="3889440" y="2895480"/>
            <a:chExt cx="3529080" cy="3310200"/>
          </a:xfrm>
        </p:grpSpPr>
        <p:pic>
          <p:nvPicPr>
            <p:cNvPr id="417" name="5-Point Star 11" descr=""/>
            <p:cNvPicPr/>
            <p:nvPr/>
          </p:nvPicPr>
          <p:blipFill>
            <a:blip r:embed="rId2"/>
            <a:stretch/>
          </p:blipFill>
          <p:spPr>
            <a:xfrm>
              <a:off x="3889440" y="2895480"/>
              <a:ext cx="3529080" cy="33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649200">
              <a:off x="4982760" y="4154040"/>
              <a:ext cx="114480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Unit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28600" y="990360"/>
            <a:ext cx="43797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Un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correct balance of composition or color that produces a harmonious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focus of the mess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DF4B-EB05-4776-9A80-46CAF33287EC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mphasi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mpha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o express with  particular stress or fo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essage is stressed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AC6E-495F-4E0B-B23F-A63DD1A75F7B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is of good design is use of design elements and their thoughtful application in the form of design princi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identify what you are trying to accomplish — use design to convey your me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instorm altern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2418-9E86-41A1-A9C7-0DE0BFFA42B7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28240" y="99036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straight or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A10E-3C75-4298-A673-F7026C477383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definition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other word for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Chro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intensity or purity of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wh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g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bl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Bright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quantity of light re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iewer's ey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69EF-5ED2-4E23-B637-ABE79BD13D5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6" name="Picture 9" descr=""/>
          <p:cNvPicPr/>
          <p:nvPr/>
        </p:nvPicPr>
        <p:blipFill>
          <a:blip r:embed="rId1"/>
          <a:stretch/>
        </p:blipFill>
        <p:spPr>
          <a:xfrm>
            <a:off x="5091120" y="1828800"/>
            <a:ext cx="350676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olor and contras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28600" y="990360"/>
            <a:ext cx="420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olor can enhance or detract from a composition.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lighthouse.org/color_contras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wheels help determine which colors are in greatest contr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34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dobe Kuler to try out new color sche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kuler.adobe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767D-DB22-458D-85F8-87CCA0627F23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5334120" y="17524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wheel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28600" y="990360"/>
            <a:ext cx="434808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Analogous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adjacent to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Complementary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opposite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CD7C-2286-4E4F-8C13-05454B57132A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in desig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label or show hierar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represent or imitate re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unify, separate, or empha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deco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consist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5586-DADE-4B22-85DF-C4956A4F819E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4194000" y="2743200"/>
            <a:ext cx="445644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hap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28600" y="99036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enclosed objects that can be created by line or created by color and value changes that define their ed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2515-ABE0-4FEC-8940-6B13E5A598BC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42" name="Picture 5" descr="sample_dolphin_outline"/>
          <p:cNvPicPr/>
          <p:nvPr/>
        </p:nvPicPr>
        <p:blipFill>
          <a:blip r:embed="rId1"/>
          <a:stretch/>
        </p:blipFill>
        <p:spPr>
          <a:xfrm>
            <a:off x="4419720" y="1981080"/>
            <a:ext cx="43052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extur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ex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surface look of an object created by varying dark and light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ot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99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2A6F-029A-45D2-8EF0-F961840FD834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46" name="Oval 1"/>
          <p:cNvGrpSpPr/>
          <p:nvPr/>
        </p:nvGrpSpPr>
        <p:grpSpPr>
          <a:xfrm>
            <a:off x="3932280" y="2255760"/>
            <a:ext cx="4352760" cy="2955960"/>
            <a:chOff x="3932280" y="2255760"/>
            <a:chExt cx="4352760" cy="2955960"/>
          </a:xfrm>
        </p:grpSpPr>
        <p:pic>
          <p:nvPicPr>
            <p:cNvPr id="447" name="Oval 1" descr=""/>
            <p:cNvPicPr/>
            <p:nvPr/>
          </p:nvPicPr>
          <p:blipFill>
            <a:blip r:embed="rId1"/>
            <a:stretch/>
          </p:blipFill>
          <p:spPr>
            <a:xfrm>
              <a:off x="3932280" y="2255760"/>
              <a:ext cx="4352760" cy="29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91080" y="2709720"/>
              <a:ext cx="3038400" cy="20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3-10-30T15:30:29Z</dcterms:modified>
  <cp:revision>133</cp:revision>
  <dc:subject/>
  <dc:title>INTRODUCTION TO DESIGN MOVEMENT, BALANCE, UNITY, CONTRAST, EMPHASIS, LINE, AND COLOR</dc:title>
</cp:coreProperties>
</file>