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CFF3-6F9D-4155-91FB-E24730D93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65B3-2DB1-4839-B072-BCF6583B1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10960" y="4571640"/>
            <a:ext cx="483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12B5-694C-4246-8927-185177555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62160" y="4647960"/>
            <a:ext cx="46814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C7A6-09B5-41EF-96C5-30B003BEB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A620-FE8E-4E06-B5F3-7E1628B5B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036800" y="4722840"/>
            <a:ext cx="490680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y can think of other types of balance: texture and no texture (smooth), size and scale, elements of a com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CEF4-DC71-4197-8993-7824CE4BE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EAB9-4981-4813-8F88-221151237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7A3D-70F9-4456-82DA-57FE03FDA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ctangle has three lines of symmetry: Horizontal (blue), Vertical (red), Diagonal (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angle has only one line of symmetry: center or, in this orientation, Vertical. You can draw two other lines of symmetry from any of the vertices to the center of the opposite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80DE-52D1-424F-A182-EE392BF64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FDB0-95DF-490F-8C4E-E9EDB2AA7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D85E-8640-4BD1-BD2B-C75259178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A84F-2A80-47AF-898D-4640AFA7B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DD0B-B939-45C5-9B70-68516CF8E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344E-5E2C-4048-A210-0539D3D9C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BFFF-A464-4D7D-BE84-F8BFC029E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8C5E-226A-47EE-8F2A-605567E7C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38CB-42A5-477C-BD5D-CEE44E558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22BE-7E1B-4064-834C-C766E76F9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B74-4F42-48C1-8E9F-B05420FE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12E-61BB-4BFB-AB67-45194D2E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B8D-EE0F-415B-95D9-E698C29E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2F0-C643-4CD5-810B-1387AA67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548A-4649-4736-A4C4-FFE2BC00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C950-0015-45B8-A76A-19963DC1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987D-BAFD-4919-92A5-483EC5ED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3BA6-1D64-4163-8AFE-4F805FCC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08DC-8312-42B0-B1D5-47CA35C9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2F3F-FAB1-492E-8DAA-F223A806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C399-7A3F-4BF1-8051-93136D77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41B-9AF6-49C5-8276-AE582B43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69F4-0E9D-45B5-8E9A-EC17DA04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7C22-CFF3-4DC6-8BEB-C41A2B35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F448-526C-4D82-A318-2ED00DD4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CEBD-A575-4343-B54E-6A6BA68F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0736-3712-4B34-99FA-20FDEB1A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5606D-D371-43E0-A205-E3C6A305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5E4DC-5F1D-47FB-A159-E903C8A5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4836B-79FF-4CB2-B39F-97C3A696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03997-07E2-4E67-B2C0-B71CB187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C7613-E3F5-4912-8502-12D3A1A8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415-5DBA-4C8B-8DF5-787591BC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DD209-52FB-4813-ADDB-67A917C3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C18EA-8A0E-4415-A46F-5E53CE02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489C0-964D-4F4A-98FB-30FBC589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D11FD-594E-451D-94C1-255369C3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453A6-DA3E-4734-9FDA-7C8618F9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10D0D-F11B-4977-AB50-148DEA2C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A08FA-43B2-4079-8582-4D2CE0A9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A4906-6001-46C4-ABEE-E43CC53B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A0B51-BA68-4963-91A3-9B0153B6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2A0BD-E701-47E7-ADE1-777256C2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2418-234A-4F8B-A042-CA922770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FE0AC-8CE2-4A91-B45D-108137BF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A5640-A26C-448C-A2D0-1E8C5122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346C5-A7CD-4CB6-AD40-45E330D2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2C2CD-D309-4B93-BE37-63AA1685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DD424-7918-49E0-BCD8-72090622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10962-AB9C-4DAD-8299-1C7C6795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63CDB-967E-4B29-8B84-7558442A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5970F-B553-4352-BA4A-54BD0917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DAA1C-7815-456C-90D5-EF9E8237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D5744A-CAF6-4D4D-B887-A31DBFC6C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A4AA-6C71-4976-BB43-43641910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E36F95-FA96-4EB8-BC17-B8DD0216CC0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F04E92-3A5B-4A81-A88A-CB1C24B5910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134A43-E93B-44DF-8F1B-858FB437694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C5C377-4F2B-409F-B805-7423FE0FCD8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9B0CB0-3C2C-4070-B325-5DA7148CA30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2C3320-3945-4E2B-BFF1-3086FC38E0A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A313E1-68E8-46BD-A0D9-90F12D90A75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C4A316-7AEE-43A5-B4A3-C864953B998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153F0A-DADB-4B79-90F4-B79DEB670E4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4CEC82-791D-4EA3-9D0A-2929D45D3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D72-B0A1-4318-8526-839681E1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D632A6-9517-44F6-8E79-2BAB33B6491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76BB81-09A0-4BA4-BE07-2654BEBE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4A6BED-0349-4A23-8660-D6226866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864A04-391F-499F-A0C9-41B7AE4E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699309-0B98-40F1-A7BB-BC30B640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57BB8A-C490-4778-9D65-33136DA6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B4C2E5-5407-4727-BA23-C618DEA9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2844A1-6BA2-4B17-856C-11341651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C3A37A-FBF6-4753-A1F1-694ACCA6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BA6BE1-5C0F-43E0-A55F-CCDBF71C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691-358D-49F8-8283-607E5BDD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B4ADD8-3AC8-4347-B344-3F778B9C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F92E39-B80D-498E-998F-DCB6D868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37CBBA-6167-470A-A483-4A38C615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B54208-01C1-4B69-AF44-FCF2B270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920F26-518A-474D-878A-8B61B78C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F67482-D639-4961-872F-AE815C4E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0322C9-6313-4BFA-BBB2-2DC57946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B9CF97-5C4C-4498-8B53-F549DCD1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B863B6-178F-4906-9665-1008A038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0C57EE-6CC7-4598-8ED7-F2A5FA9D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B25-67C1-4263-9565-22CB92E6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4DB6F2-5F0B-4974-AE9E-6CE01196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B5930C-47DD-4CC5-9E17-71269340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FBD1DA-BB0C-4FFB-A29F-BBA6C2C1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324C1C-5992-4872-8F9A-5AC50726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3FA3AC-D43C-41A8-8253-44861329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CAF-8EE1-446A-9D04-6C04DEDB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FF8A-897E-4275-B6D4-045A64C4079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0" y="0"/>
            <a:ext cx="9144000" cy="129708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9" name="Picture 21" descr="adobe_logo_tab_top_78.png"/>
          <p:cNvPicPr/>
          <p:nvPr/>
        </p:nvPicPr>
        <p:blipFill>
          <a:blip r:embed="rId2"/>
          <a:stretch/>
        </p:blipFill>
        <p:spPr>
          <a:xfrm>
            <a:off x="480960" y="0"/>
            <a:ext cx="411120" cy="6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dobe_Red-3_crop_4x3.png"/>
          <p:cNvPicPr/>
          <p:nvPr/>
        </p:nvPicPr>
        <p:blipFill>
          <a:blip r:embed="rId3"/>
          <a:stretch/>
        </p:blipFill>
        <p:spPr>
          <a:xfrm>
            <a:off x="0" y="2467080"/>
            <a:ext cx="9144000" cy="397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3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72" name="Picture 19" descr="C:\Users\Jacques\Desktop\untitled folder\Adobe_Green_1920x1430.jpg"/>
          <p:cNvPicPr/>
          <p:nvPr/>
        </p:nvPicPr>
        <p:blipFill>
          <a:blip r:embed="rId4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8152-75E7-448E-A3CC-30A6EFEF18B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F68E-EE4D-4F80-8464-F1375D25CFB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7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83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238C-D1C0-4C10-ABEC-EF8EF527488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30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C7BA-53C4-467F-92BA-93B3B3C6770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81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82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8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91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2F95-123D-4348-B060-95060E8EABA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337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346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BDDF-A8AA-4FFB-B9DF-8BC8EFE2387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house.org/color_contrast.htm" TargetMode="External"/><Relationship Id="rId2" Type="http://schemas.openxmlformats.org/officeDocument/2006/relationships/hyperlink" Target="http://kuler.adobe.com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397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398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399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0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1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2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3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4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5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6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7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147920"/>
            <a:ext cx="81187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ESIGN PRINCIP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, BALANCE, UNITY, CONTRAST, EMPHASIS, LINE, AND COLOR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principl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 are ways in which elements are us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520B-592F-494D-B895-17EF617E625D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Movemen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use of lines, color, and repetition to create the illusion of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d forms or 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geometric fo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lines or ou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DD49-E687-45EF-BE1C-B20FC5DDC6A0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5" name="Rectangle 9"/>
          <p:cNvSpPr/>
          <p:nvPr/>
        </p:nvSpPr>
        <p:spPr>
          <a:xfrm rot="20341200">
            <a:off x="8132760" y="2009520"/>
            <a:ext cx="735120" cy="798480"/>
          </a:xfrm>
          <a:prstGeom prst="rect">
            <a:avLst/>
          </a:prstGeom>
          <a:solidFill>
            <a:srgbClr val="ffcfb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6" name="Rectangle 1"/>
          <p:cNvSpPr/>
          <p:nvPr/>
        </p:nvSpPr>
        <p:spPr>
          <a:xfrm rot="1127400">
            <a:off x="7686720" y="2388960"/>
            <a:ext cx="966600" cy="1049040"/>
          </a:xfrm>
          <a:prstGeom prst="rect">
            <a:avLst/>
          </a:prstGeom>
          <a:solidFill>
            <a:srgbClr val="ffa07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7" name="Rectangle 6"/>
          <p:cNvSpPr/>
          <p:nvPr/>
        </p:nvSpPr>
        <p:spPr>
          <a:xfrm rot="20088000">
            <a:off x="6481800" y="2495160"/>
            <a:ext cx="1314360" cy="1430280"/>
          </a:xfrm>
          <a:prstGeom prst="rect">
            <a:avLst/>
          </a:prstGeom>
          <a:solidFill>
            <a:srgbClr val="d9866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8" name="Rectangle 7"/>
          <p:cNvSpPr/>
          <p:nvPr/>
        </p:nvSpPr>
        <p:spPr>
          <a:xfrm rot="1096800">
            <a:off x="5881680" y="3477960"/>
            <a:ext cx="1738440" cy="1888920"/>
          </a:xfrm>
          <a:prstGeom prst="rect">
            <a:avLst/>
          </a:prstGeom>
          <a:solidFill>
            <a:srgbClr val="e8723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9" name="Rectangle 5"/>
          <p:cNvSpPr/>
          <p:nvPr/>
        </p:nvSpPr>
        <p:spPr>
          <a:xfrm rot="20703600">
            <a:off x="4134960" y="3581280"/>
            <a:ext cx="1998720" cy="2171880"/>
          </a:xfrm>
          <a:prstGeom prst="rect">
            <a:avLst/>
          </a:prstGeom>
          <a:solidFill>
            <a:srgbClr val="da49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0" name="Rectangle 8"/>
          <p:cNvSpPr/>
          <p:nvPr/>
        </p:nvSpPr>
        <p:spPr>
          <a:xfrm rot="3298800">
            <a:off x="2686320" y="3222000"/>
            <a:ext cx="2377800" cy="2400480"/>
          </a:xfrm>
          <a:prstGeom prst="rect">
            <a:avLst/>
          </a:prstGeom>
          <a:gradFill rotWithShape="0">
            <a:gsLst>
              <a:gs pos="0">
                <a:srgbClr val="af2900"/>
              </a:gs>
              <a:gs pos="100000">
                <a:srgbClr val="811d00"/>
              </a:gs>
            </a:gsLst>
            <a:lin ang="2100000"/>
          </a:gradFill>
          <a:ln w="9360">
            <a:solidFill>
              <a:srgbClr val="993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cxnSp>
        <p:nvCxnSpPr>
          <p:cNvPr id="461" name="Curved Connector 10"/>
          <p:cNvCxnSpPr/>
          <p:nvPr/>
        </p:nvCxnSpPr>
        <p:spPr>
          <a:xfrm flipV="1" rot="10800000">
            <a:off x="7314480" y="2128320"/>
            <a:ext cx="1662840" cy="123120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19080">
            <a:solidFill>
              <a:srgbClr val="ffc000"/>
            </a:solidFill>
            <a:prstDash val="lgDash"/>
            <a:miter/>
          </a:ln>
        </p:spPr>
      </p:cxnSp>
      <p:cxnSp>
        <p:nvCxnSpPr>
          <p:cNvPr id="462" name="Curved Connector 25"/>
          <p:cNvCxnSpPr/>
          <p:nvPr/>
        </p:nvCxnSpPr>
        <p:spPr>
          <a:xfrm flipV="1" rot="10800000">
            <a:off x="6492240" y="3382560"/>
            <a:ext cx="1664280" cy="15105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57240">
            <a:solidFill>
              <a:srgbClr val="ffc000"/>
            </a:solidFill>
            <a:prstDash val="lgDash"/>
            <a:miter/>
          </a:ln>
        </p:spPr>
      </p:cxnSp>
      <p:cxnSp>
        <p:nvCxnSpPr>
          <p:cNvPr id="463" name="Curved Connector 41"/>
          <p:cNvCxnSpPr/>
          <p:nvPr/>
        </p:nvCxnSpPr>
        <p:spPr>
          <a:xfrm rot="10800000">
            <a:off x="3276000" y="3656880"/>
            <a:ext cx="3427920" cy="14677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6320">
            <a:solidFill>
              <a:srgbClr val="ffc000"/>
            </a:solidFill>
            <a:prstDash val="lgDash"/>
            <a:miter/>
          </a:ln>
        </p:spPr>
      </p:cxnSp>
      <p:cxnSp>
        <p:nvCxnSpPr>
          <p:cNvPr id="464" name="Curved Connector 46"/>
          <p:cNvCxnSpPr/>
          <p:nvPr/>
        </p:nvCxnSpPr>
        <p:spPr>
          <a:xfrm rot="5400000">
            <a:off x="5631120" y="2621520"/>
            <a:ext cx="2143800" cy="17769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8160">
            <a:solidFill>
              <a:srgbClr val="ffc000"/>
            </a:solidFill>
            <a:prstDash val="lgDash"/>
            <a:miter/>
          </a:ln>
        </p:spPr>
      </p:cxnSp>
      <p:cxnSp>
        <p:nvCxnSpPr>
          <p:cNvPr id="465" name="Curved Connector 50"/>
          <p:cNvCxnSpPr/>
          <p:nvPr/>
        </p:nvCxnSpPr>
        <p:spPr>
          <a:xfrm flipV="1" rot="16200000">
            <a:off x="4270320" y="2774520"/>
            <a:ext cx="603720" cy="4388040"/>
          </a:xfrm>
          <a:prstGeom prst="curvedConnector5">
            <a:avLst>
              <a:gd name="adj1" fmla="val -37828"/>
              <a:gd name="adj2" fmla="val 28265"/>
              <a:gd name="adj3" fmla="val -37828"/>
            </a:avLst>
          </a:prstGeom>
          <a:ln w="98280">
            <a:solidFill>
              <a:srgbClr val="ffc000"/>
            </a:solidFill>
            <a:prstDash val="lgDash"/>
            <a:miter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28600" y="990360"/>
            <a:ext cx="43401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indicate motion or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4DD1-582D-4777-BE16-BAA72FF2DBB0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alanc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t of comparing or estimating two things, one against the other, and the contrast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 (white space) and fill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and no colors and differen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s against fla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B132-E782-4662-B8E0-79649E2D9484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3" name="Straight Connector 4"/>
          <p:cNvSpPr/>
          <p:nvPr/>
        </p:nvSpPr>
        <p:spPr>
          <a:xfrm>
            <a:off x="685800" y="4495680"/>
            <a:ext cx="8153280" cy="0"/>
          </a:xfrm>
          <a:prstGeom prst="line">
            <a:avLst/>
          </a:prstGeom>
          <a:ln w="38160">
            <a:solidFill>
              <a:srgbClr val="00a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4" name="Isosceles Triangle 5"/>
          <p:cNvSpPr/>
          <p:nvPr/>
        </p:nvSpPr>
        <p:spPr>
          <a:xfrm>
            <a:off x="5545080" y="4529160"/>
            <a:ext cx="1447920" cy="1417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556e2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75" name="Oval 6"/>
          <p:cNvGrpSpPr/>
          <p:nvPr/>
        </p:nvGrpSpPr>
        <p:grpSpPr>
          <a:xfrm>
            <a:off x="652320" y="3913200"/>
            <a:ext cx="640080" cy="639720"/>
            <a:chOff x="652320" y="3913200"/>
            <a:chExt cx="640080" cy="639720"/>
          </a:xfrm>
        </p:grpSpPr>
        <p:pic>
          <p:nvPicPr>
            <p:cNvPr id="476" name="Oval 6" descr=""/>
            <p:cNvPicPr/>
            <p:nvPr/>
          </p:nvPicPr>
          <p:blipFill>
            <a:blip r:embed="rId2"/>
            <a:stretch/>
          </p:blipFill>
          <p:spPr>
            <a:xfrm>
              <a:off x="652320" y="3913200"/>
              <a:ext cx="640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57080" y="4019400"/>
              <a:ext cx="378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grpSp>
        <p:nvGrpSpPr>
          <p:cNvPr id="478" name="Oval 7"/>
          <p:cNvGrpSpPr/>
          <p:nvPr/>
        </p:nvGrpSpPr>
        <p:grpSpPr>
          <a:xfrm>
            <a:off x="7669080" y="3328920"/>
            <a:ext cx="1249560" cy="1224000"/>
            <a:chOff x="7669080" y="3328920"/>
            <a:chExt cx="1249560" cy="1224000"/>
          </a:xfrm>
        </p:grpSpPr>
        <p:pic>
          <p:nvPicPr>
            <p:cNvPr id="479" name="Oval 7" descr=""/>
            <p:cNvPicPr/>
            <p:nvPr/>
          </p:nvPicPr>
          <p:blipFill>
            <a:blip r:embed="rId3"/>
            <a:stretch/>
          </p:blipFill>
          <p:spPr>
            <a:xfrm>
              <a:off x="7669080" y="3328920"/>
              <a:ext cx="1249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7862760" y="3516480"/>
              <a:ext cx="80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 in compositio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ifferent types of balance when using color, shape, and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072E-7429-4D14-81ED-6A3A3AB06E03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or form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ually identify at least one of three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lines of 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a900"/>
                </a:solidFill>
                <a:latin typeface="Arial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FA59-790C-4BB8-A9CD-17055388188D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79000" y="179280"/>
            <a:ext cx="856476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EFBC-4401-4AF2-BC8D-9BBC01DEBE6F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4C89-6FC3-4210-A4B2-F4920004CB71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a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CA54-51B8-4E8D-93DD-BA5A5FCDFEE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radi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0199-7A96-4BDE-AB10-29795E77A3EA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element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Design elem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building blocks of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FC00-36FC-4DF2-8CEF-ED1292B6832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124080" y="2209680"/>
            <a:ext cx="5486400" cy="3657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4" name="Straight Connector 9"/>
          <p:cNvSpPr/>
          <p:nvPr/>
        </p:nvSpPr>
        <p:spPr>
          <a:xfrm flipV="1">
            <a:off x="2209680" y="1752120"/>
            <a:ext cx="6248520" cy="284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200640" y="2666880"/>
            <a:ext cx="221004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16" name="5-Point Star 11"/>
          <p:cNvGrpSpPr/>
          <p:nvPr/>
        </p:nvGrpSpPr>
        <p:grpSpPr>
          <a:xfrm>
            <a:off x="3889440" y="2895480"/>
            <a:ext cx="3529080" cy="3310200"/>
            <a:chOff x="3889440" y="2895480"/>
            <a:chExt cx="3529080" cy="3310200"/>
          </a:xfrm>
        </p:grpSpPr>
        <p:pic>
          <p:nvPicPr>
            <p:cNvPr id="417" name="5-Point Star 11" descr=""/>
            <p:cNvPicPr/>
            <p:nvPr/>
          </p:nvPicPr>
          <p:blipFill>
            <a:blip r:embed="rId2"/>
            <a:stretch/>
          </p:blipFill>
          <p:spPr>
            <a:xfrm>
              <a:off x="3889440" y="2895480"/>
              <a:ext cx="352908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649200">
              <a:off x="4982760" y="4154040"/>
              <a:ext cx="11448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Unit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990360"/>
            <a:ext cx="43797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correct balance of composition or color that produces a harmonious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ocus of the me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9A44-D698-4676-9485-D5B86C4629E7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mphasi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 express with  particular stress or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 is stressed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56BE-51A0-42B2-AD27-61282F727616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s of good design is use of design elements and their thoughtful application in the form of design princ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what you are trying to accomplish — use design to convey your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altern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F6A2-E81A-4528-AA5C-AC14098E6E8E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28240" y="9903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raight or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1481-33FC-4ACA-96BC-65051FD4703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definition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word for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hr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tensity or purity of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g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bl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quantity of light 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er's e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1720-0FD0-471D-A6A4-2064C388089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1"/>
          <a:stretch/>
        </p:blipFill>
        <p:spPr>
          <a:xfrm>
            <a:off x="5091120" y="1828800"/>
            <a:ext cx="35067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lor and contras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990360"/>
            <a:ext cx="420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lor can enhance or detract from a composition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lighthouse.org/color_contra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wheels help determine which colors are in greatest cont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34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obe Kuler to try out new color sche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kuler.adob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F961-C712-4E9A-816C-401C5277344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wheel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990360"/>
            <a:ext cx="4348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Analogous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djacent to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omplementary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posite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36AC-CD2F-4505-A56B-9F4BB6FC25B3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in 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label or show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represent or imitate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unify, separate, or empha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deco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B86E-AD85-477F-809B-706CDFA6D80B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4194000" y="2743200"/>
            <a:ext cx="44564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hap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99036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nclosed objects that can be created by line or created by color and value changes that define their ed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E50F-B7B5-487F-80A4-A56C5DB6243C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42" name="Picture 5" descr="sample_dolphin_outline"/>
          <p:cNvPicPr/>
          <p:nvPr/>
        </p:nvPicPr>
        <p:blipFill>
          <a:blip r:embed="rId1"/>
          <a:stretch/>
        </p:blipFill>
        <p:spPr>
          <a:xfrm>
            <a:off x="4419720" y="1981080"/>
            <a:ext cx="43052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ex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urface look of an object created by varying dark and light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99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30EB-B936-4B2F-A869-0DA07372F791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46" name="Oval 1"/>
          <p:cNvGrpSpPr/>
          <p:nvPr/>
        </p:nvGrpSpPr>
        <p:grpSpPr>
          <a:xfrm>
            <a:off x="3932280" y="2255760"/>
            <a:ext cx="4352760" cy="2955960"/>
            <a:chOff x="3932280" y="2255760"/>
            <a:chExt cx="4352760" cy="2955960"/>
          </a:xfrm>
        </p:grpSpPr>
        <p:pic>
          <p:nvPicPr>
            <p:cNvPr id="447" name="Oval 1" descr=""/>
            <p:cNvPicPr/>
            <p:nvPr/>
          </p:nvPicPr>
          <p:blipFill>
            <a:blip r:embed="rId1"/>
            <a:stretch/>
          </p:blipFill>
          <p:spPr>
            <a:xfrm>
              <a:off x="3932280" y="2255760"/>
              <a:ext cx="4352760" cy="29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91080" y="2709720"/>
              <a:ext cx="3038400" cy="20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5:30:29Z</dcterms:modified>
  <cp:revision>133</cp:revision>
  <dc:subject/>
  <dc:title>INTRODUCTION TO DESIGN MOVEMENT, BALANCE, UNITY, CONTRAST, EMPHASIS, LINE, AND COLOR</dc:title>
</cp:coreProperties>
</file>