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5BDD-3E1A-43A0-B23B-2788F10AC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A930-2883-4DCC-8ADE-78B6F5DEE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110960" y="4571640"/>
            <a:ext cx="483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0984-FEAF-4CA2-AF36-A60A953FD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62160" y="4647960"/>
            <a:ext cx="46814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6521-2BF0-4030-B1C6-93E2B7E6F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1437-C809-4456-87C6-CC2823171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036800" y="4722840"/>
            <a:ext cx="490680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if they can think of other types of balance: texture and no texture (smooth), size and scale, elements of a com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B6EE-BCC6-4EDE-87C3-F93E745CC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1AA2-4653-427A-96B4-D51CD837A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39F6-F42B-4FF1-9FF3-C3CFF20BC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ctangle has three lines of symmetry: Horizontal (blue), Vertical (red), Diagonal (yell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angle has only one line of symmetry: center or, in this orientation, Vertical. You can draw two other lines of symmetry from any of the vertices to the center of the opposite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AB1C-5673-46BE-A52D-442110398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3BA2-6A2D-472E-A661-A6829C822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4791-4B27-41AE-B5AE-7EDA24893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1BC0-7BD6-4F93-8D1C-5750C2A04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E233-C10D-40E9-AA54-E5E8F9E1E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B955-FF52-4C80-ABC7-BECCCC57D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8763-3AF4-4DBF-863D-8FBB36905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E118-4A2F-4C72-9C81-2D66FCB86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9F48-AFE5-426D-87AC-FEEC4CD33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130D-053D-4F08-80F6-51569FE67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C20-1E5D-4450-AF50-1C937741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808-C0AC-45A4-BE70-31197467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826-3800-42C5-9398-FF8DCA5D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168-D4E2-426C-BCBA-129DB443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6D32-CFE8-45A6-8C3E-E4669FAA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73AD-4C29-47DC-A1A9-4217A6E0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2EC2-E28A-44B0-AF44-E5A5773B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0606-DD4B-4AE2-B7D6-918CEDC9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F7B6-7839-40F0-9847-4BBB62B8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B46F-87EB-49F5-9C79-EC514A74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F743-3CBD-4CE1-98AD-B63EBAF6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564-4DD5-48DB-8EA5-5E0B8EA3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51CB-995F-498A-859E-073AE9C6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F2F2-3737-45FA-A817-64DA6F8F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A295-EF9E-4406-A550-0664718D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68AF-F00C-4AF5-9B50-3BE7C504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88C0-08EC-4B2D-A93D-2134F75F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D307E-B6B6-4503-B587-31754BAF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96DF5-3B7A-4F34-9CE2-04BC21ED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AD350-E6A7-40AA-9887-9383C902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AA97D-90CC-4514-AB2A-0A785D48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0C7BC-93F4-4454-9BA6-E219B75A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9CE-601D-4791-8D26-6AA0DC9A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0587C-06CA-4DC7-89A6-AF75E06F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A581-F8ED-4151-8803-43A0A200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98603-3289-47A5-A7B8-D0B0210E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A241D-7A9E-4CDB-B003-7F710AEF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4039B-14D5-4B15-B025-4A0F8848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20A97-7172-494A-B2CE-E06F48D3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84BF2-CCD0-4554-B0D0-D8281AED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55F3A-2E6B-4633-9306-44C7C9E6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91B7B-B8AB-457F-86C5-336F962C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0B4DA-EFCB-49FA-BA77-EA403721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83A-3EC8-473C-AE07-976A09CC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87A8A-B82A-41A1-A028-68217CE9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56199-6B39-4849-9C2B-DA6B2B3D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EBD4B-5796-4831-8735-E879AD84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E0CFD-E7B5-4082-A5E4-A1FCF59A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134AA-3A5D-4DDB-BE6D-7CBE6F4E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12C9C-B639-49EC-8B03-AC1B08D8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8D01F-AC0F-4851-9328-C5E6D05D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2BDEE-0D3D-4813-AD1C-77579B6B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BF708-16B2-47FB-A145-2E529DA0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D612F7-4CFE-4E97-AC72-515620D99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2CB4-0020-446D-B9BE-B2AD9036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EF60BA-4FFC-448D-8663-2D9E05B729F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1D43A3-6839-45DC-A006-500B3852522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F39455-20FF-4F6E-B9C9-D0BF8BDCA45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7BF525-71D7-4ABA-BDC0-3885AE44A7B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EB81DF-95C1-493B-B8EC-4E1EB031484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860254-EF81-4CA0-9F21-831B0118B9F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F2E2CA-AFDA-45CD-872A-ABA6D1419C9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3A6E0B-0E4C-4743-ABD9-72F8984AFA6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F991DE-A210-4AC7-BCF1-E2BF5251144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617CD9-604D-44B0-A728-95BF16DB6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465D-E855-4C1F-AC1B-21935216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BF1FD6-E2B1-4D44-9C82-C07592BBB08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AD76E3-5326-4545-A514-F4FA945C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989220-B029-485A-8981-C93F7122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431A28-6A06-44D2-9DC0-1B1DBFC5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140D75-612D-465D-9F40-0B58D8BF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40071D-FF83-41C8-ABBC-4D770C66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334416-21E0-4A46-9100-86AF1760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5869B5-0224-4606-9956-8192C720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EDCB44-FEB8-4DC1-ACBF-77767F2C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11348C-639A-4A25-81AA-CBE5E907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C884-D0E9-44EF-BDC1-D50B1633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5F2009-F2AC-4C10-935B-0F2E6CA3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931EC2-8E24-4C49-BC36-0DE7A9A7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29382C-3879-4599-AE5C-82AEFD5B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22C267-0810-471E-BD35-BA5E25EA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D06218-83C1-48F4-9B0A-1CCF1963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F4F279-EC9F-46DA-A4D6-A8236EB3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749496-882F-4D74-B408-913289F9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9231F6-C5FC-428D-9E04-F7613C76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1E4412-C7AF-4FB3-93AD-A57620B6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6345FC-50E0-4581-BBE2-C9539F44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C8C6-875F-41C4-8C1C-06DDC0C6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FDC926-3D23-4249-825F-841CDBA7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9113E5-839B-41E8-BAAA-41E9E870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31E6D1-7BD3-477D-8BEB-378E19FB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D5EE7D-2CB8-4D86-99C5-17649F73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0149AF-69A7-4101-B9D1-1AB002E0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A998-7104-4A35-AD28-0B032CA8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8E6C-AE68-4F1F-92F4-E758CED6A18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0" y="0"/>
            <a:ext cx="9144000" cy="129708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9" name="Picture 21" descr="adobe_logo_tab_top_78.png"/>
          <p:cNvPicPr/>
          <p:nvPr/>
        </p:nvPicPr>
        <p:blipFill>
          <a:blip r:embed="rId2"/>
          <a:stretch/>
        </p:blipFill>
        <p:spPr>
          <a:xfrm>
            <a:off x="480960" y="0"/>
            <a:ext cx="411120" cy="6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dobe_Red-3_crop_4x3.png"/>
          <p:cNvPicPr/>
          <p:nvPr/>
        </p:nvPicPr>
        <p:blipFill>
          <a:blip r:embed="rId3"/>
          <a:stretch/>
        </p:blipFill>
        <p:spPr>
          <a:xfrm>
            <a:off x="0" y="2467080"/>
            <a:ext cx="9144000" cy="397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3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72" name="Picture 19" descr="C:\Users\Jacques\Desktop\untitled folder\Adobe_Green_1920x1430.jpg"/>
          <p:cNvPicPr/>
          <p:nvPr/>
        </p:nvPicPr>
        <p:blipFill>
          <a:blip r:embed="rId4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E88F-228B-408F-9FA7-CC23A34A1BD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C0FF-0EFD-4DC4-9871-D01247D68FF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7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83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F45A-6D43-4CD4-9591-4B5C6718B4C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30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E94A-A70B-406F-845C-6CA514B3B48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81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82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8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9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91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5A4D-A0BB-45BC-8869-694EFF6393A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36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337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346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21F8-4FEE-4CED-BF31-5447737F169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ghthouse.org/color_contrast.htm" TargetMode="External"/><Relationship Id="rId2" Type="http://schemas.openxmlformats.org/officeDocument/2006/relationships/hyperlink" Target="http://kuler.adobe.com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397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398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399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0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1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2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3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4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5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6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7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147920"/>
            <a:ext cx="81187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DESIGN PRINCIP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, BALANCE, UNITY, CONTRAST, EMPHASIS, LINE, AND COLOR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principl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 are ways in which elements are us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3403-5F2B-4B73-9C29-F5E2ECD68D58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Movemen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use of lines, color, and repetition to create the illusion of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ed forms or 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geometric fo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lines or ou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0266-CE2F-4662-9634-E2B9FF6B5368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5" name="Rectangle 9"/>
          <p:cNvSpPr/>
          <p:nvPr/>
        </p:nvSpPr>
        <p:spPr>
          <a:xfrm rot="20341200">
            <a:off x="8132760" y="2009520"/>
            <a:ext cx="735120" cy="798480"/>
          </a:xfrm>
          <a:prstGeom prst="rect">
            <a:avLst/>
          </a:prstGeom>
          <a:solidFill>
            <a:srgbClr val="ffcfb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6" name="Rectangle 1"/>
          <p:cNvSpPr/>
          <p:nvPr/>
        </p:nvSpPr>
        <p:spPr>
          <a:xfrm rot="1127400">
            <a:off x="7686720" y="2388960"/>
            <a:ext cx="966600" cy="1049040"/>
          </a:xfrm>
          <a:prstGeom prst="rect">
            <a:avLst/>
          </a:prstGeom>
          <a:solidFill>
            <a:srgbClr val="ffa07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7" name="Rectangle 6"/>
          <p:cNvSpPr/>
          <p:nvPr/>
        </p:nvSpPr>
        <p:spPr>
          <a:xfrm rot="20088000">
            <a:off x="6481800" y="2495160"/>
            <a:ext cx="1314360" cy="1430280"/>
          </a:xfrm>
          <a:prstGeom prst="rect">
            <a:avLst/>
          </a:prstGeom>
          <a:solidFill>
            <a:srgbClr val="d9866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8" name="Rectangle 7"/>
          <p:cNvSpPr/>
          <p:nvPr/>
        </p:nvSpPr>
        <p:spPr>
          <a:xfrm rot="1096800">
            <a:off x="5881680" y="3477960"/>
            <a:ext cx="1738440" cy="1888920"/>
          </a:xfrm>
          <a:prstGeom prst="rect">
            <a:avLst/>
          </a:prstGeom>
          <a:solidFill>
            <a:srgbClr val="e8723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9" name="Rectangle 5"/>
          <p:cNvSpPr/>
          <p:nvPr/>
        </p:nvSpPr>
        <p:spPr>
          <a:xfrm rot="20703600">
            <a:off x="4134960" y="3581280"/>
            <a:ext cx="1998720" cy="2171880"/>
          </a:xfrm>
          <a:prstGeom prst="rect">
            <a:avLst/>
          </a:prstGeom>
          <a:solidFill>
            <a:srgbClr val="da49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0" name="Rectangle 8"/>
          <p:cNvSpPr/>
          <p:nvPr/>
        </p:nvSpPr>
        <p:spPr>
          <a:xfrm rot="3298800">
            <a:off x="2686320" y="3222000"/>
            <a:ext cx="2377800" cy="2400480"/>
          </a:xfrm>
          <a:prstGeom prst="rect">
            <a:avLst/>
          </a:prstGeom>
          <a:gradFill rotWithShape="0">
            <a:gsLst>
              <a:gs pos="0">
                <a:srgbClr val="af2900"/>
              </a:gs>
              <a:gs pos="100000">
                <a:srgbClr val="811d00"/>
              </a:gs>
            </a:gsLst>
            <a:lin ang="2100000"/>
          </a:gradFill>
          <a:ln w="9360">
            <a:solidFill>
              <a:srgbClr val="993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cxnSp>
        <p:nvCxnSpPr>
          <p:cNvPr id="461" name="Curved Connector 10"/>
          <p:cNvCxnSpPr/>
          <p:nvPr/>
        </p:nvCxnSpPr>
        <p:spPr>
          <a:xfrm flipV="1" rot="10800000">
            <a:off x="7314480" y="2128320"/>
            <a:ext cx="1662840" cy="123120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19080">
            <a:solidFill>
              <a:srgbClr val="ffc000"/>
            </a:solidFill>
            <a:prstDash val="lgDash"/>
            <a:miter/>
          </a:ln>
        </p:spPr>
      </p:cxnSp>
      <p:cxnSp>
        <p:nvCxnSpPr>
          <p:cNvPr id="462" name="Curved Connector 25"/>
          <p:cNvCxnSpPr/>
          <p:nvPr/>
        </p:nvCxnSpPr>
        <p:spPr>
          <a:xfrm flipV="1" rot="10800000">
            <a:off x="6492240" y="3382560"/>
            <a:ext cx="1664280" cy="15105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57240">
            <a:solidFill>
              <a:srgbClr val="ffc000"/>
            </a:solidFill>
            <a:prstDash val="lgDash"/>
            <a:miter/>
          </a:ln>
        </p:spPr>
      </p:cxnSp>
      <p:cxnSp>
        <p:nvCxnSpPr>
          <p:cNvPr id="463" name="Curved Connector 41"/>
          <p:cNvCxnSpPr/>
          <p:nvPr/>
        </p:nvCxnSpPr>
        <p:spPr>
          <a:xfrm rot="10800000">
            <a:off x="3276000" y="3656880"/>
            <a:ext cx="3427920" cy="14677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6320">
            <a:solidFill>
              <a:srgbClr val="ffc000"/>
            </a:solidFill>
            <a:prstDash val="lgDash"/>
            <a:miter/>
          </a:ln>
        </p:spPr>
      </p:cxnSp>
      <p:cxnSp>
        <p:nvCxnSpPr>
          <p:cNvPr id="464" name="Curved Connector 46"/>
          <p:cNvCxnSpPr/>
          <p:nvPr/>
        </p:nvCxnSpPr>
        <p:spPr>
          <a:xfrm rot="5400000">
            <a:off x="5631120" y="2621520"/>
            <a:ext cx="2143800" cy="17769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38160">
            <a:solidFill>
              <a:srgbClr val="ffc000"/>
            </a:solidFill>
            <a:prstDash val="lgDash"/>
            <a:miter/>
          </a:ln>
        </p:spPr>
      </p:cxnSp>
      <p:cxnSp>
        <p:nvCxnSpPr>
          <p:cNvPr id="465" name="Curved Connector 50"/>
          <p:cNvCxnSpPr/>
          <p:nvPr/>
        </p:nvCxnSpPr>
        <p:spPr>
          <a:xfrm flipV="1" rot="16200000">
            <a:off x="4270320" y="2774520"/>
            <a:ext cx="603720" cy="4388040"/>
          </a:xfrm>
          <a:prstGeom prst="curvedConnector5">
            <a:avLst>
              <a:gd name="adj1" fmla="val -37828"/>
              <a:gd name="adj2" fmla="val 28265"/>
              <a:gd name="adj3" fmla="val -37828"/>
            </a:avLst>
          </a:prstGeom>
          <a:ln w="98280">
            <a:solidFill>
              <a:srgbClr val="ffc000"/>
            </a:solidFill>
            <a:prstDash val="lgDash"/>
            <a:miter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28600" y="990360"/>
            <a:ext cx="43401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indicate motion or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0D7C-617B-4E67-A43B-C075D44A95E6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alanc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ct of comparing or estimating two things, one against the other, and the contrast betwe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 (white space) and fill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and no colors and differen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s against fla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611A-0786-4B9A-8EF9-373B789F4709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3" name="Straight Connector 4"/>
          <p:cNvSpPr/>
          <p:nvPr/>
        </p:nvSpPr>
        <p:spPr>
          <a:xfrm>
            <a:off x="685800" y="4495680"/>
            <a:ext cx="8153280" cy="0"/>
          </a:xfrm>
          <a:prstGeom prst="line">
            <a:avLst/>
          </a:prstGeom>
          <a:ln w="38160">
            <a:solidFill>
              <a:srgbClr val="00a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4" name="Isosceles Triangle 5"/>
          <p:cNvSpPr/>
          <p:nvPr/>
        </p:nvSpPr>
        <p:spPr>
          <a:xfrm>
            <a:off x="5545080" y="4529160"/>
            <a:ext cx="1447920" cy="1417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556e2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75" name="Oval 6"/>
          <p:cNvGrpSpPr/>
          <p:nvPr/>
        </p:nvGrpSpPr>
        <p:grpSpPr>
          <a:xfrm>
            <a:off x="652320" y="3913200"/>
            <a:ext cx="640080" cy="639720"/>
            <a:chOff x="652320" y="3913200"/>
            <a:chExt cx="640080" cy="639720"/>
          </a:xfrm>
        </p:grpSpPr>
        <p:pic>
          <p:nvPicPr>
            <p:cNvPr id="476" name="Oval 6" descr=""/>
            <p:cNvPicPr/>
            <p:nvPr/>
          </p:nvPicPr>
          <p:blipFill>
            <a:blip r:embed="rId2"/>
            <a:stretch/>
          </p:blipFill>
          <p:spPr>
            <a:xfrm>
              <a:off x="652320" y="3913200"/>
              <a:ext cx="640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57080" y="4019400"/>
              <a:ext cx="3780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grpSp>
        <p:nvGrpSpPr>
          <p:cNvPr id="478" name="Oval 7"/>
          <p:cNvGrpSpPr/>
          <p:nvPr/>
        </p:nvGrpSpPr>
        <p:grpSpPr>
          <a:xfrm>
            <a:off x="7669080" y="3328920"/>
            <a:ext cx="1249560" cy="1224000"/>
            <a:chOff x="7669080" y="3328920"/>
            <a:chExt cx="1249560" cy="1224000"/>
          </a:xfrm>
        </p:grpSpPr>
        <p:pic>
          <p:nvPicPr>
            <p:cNvPr id="479" name="Oval 7" descr=""/>
            <p:cNvPicPr/>
            <p:nvPr/>
          </p:nvPicPr>
          <p:blipFill>
            <a:blip r:embed="rId3"/>
            <a:stretch/>
          </p:blipFill>
          <p:spPr>
            <a:xfrm>
              <a:off x="7669080" y="3328920"/>
              <a:ext cx="1249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7862760" y="3516480"/>
              <a:ext cx="80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 in compositio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different types of balance when using color, shape, and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2FAD-6F72-4BC8-943A-83210D08CF15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or form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ually identify at least one of three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lines of 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a900"/>
                </a:solidFill>
                <a:latin typeface="Arial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2CB4-51AE-46DE-ACEC-D673912232EB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79000" y="179280"/>
            <a:ext cx="856476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797B-61C4-4FFD-87CC-6475D46D68EC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E8FF-7D68-42A6-8360-F9BE036FD409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a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B249-3CDB-4AEE-904A-F107F99DBDF9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radi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7E9A-0330-4B16-B863-3064E9813781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element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Design elem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building blocks of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840D-3BA7-4DE5-918F-FC880F60D72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124080" y="2209680"/>
            <a:ext cx="5486400" cy="3657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4" name="Straight Connector 9"/>
          <p:cNvSpPr/>
          <p:nvPr/>
        </p:nvSpPr>
        <p:spPr>
          <a:xfrm flipV="1">
            <a:off x="2209680" y="1752120"/>
            <a:ext cx="6248520" cy="284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6200640" y="2666880"/>
            <a:ext cx="2210040" cy="2743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16" name="5-Point Star 11"/>
          <p:cNvGrpSpPr/>
          <p:nvPr/>
        </p:nvGrpSpPr>
        <p:grpSpPr>
          <a:xfrm>
            <a:off x="3889440" y="2895480"/>
            <a:ext cx="3529080" cy="3310200"/>
            <a:chOff x="3889440" y="2895480"/>
            <a:chExt cx="3529080" cy="3310200"/>
          </a:xfrm>
        </p:grpSpPr>
        <p:pic>
          <p:nvPicPr>
            <p:cNvPr id="417" name="5-Point Star 11" descr=""/>
            <p:cNvPicPr/>
            <p:nvPr/>
          </p:nvPicPr>
          <p:blipFill>
            <a:blip r:embed="rId2"/>
            <a:stretch/>
          </p:blipFill>
          <p:spPr>
            <a:xfrm>
              <a:off x="3889440" y="2895480"/>
              <a:ext cx="352908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649200">
              <a:off x="4982760" y="4154040"/>
              <a:ext cx="11448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Unit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990360"/>
            <a:ext cx="43797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correct balance of composition or color that produces a harmonious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ocus of the me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D10C-9012-4542-8464-BBDCDBC9F454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mphasi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mpha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 express with  particular stress or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ssage is stressed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C66F-C1DF-42FE-B94E-F55164579D2F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s of good design is use of design elements and their thoughtful application in the form of design princ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what you are trying to accomplish — use design to convey your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altern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4280-1FD3-4FEC-8BD6-D9A7B17153B5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28240" y="9903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raight or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DF7D-B219-4545-8F91-9A4013AF6D9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definition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word for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hr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tensity or purity of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g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bl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Bright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quantity of light r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er's e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9827-A229-482B-9E29-E150FC3C05F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1"/>
          <a:stretch/>
        </p:blipFill>
        <p:spPr>
          <a:xfrm>
            <a:off x="5091120" y="1828800"/>
            <a:ext cx="350676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lor and contras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990360"/>
            <a:ext cx="420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lor can enhance or detract from a composition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lighthouse.org/color_contras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wheels help determine which colors are in greatest cont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34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obe Kuler to try out new color sche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kuler.adob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4A18-C6BD-4864-A80F-BECB5F64F07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wheel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28600" y="990360"/>
            <a:ext cx="4348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Analogous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djacent to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omplementary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posite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D6EF-6090-4F56-AD61-62F2F3F96B9C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in 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label or show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represent or imitate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unify, separate, or empha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deco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2DF0-E227-4687-A58E-74035C3E8025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4194000" y="2743200"/>
            <a:ext cx="44564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hap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8600" y="99036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enclosed objects that can be created by line or created by color and value changes that define their ed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7049-C698-4BB7-8FD8-4A27F33AC178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42" name="Picture 5" descr="sample_dolphin_outline"/>
          <p:cNvPicPr/>
          <p:nvPr/>
        </p:nvPicPr>
        <p:blipFill>
          <a:blip r:embed="rId1"/>
          <a:stretch/>
        </p:blipFill>
        <p:spPr>
          <a:xfrm>
            <a:off x="4419720" y="1981080"/>
            <a:ext cx="43052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ex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urface look of an object created by varying dark and light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99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92A2-F701-42F3-ABED-72EAB9477069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46" name="Oval 1"/>
          <p:cNvGrpSpPr/>
          <p:nvPr/>
        </p:nvGrpSpPr>
        <p:grpSpPr>
          <a:xfrm>
            <a:off x="3932280" y="2255760"/>
            <a:ext cx="4352760" cy="2955960"/>
            <a:chOff x="3932280" y="2255760"/>
            <a:chExt cx="4352760" cy="2955960"/>
          </a:xfrm>
        </p:grpSpPr>
        <p:pic>
          <p:nvPicPr>
            <p:cNvPr id="447" name="Oval 1" descr=""/>
            <p:cNvPicPr/>
            <p:nvPr/>
          </p:nvPicPr>
          <p:blipFill>
            <a:blip r:embed="rId1"/>
            <a:stretch/>
          </p:blipFill>
          <p:spPr>
            <a:xfrm>
              <a:off x="3932280" y="2255760"/>
              <a:ext cx="4352760" cy="29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91080" y="2709720"/>
              <a:ext cx="3038400" cy="20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5:30:29Z</dcterms:modified>
  <cp:revision>133</cp:revision>
  <dc:subject/>
  <dc:title>INTRODUCTION TO DESIGN MOVEMENT, BALANCE, UNITY, CONTRAST, EMPHASIS, LINE, AND COLOR</dc:title>
</cp:coreProperties>
</file>