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7B94-8D1A-4DA3-BAF3-B0865692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2493-F77A-42EF-B104-671C5E44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36A0-F279-4316-A478-7452C4A7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28E1-4025-42A1-87DD-6DFDD250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45F7-B2FC-4F23-B516-24F9D48A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EF7D-E7E7-4C4F-B0F6-5581BD33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0F8C-5F15-4796-9F7C-251F43F3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748B-CCE6-45A9-96A6-4D8BC73F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C06D-07D7-4554-9B2D-CC6E7380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C295-955E-4D1B-A613-6FF54FB8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6643-5DF2-4569-B402-E591C907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793F-7D35-49EA-ABC8-8D869D4E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A05D-C049-435E-A9FB-530927CB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96DF-8C68-4091-970F-367CCCA2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04F8-2655-4AED-9866-A544C667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128D-6BB4-4535-8296-A37C53E1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F742-F8A0-4C37-811A-9E1FE92E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6CADC-95AB-49B8-AE47-5C3FEF58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DB04A-ACDA-465C-ADFD-1B4CE478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AFF45-96B9-430B-A71F-B433F1C6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B9FA7-2CCA-46C3-82F7-0ABCA4F4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4197A-2C20-48ED-B7A7-412CA206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9A67-0F3D-4307-97F4-6BF8E963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EA1A2-80FA-4793-AC00-0DE3FA63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2E2FA-8F71-482A-9411-A4A88A92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25EBF-0156-4853-BF2C-E8012C63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063B5-291D-4823-955A-D784ED96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15B18-09F1-40D3-ACE5-C7E65E5C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5E9FA-E2C0-4231-9A45-407A5A01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C9BED-289D-4B82-8C03-12DDB7EF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6C6B1-DEDD-42AC-8432-F18652A9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8ECCB-1145-4F91-88C8-3608E6CA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A20C7-DD69-4707-B114-A1CBB4F5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7E00-7A21-4737-B0AF-2B825B41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1E2C1-DF70-413F-B7D4-579CE637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4B387-768D-491E-9262-4FA1FFDD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F48EE-C077-4570-BCD0-5033EF25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06F47-C47A-4892-BA96-0E72C06B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5525F-7105-4FE5-9B43-7859F25F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D0C90-1687-45F0-A6AA-6C669697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A76D1-EC50-4555-8948-D41B72B2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5D20E-001A-40EE-89C8-C5DB5084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039D6-E8D4-46D6-BB1D-1F4BD716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16D6-9B82-4987-A81E-DF7A8799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60A5-03C4-40FA-8B5B-A6E4D20D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41C9-9688-4D50-913A-C16318DE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2A2E-ED23-4DA0-A8BD-A8E3FC63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9C7F-43A4-4F87-92A2-F1B45658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6808-55F4-4BBB-B922-314EAE11247D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8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383F-8A8E-4B8F-ACA4-4CD7FF4CEB4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3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BD91-D01B-4778-A1DF-EE597B4B8FD5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68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69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1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2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78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CE67-906C-4171-9D7F-D2EEC0EC011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tle 2"/>
          <p:cNvSpPr/>
          <p:nvPr/>
        </p:nvSpPr>
        <p:spPr>
          <a:xfrm>
            <a:off x="392040" y="5133240"/>
            <a:ext cx="78152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ARNING THE LANGUAGE OF THE WEB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1" name="Text Placeholder 3"/>
          <p:cNvSpPr/>
          <p:nvPr/>
        </p:nvSpPr>
        <p:spPr>
          <a:xfrm>
            <a:off x="284040" y="4251240"/>
            <a:ext cx="78152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INTRODUCTION TO HTML AND CSS</a:t>
            </a:r>
            <a:endParaRPr b="0" lang="en-US" sz="3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What is HTML?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600" y="99036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stand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68120"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per</a:t>
            </a: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68120"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68120"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rkup language, HTML elements are the building blocks of web p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elements use tags to structure con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EBAD-16B0-4ADE-9470-E403C326B346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5" name="Group 6"/>
          <p:cNvGrpSpPr/>
          <p:nvPr/>
        </p:nvGrpSpPr>
        <p:grpSpPr>
          <a:xfrm>
            <a:off x="4843440" y="1523880"/>
            <a:ext cx="3892680" cy="1897200"/>
            <a:chOff x="4843440" y="1523880"/>
            <a:chExt cx="3892680" cy="1897200"/>
          </a:xfrm>
        </p:grpSpPr>
        <p:pic>
          <p:nvPicPr>
            <p:cNvPr id="226" name="Picture 15" descr="C:\Users\Jacques\AppData\Local\Temp\SNAGHTML14496448.PNG"/>
            <p:cNvPicPr/>
            <p:nvPr/>
          </p:nvPicPr>
          <p:blipFill>
            <a:blip r:embed="rId1"/>
            <a:stretch/>
          </p:blipFill>
          <p:spPr>
            <a:xfrm>
              <a:off x="4843440" y="1523880"/>
              <a:ext cx="3892680" cy="18972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</p:pic>
        <p:sp>
          <p:nvSpPr>
            <p:cNvPr id="227" name="Straight Connector 5"/>
            <p:cNvSpPr/>
            <p:nvPr/>
          </p:nvSpPr>
          <p:spPr>
            <a:xfrm>
              <a:off x="5306400" y="2286360"/>
              <a:ext cx="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pic>
        <p:nvPicPr>
          <p:cNvPr id="228" name="Picture 11" descr="C:\Users\Jacques\AppData\Local\Temp\SNAGHTML138fd9c1.PNG"/>
          <p:cNvPicPr/>
          <p:nvPr/>
        </p:nvPicPr>
        <p:blipFill>
          <a:blip r:embed="rId2"/>
          <a:stretch/>
        </p:blipFill>
        <p:spPr>
          <a:xfrm>
            <a:off x="4506840" y="3355920"/>
            <a:ext cx="3957840" cy="2054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ag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8240" y="9903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elements consist of ta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are enclosed by angle brackets,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ike this: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usually come in pairs,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ike this: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&lt;title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h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ve a start (or opening) and end (or clos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re not displayed in a web brow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nterpret how to display content 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the ta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EF07-B963-4AE6-84FC-28A08C87109E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876920" y="1143000"/>
            <a:ext cx="3886200" cy="449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tml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ead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title&gt;&lt;/title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/head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body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1&gt;&lt;/h1&gt;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p&gt;&lt;/p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/body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/html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ag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tml&gt;&lt;/html&gt;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the web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ead&gt;&lt;/head&gt;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the hea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body&gt;&lt;/body&gt;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visible page con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mon formatting ta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h1&gt;&lt;/h1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displays a heading, ranging from size 1 (biggest) to 6 (smalles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p&gt;&lt;/p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formats text as a para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strong&gt;&lt;/strong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bolds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em&gt;&lt;/em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mphasizes text, displays as ital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br&gt;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reates a line bre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a href="http://www.example.com"&gt;&lt;/a&gt;</a:t>
            </a:r>
            <a:r>
              <a:rPr b="1" lang="en-CA" sz="1700" spc="-1" strike="noStrike">
                <a:solidFill>
                  <a:srgbClr val="000000"/>
                </a:solidFill>
                <a:latin typeface="Myriad Pro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reates a link to a web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BFEE-0513-4B49-B712-FA780F250945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S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28240" y="990360"/>
            <a:ext cx="407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S stand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b034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c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b034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b034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the “look and feel” of HTML elements on a web p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separate document content (HTML) from document presentation (CS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s presentation elements such as layout, colors, and fo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F8BC-3578-4780-A4DE-D59E547609C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39" name="Group 9"/>
          <p:cNvGrpSpPr/>
          <p:nvPr/>
        </p:nvGrpSpPr>
        <p:grpSpPr>
          <a:xfrm>
            <a:off x="4686480" y="1143000"/>
            <a:ext cx="4076640" cy="3124080"/>
            <a:chOff x="4686480" y="1143000"/>
            <a:chExt cx="4076640" cy="3124080"/>
          </a:xfrm>
        </p:grpSpPr>
        <p:pic>
          <p:nvPicPr>
            <p:cNvPr id="240" name="Picture 21" descr="C:\Users\Jacques\AppData\Local\Temp\SNAGHTML144d32dc.PNG"/>
            <p:cNvPicPr/>
            <p:nvPr/>
          </p:nvPicPr>
          <p:blipFill>
            <a:blip r:embed="rId1"/>
            <a:stretch/>
          </p:blipFill>
          <p:spPr>
            <a:xfrm>
              <a:off x="4686480" y="1143000"/>
              <a:ext cx="4076640" cy="31240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</p:pic>
        <p:sp>
          <p:nvSpPr>
            <p:cNvPr id="241" name="Rectangle 8"/>
            <p:cNvSpPr/>
            <p:nvPr/>
          </p:nvSpPr>
          <p:spPr>
            <a:xfrm>
              <a:off x="7148880" y="3581280"/>
              <a:ext cx="1522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pic>
        <p:nvPicPr>
          <p:cNvPr id="242" name="Picture 8" descr="C:\Users\Jacques\AppData\Local\Temp\SNAGHTML13db1156.PNG"/>
          <p:cNvPicPr/>
          <p:nvPr/>
        </p:nvPicPr>
        <p:blipFill>
          <a:blip r:embed="rId2"/>
          <a:stretch/>
        </p:blipFill>
        <p:spPr>
          <a:xfrm>
            <a:off x="4419720" y="4191120"/>
            <a:ext cx="3492360" cy="1812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1000"/>
              </a:srgbClr>
            </a:outerShdw>
          </a:effectLst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S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yle sheet contains a list of rules about how elements appear on a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s of a selector and a declaration blo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00ff"/>
                </a:solidFill>
                <a:latin typeface="Arial"/>
              </a:rPr>
              <a:t>Selectors</a:t>
            </a:r>
            <a:r>
              <a:rPr b="0" lang="en-CA" sz="1800" spc="-1" strike="noStrike">
                <a:solidFill>
                  <a:srgbClr val="8348b5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ell which markup elements the style applies 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declaration block is a list of </a:t>
            </a:r>
            <a:r>
              <a:rPr b="0" lang="en-CA" sz="1800" spc="-1" strike="noStrike">
                <a:solidFill>
                  <a:srgbClr val="000099"/>
                </a:solidFill>
                <a:latin typeface="Arial"/>
              </a:rPr>
              <a:t>property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CA" sz="1800" spc="-1" strike="noStrike">
                <a:solidFill>
                  <a:srgbClr val="00b0f0"/>
                </a:solidFill>
                <a:latin typeface="Arial"/>
              </a:rPr>
              <a:t>value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pairs that define the sty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embedded inside the HTML or linked as a separate doc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0274-9552-4813-936E-C62B9C005584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80880" y="3629160"/>
            <a:ext cx="6400800" cy="259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h1 {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font-family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Verdana, Geneva, sans-serif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font-size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24px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font-weight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bold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text-transform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uppercase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color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#C00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47" name="Picture 1" descr=""/>
          <p:cNvPicPr/>
          <p:nvPr/>
        </p:nvPicPr>
        <p:blipFill>
          <a:blip r:embed="rId1"/>
          <a:stretch/>
        </p:blipFill>
        <p:spPr>
          <a:xfrm>
            <a:off x="4602240" y="4667400"/>
            <a:ext cx="4133880" cy="1552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dadde0">
                <a:alpha val="58000"/>
              </a:srgbClr>
            </a:outerShdw>
          </a:effectLst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volution of HTML and CS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28240" y="990360"/>
            <a:ext cx="56307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HTML and CSS are a collection of web standa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HTML and CSS are a set of best practices for building web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HTML and CSS are constantly evolv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HTML5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is the fifth iteration of HTML and </a:t>
            </a: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adds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tags to support </a:t>
            </a:r>
            <a:r>
              <a:rPr b="0" lang="en-CA" sz="1800" spc="-1" strike="noStrike">
                <a:solidFill>
                  <a:srgbClr val="fbb034"/>
                </a:solidFill>
                <a:latin typeface="Myriad Pro"/>
              </a:rPr>
              <a:t>multimedia elements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and </a:t>
            </a:r>
            <a:r>
              <a:rPr b="0" lang="en-CA" sz="1800" spc="-1" strike="noStrike">
                <a:solidFill>
                  <a:srgbClr val="fbb034"/>
                </a:solidFill>
                <a:latin typeface="Myriad Pro"/>
              </a:rPr>
              <a:t>dynamic graphics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in modern web brows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CSS3</a:t>
            </a:r>
            <a:r>
              <a:rPr b="0" lang="en-US" sz="1800" spc="-1" strike="noStrike">
                <a:solidFill>
                  <a:srgbClr val="c00000"/>
                </a:solidFill>
                <a:latin typeface="Myriad Pro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defines a new set of modular rules for how HTML content will be presented within the web brow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79E9-EB48-454F-AA86-7D842368F406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51" name="Picture 7" descr="C:\Users\Jacques\Desktop\HTML5_Logo_512.png"/>
          <p:cNvPicPr/>
          <p:nvPr/>
        </p:nvPicPr>
        <p:blipFill>
          <a:blip r:embed="rId1"/>
          <a:stretch/>
        </p:blipFill>
        <p:spPr>
          <a:xfrm>
            <a:off x="6207120" y="1281240"/>
            <a:ext cx="2556000" cy="35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HTML5 best practic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HTML5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!doctype html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ell a browser how to trans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meta charset="utf-8"&gt;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ell a browser the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haracter-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se semantic markup tags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article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section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eader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nav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and others to bring a higher level of structural meaning to 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ign and test content across a range of browsers and devices that support HTML5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DA42-97F6-4823-BEF9-640C7D51E66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55" name="Picture 1" descr="C:\Users\Jacques\Desktop\fig04.png"/>
          <p:cNvPicPr/>
          <p:nvPr/>
        </p:nvPicPr>
        <p:blipFill>
          <a:blip r:embed="rId1"/>
          <a:stretch/>
        </p:blipFill>
        <p:spPr>
          <a:xfrm>
            <a:off x="1515960" y="3809880"/>
            <a:ext cx="6112080" cy="234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3:48:30Z</dcterms:created>
  <dc:creator>Matt Niemitz</dc:creator>
  <dc:description/>
  <dc:language>en-US</dc:language>
  <cp:lastModifiedBy>Matt Niemitz</cp:lastModifiedBy>
  <dcterms:modified xsi:type="dcterms:W3CDTF">2012-04-23T00:33:55Z</dcterms:modified>
  <cp:revision>5</cp:revision>
  <dc:subject/>
  <dc:title>PowerPoint Presentation</dc:title>
</cp:coreProperties>
</file>