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324A-2908-4E80-8E98-E91593ED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DAD-4EDF-48C9-8ECC-3CE8A686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EF3-6343-440F-A4A9-D4CCA2B9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B33-BCA5-4EBB-83B8-4D01F674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B2A7-7415-49D3-86EC-BC52CF44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6FE6-40B7-4C8D-B1B5-99B6D5D9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5388-D7EE-4CE8-AA85-EFF458B3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6485-1C81-4EAD-82C5-C4EF1651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101D-8AD4-4E37-822E-C10D0E72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9F14-AAAE-4515-8D1E-77580C26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F190-7FAB-4E20-B110-0B9EF21A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612D-A53D-4E78-B353-D30977B3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F914-6FD5-498E-864F-D6AAD12C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ED3F-7327-406C-A438-125A2246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0BB2-12F6-4C4C-9B95-1CD9CB45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8C58-E3CB-447C-8EAA-E256ADEF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7EDA-6EE8-4551-91EB-AED334E4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850BB-1340-4C1F-A3B4-282B4FFC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D68A4-4956-4092-A0BC-558C67B8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E7CDD-0CAA-477B-A7CB-BFAA3BD8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361B9-EA42-4AAD-971B-0F68C02A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2C1FC-95FA-4BDB-BBAF-D975C95B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D91-CC7A-4389-A9D3-5E12D3D0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449D3-C707-4A1F-8474-1BD85B60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78C7C-E2E4-4BC9-8ED0-4746EADD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DB856-19E0-4829-A32A-8A49D5E6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827A6-8EDD-4EB0-8008-A4A434A6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2EC07-FD99-41D3-A96E-0CD3B2CD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37763-7C95-473B-A294-47F774B8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CE123-3BBC-4684-8072-6576D4D6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F2AB3-C774-4DA6-A647-56687938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C7944-0A76-456B-9214-3B9EEEE1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7F597-024B-421E-88A2-3D1CBC43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6CE-89C0-4317-8D18-C8FBBE45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05115-CC26-4613-8A8D-E27FC56C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4EEA3-3EE9-452C-AEDA-46F8C6AD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1086B-52AA-4976-8FE8-81A1A062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21972-8609-45EB-A7A1-13C32096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D723C-FBA3-40E5-A94B-68D982CF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A5436-3306-4060-ADDF-A837DADD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8AF04-079E-4C04-9BCB-F8FFED6E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B818A-6492-4E3A-A0D7-273B8067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385B9-9E22-4759-9169-D110518F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867-0B14-4B9F-A7E6-D0FD78B0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F135-288E-4D35-A3C8-90CDEBAF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49F-49C6-46FD-87CF-67408863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67C9-B0C6-47BC-BF6F-56F8C59B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B9C-2BD8-4DBA-B011-C224541A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2226-B144-41A6-BACE-EFB1C66C1A5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838F-CA1F-46FC-8972-03C3D252F6F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3F08-F6E5-4EEC-BDDC-B528899D684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C77F-D5E0-4A7D-B00F-9393B827524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2"/>
          <p:cNvSpPr/>
          <p:nvPr/>
        </p:nvSpPr>
        <p:spPr>
          <a:xfrm>
            <a:off x="392040" y="5133240"/>
            <a:ext cx="78152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ARNING THE LANGUAGE OF THE WEB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Text Placeholder 3"/>
          <p:cNvSpPr/>
          <p:nvPr/>
        </p:nvSpPr>
        <p:spPr>
          <a:xfrm>
            <a:off x="284040" y="4251240"/>
            <a:ext cx="78152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INTRODUCTION TO HTML AND CSS</a:t>
            </a:r>
            <a:endParaRPr b="0" lang="en-US" sz="3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What is HTML?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600" y="9903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stand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per</a:t>
            </a: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rkup language, HTML elements are the building blocks of web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elements use tags to structur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A8A3-7E03-43D6-93DA-6A554B1C690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4843440" y="1523880"/>
            <a:ext cx="3892680" cy="1897200"/>
            <a:chOff x="4843440" y="1523880"/>
            <a:chExt cx="3892680" cy="1897200"/>
          </a:xfrm>
        </p:grpSpPr>
        <p:pic>
          <p:nvPicPr>
            <p:cNvPr id="226" name="Picture 15" descr="C:\Users\Jacques\AppData\Local\Temp\SNAGHTML14496448.PNG"/>
            <p:cNvPicPr/>
            <p:nvPr/>
          </p:nvPicPr>
          <p:blipFill>
            <a:blip r:embed="rId1"/>
            <a:stretch/>
          </p:blipFill>
          <p:spPr>
            <a:xfrm>
              <a:off x="4843440" y="1523880"/>
              <a:ext cx="3892680" cy="189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</p:pic>
        <p:sp>
          <p:nvSpPr>
            <p:cNvPr id="227" name="Straight Connector 5"/>
            <p:cNvSpPr/>
            <p:nvPr/>
          </p:nvSpPr>
          <p:spPr>
            <a:xfrm>
              <a:off x="5306400" y="2286360"/>
              <a:ext cx="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pic>
        <p:nvPicPr>
          <p:cNvPr id="228" name="Picture 11" descr="C:\Users\Jacques\AppData\Local\Temp\SNAGHTML138fd9c1.PNG"/>
          <p:cNvPicPr/>
          <p:nvPr/>
        </p:nvPicPr>
        <p:blipFill>
          <a:blip r:embed="rId2"/>
          <a:stretch/>
        </p:blipFill>
        <p:spPr>
          <a:xfrm>
            <a:off x="4506840" y="3355920"/>
            <a:ext cx="3957840" cy="2054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ag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240" y="9903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elements consist of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are enclosed by angle brackets,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ke this: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usually come in pairs,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ke this: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title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ve a start (or opening) and end (or clos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re not displayed in a web brow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nterpret how to display content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the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F294-C5E8-487C-BDC7-2B77B6D2AA1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876920" y="1143000"/>
            <a:ext cx="3886200" cy="44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tml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title&gt;&lt;/title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head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body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1&gt;&lt;/h1&gt;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p&gt;&lt;/p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body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html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ag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tml&gt;&lt;/html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web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&gt;&lt;/head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body&gt;&lt;/body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visible pag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on formatting t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h1&gt;&lt;/h1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isplays a heading, ranging from size 1 (biggest) to 6 (smalles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p&gt;&lt;/p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ormats text as a para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strong&gt;&lt;/strong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olds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em&gt;&lt;/em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mphasizes text, displays as ital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br&gt;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ates a line br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a href="http://www.example.com"&gt;&lt;/a&gt;</a:t>
            </a:r>
            <a:r>
              <a:rPr b="1" lang="en-CA" sz="17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ates a link to a web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14F8-9ED5-44A9-84C5-E7CB24AA9ECA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240" y="990360"/>
            <a:ext cx="407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S stand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c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“look and feel” of HTML elements on a web 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separate document content (HTML) from document presentation (C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s presentation elements such as layout, colors, and fo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B094-0E6E-409E-B034-10C5898E903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39" name="Group 9"/>
          <p:cNvGrpSpPr/>
          <p:nvPr/>
        </p:nvGrpSpPr>
        <p:grpSpPr>
          <a:xfrm>
            <a:off x="4686480" y="1143000"/>
            <a:ext cx="4076640" cy="3124080"/>
            <a:chOff x="4686480" y="1143000"/>
            <a:chExt cx="4076640" cy="3124080"/>
          </a:xfrm>
        </p:grpSpPr>
        <p:pic>
          <p:nvPicPr>
            <p:cNvPr id="240" name="Picture 21" descr="C:\Users\Jacques\AppData\Local\Temp\SNAGHTML144d32dc.PNG"/>
            <p:cNvPicPr/>
            <p:nvPr/>
          </p:nvPicPr>
          <p:blipFill>
            <a:blip r:embed="rId1"/>
            <a:stretch/>
          </p:blipFill>
          <p:spPr>
            <a:xfrm>
              <a:off x="4686480" y="1143000"/>
              <a:ext cx="4076640" cy="31240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</p:pic>
        <p:sp>
          <p:nvSpPr>
            <p:cNvPr id="241" name="Rectangle 8"/>
            <p:cNvSpPr/>
            <p:nvPr/>
          </p:nvSpPr>
          <p:spPr>
            <a:xfrm>
              <a:off x="7148880" y="3581280"/>
              <a:ext cx="152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pic>
        <p:nvPicPr>
          <p:cNvPr id="242" name="Picture 8" descr="C:\Users\Jacques\AppData\Local\Temp\SNAGHTML13db1156.PNG"/>
          <p:cNvPicPr/>
          <p:nvPr/>
        </p:nvPicPr>
        <p:blipFill>
          <a:blip r:embed="rId2"/>
          <a:stretch/>
        </p:blipFill>
        <p:spPr>
          <a:xfrm>
            <a:off x="4419720" y="4191120"/>
            <a:ext cx="3492360" cy="1812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1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yle sheet contains a list of rules about how elements appear on a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s of a selector and a declaration bl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ff"/>
                </a:solidFill>
                <a:latin typeface="Arial"/>
              </a:rPr>
              <a:t>Selectors</a:t>
            </a:r>
            <a:r>
              <a:rPr b="0" lang="en-CA" sz="1800" spc="-1" strike="noStrike">
                <a:solidFill>
                  <a:srgbClr val="8348b5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ell which markup elements the style applies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declaration block is a list of </a:t>
            </a:r>
            <a:r>
              <a:rPr b="0" lang="en-CA" sz="1800" spc="-1" strike="noStrike">
                <a:solidFill>
                  <a:srgbClr val="000099"/>
                </a:solidFill>
                <a:latin typeface="Arial"/>
              </a:rPr>
              <a:t>property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1800" spc="-1" strike="noStrike">
                <a:solidFill>
                  <a:srgbClr val="00b0f0"/>
                </a:solidFill>
                <a:latin typeface="Arial"/>
              </a:rPr>
              <a:t>valu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pairs that define the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embedded inside the HTML or linked as a separate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830C-D9DB-4B61-9CCC-2006F3AEAF2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80880" y="3629160"/>
            <a:ext cx="6400800" cy="259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h1 {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family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Verdana, Geneva, sans-serif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size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24px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weight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bold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text-transform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uppercase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color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#C00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7" name="Picture 1" descr=""/>
          <p:cNvPicPr/>
          <p:nvPr/>
        </p:nvPicPr>
        <p:blipFill>
          <a:blip r:embed="rId1"/>
          <a:stretch/>
        </p:blipFill>
        <p:spPr>
          <a:xfrm>
            <a:off x="4602240" y="4667400"/>
            <a:ext cx="4133880" cy="1552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adde0">
                <a:alpha val="58000"/>
              </a:srgbClr>
            </a:outerShdw>
          </a:effectLst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volution of HTML and 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240" y="990360"/>
            <a:ext cx="5630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a collection of web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a set of best practices for building web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constantly evolv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HTML5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is the fifth iteration of HTML and </a:t>
            </a: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add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tags to support </a:t>
            </a:r>
            <a:r>
              <a:rPr b="0" lang="en-CA" sz="1800" spc="-1" strike="noStrike">
                <a:solidFill>
                  <a:srgbClr val="fbb034"/>
                </a:solidFill>
                <a:latin typeface="Myriad Pro"/>
              </a:rPr>
              <a:t>multimedia element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and </a:t>
            </a:r>
            <a:r>
              <a:rPr b="0" lang="en-CA" sz="1800" spc="-1" strike="noStrike">
                <a:solidFill>
                  <a:srgbClr val="fbb034"/>
                </a:solidFill>
                <a:latin typeface="Myriad Pro"/>
              </a:rPr>
              <a:t>dynamic graphic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in modern web brows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CSS3</a:t>
            </a:r>
            <a:r>
              <a:rPr b="0" lang="en-US" sz="1800" spc="-1" strike="noStrike">
                <a:solidFill>
                  <a:srgbClr val="c00000"/>
                </a:solidFill>
                <a:latin typeface="Myriad Pro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defines a new set of modular rules for how HTML content will be presented within the web brow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28C2-025C-4D0B-8C9E-1AB747FC869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1" name="Picture 7" descr="C:\Users\Jacques\Desktop\HTML5_Logo_512.png"/>
          <p:cNvPicPr/>
          <p:nvPr/>
        </p:nvPicPr>
        <p:blipFill>
          <a:blip r:embed="rId1"/>
          <a:stretch/>
        </p:blipFill>
        <p:spPr>
          <a:xfrm>
            <a:off x="6207120" y="1281240"/>
            <a:ext cx="2556000" cy="35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HTML5 best practic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HTML5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!doctype html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ell a browser how to trans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meta charset="utf-8"&gt;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ell a browser th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haracter-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semantic markup tags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article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section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er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nav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others to bring a higher level of structural meaning to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ign and test content across a range of browsers and devices that support HTML5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EBF4-AEDE-42E2-8624-016982DFD01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5" name="Picture 1" descr="C:\Users\Jacques\Desktop\fig04.png"/>
          <p:cNvPicPr/>
          <p:nvPr/>
        </p:nvPicPr>
        <p:blipFill>
          <a:blip r:embed="rId1"/>
          <a:stretch/>
        </p:blipFill>
        <p:spPr>
          <a:xfrm>
            <a:off x="1515960" y="3809880"/>
            <a:ext cx="6112080" cy="23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3:48:30Z</dcterms:created>
  <dc:creator>Matt Niemitz</dc:creator>
  <dc:description/>
  <dc:language>en-US</dc:language>
  <cp:lastModifiedBy>Matt Niemitz</cp:lastModifiedBy>
  <dcterms:modified xsi:type="dcterms:W3CDTF">2012-04-23T00:33:55Z</dcterms:modified>
  <cp:revision>5</cp:revision>
  <dc:subject/>
  <dc:title>PowerPoint Presentation</dc:title>
</cp:coreProperties>
</file>