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5EA4-1DBC-4327-B494-2DEC316FF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mportant initial questions inform the way you structure content and information. You must create the information architecture of your site with your audience in m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2C25-A418-424B-AD52-1AFA7ED70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site’s structure is composed of the categories and logical groups you just created. A site map serves as a bird’s-eye view of the project that enables you to see how the site is organized and how users will view the site’s content and information. The site map becomes a blueprint that shapes the structure of the site during the development process. The site map should show main areas of content and represent all the pages within each s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FDC7-D058-48C7-9B29-BEF5C11DA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962-2FDF-4951-BD41-49D942AD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215-6C80-438E-98A0-C8AC1180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E99-BE5E-4664-9044-2F348DA6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3DD-0CEA-4D5B-BE6E-1FEEBF48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C116-197F-4632-9112-8BAB9380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5007-7427-4363-AEE2-3D787B0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BA10-9087-4739-98FD-9B7B92D9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E12D-D05E-46E7-BEA6-6E5C57E1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0667-1F6F-4235-B4B6-A7888A78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B95D-BD5F-4B46-BBD5-39F733BD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60CB-9AB4-4348-8393-F281818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B05-D0C5-4452-83E7-07610EEF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EF1A-C1F7-4851-9A9E-AF904132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EC16-FD8E-4C3E-AF9B-B5B90AAB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339A-C3D9-462C-9FB2-605AECBF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1F71-5B3E-47ED-BF87-A50A2E73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37FE-5A89-4599-A29F-4E192F05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7883-4B14-41CD-813E-25242D0D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D6B7-A7D4-4D33-AB16-63A17DD4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7AB27-4282-4A03-8551-AD237D8D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1D27-AC7C-40E2-8EE4-EF506297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AA65-31FB-44CF-8128-787FFE17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8A9-58E8-43AE-A7AD-A9A62AE9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F4B2-2564-4154-AF48-2A1FA8BE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742B-EE55-47F3-8262-46B17665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E23D-770D-4DB0-A781-9244FDC3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BD30-C995-4364-B244-6833D11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DF5C-992C-41D3-864D-0E7D53A1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F171-74ED-4086-9AEA-1E581364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0A3B-BFC9-4B9E-84DA-31D5F9B8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052A-0E2E-4899-92AC-287A901C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7D1E6-BA92-4CF9-92F1-20C6A5FD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1218-E693-41D0-8CD4-DA36E3ED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156-64FE-442F-A183-4692DD7B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3077-0D65-4767-A7DB-D7112F76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2592F-B97B-4232-A000-651B07CA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A7097-1D09-4B2F-981E-645028D7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88B8-10E0-4183-B2F8-94006A9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B856-754F-4470-9040-25A37A4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0709-FB3F-4654-84FA-BEE2E65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4D04D-E180-4A7D-AA6A-36A194BF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CB53-3CC8-47CF-B2F2-F183DEEB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BAD9E-DD2B-4319-95C1-8D4A7F37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851-E7D5-4761-8A34-5C1D9C8A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0AE-B779-48BE-A7E2-69AB4EF0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75EC-0A91-4391-A66A-AB44DDF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3BE-AB9D-4705-B8B5-232D1851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F71-BC94-46E5-9FA4-6954571E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5A0C-B83D-439A-8678-7DE69A1BB57C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6553-DA37-46F1-8DEE-EC35BE346C0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1BDC-1052-4BF6-9402-EFEB386DA3F7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Arial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97AF-10AF-453D-8C3C-2ABB1BE5C44F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468360" y="6689160"/>
            <a:ext cx="2580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284360"/>
            <a:ext cx="781524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ORMATION ARCHITECTURE</a:t>
            </a:r>
            <a:endParaRPr b="0" lang="en-US" sz="3600" spc="-1" strike="noStrike">
              <a:solidFill>
                <a:srgbClr val="dadde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is a method to add organization and support usability of a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rchitecture helps improve discoverability, efficiency, satisfaction, consistency, and overall usability of a web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te map and a clear navigation are the key components of an information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7F81-CC20-4464-A6BB-6AFDDA5FD55D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What is information architecture?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what users are looking for and allowing easy access to content and information is the overall goal. It’s all about ensuring that users can get what they came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s of information archite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 and label a website structure to support us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users to the content and organize information intui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print the site from a functional perspective to communicate easily with a client and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architecture step usually falls within the structure phase of web project production, before you create wireframes, design comps, and proto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186C-84F5-444B-A19A-AD3BB53F0002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formation architecture best practice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the needs of the audience a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 clear purpose for th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ntory and assemble sit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 site content into logica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it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aviga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E5C7-EBE6-48AB-8B41-880B1E7449D4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onsider your audienc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you create an information architecture for your website, consider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target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user are you trying to attract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7C7C-83E8-4731-B1D9-E7128B1F551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dentify website purpose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keep the goals in mind while you’re creating the information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goals of the websit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attract viewers to the web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purpose of the website influence the information architect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22F0-3A1B-4561-9630-F8D7FBEB70AE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Inventory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you plan to use on your website influences the information architecture. Consider the following 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alread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tent do you need to cre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audi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the content help accomplish the goals of the s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ntent suitable for the site’s target screens and devi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CFD7-C327-4C48-8810-5B882422F3D8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Assemble content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and structure are intertwin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ing content into logical groups help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clear and consistent site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the task of defining the information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6594-F69E-440E-973C-297EBB19AD09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Create a site map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2629-BB26-4096-A56F-BD7382806A20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1909800" y="1022400"/>
            <a:ext cx="5268960" cy="52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rial"/>
              </a:rPr>
              <a:t>Design navigation systems</a:t>
            </a:r>
            <a:endParaRPr b="0" lang="en-US" sz="2400" spc="-1" strike="noStrike">
              <a:solidFill>
                <a:srgbClr val="dadde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helps connect users with the content on your site. Navigation helps us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y oriented to where they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where they need to 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get back to where they came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o use familiar visual cues and navigational aids as users move from page to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navigation also helps your website maintain consist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E525-1156-4112-82A0-E3EB9FB9634A}" type="slidenum"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2-04-20T17:08:38Z</dcterms:modified>
  <cp:revision>9</cp:revision>
  <dc:subject/>
  <dc:title>INTRODUCTION TO DESIGN MOVEMENT, BALANCE, UNITY, CONTRAST, EMPHASIS, LINE, AND COLOR</dc:title>
</cp:coreProperties>
</file>